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5.png" ContentType="image/png"/>
  <Override PartName="/ppt/media/image11.jpeg" ContentType="image/jpeg"/>
  <Override PartName="/ppt/media/image9.jpeg" ContentType="image/jpeg"/>
  <Override PartName="/ppt/media/image20.jpeg" ContentType="image/jpeg"/>
  <Override PartName="/ppt/media/image17.wmf" ContentType="image/x-wmf"/>
  <Override PartName="/ppt/media/image15.jpeg" ContentType="image/jpeg"/>
  <Override PartName="/ppt/media/image19.jpeg" ContentType="image/jpeg"/>
  <Override PartName="/ppt/media/image7.png" ContentType="image/png"/>
  <Override PartName="/ppt/media/image1.jpeg" ContentType="image/jpeg"/>
  <Override PartName="/ppt/media/image18.wmf" ContentType="image/x-wmf"/>
  <Override PartName="/ppt/media/image16.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6.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1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3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move the slide</a:t>
            </a:r>
            <a:endParaRPr b="0" lang="en-US" sz="3300" spc="-1" strike="noStrike">
              <a:solidFill>
                <a:srgbClr val="ffffff"/>
              </a:solidFill>
              <a:latin typeface="Calibri Light"/>
            </a:endParaRPr>
          </a:p>
        </p:txBody>
      </p:sp>
      <p:sp>
        <p:nvSpPr>
          <p:cNvPr id="61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5" name="PlaceHolder 5"/>
          <p:cNvSpPr>
            <a:spLocks noGrp="1"/>
          </p:cNvSpPr>
          <p:nvPr>
            <p:ph type="ftr" idx="3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3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7BAA-DBAB-44A2-9137-FC3CC17E9D35}" type="slidenum">
              <a:rPr b="0" lang="en-C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C9B8-C4A3-4254-AABD-FF3D14EBA2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40" name="PlaceHolder 1"/>
          <p:cNvSpPr>
            <a:spLocks noGrp="1"/>
          </p:cNvSpPr>
          <p:nvPr>
            <p:ph type="sldImg"/>
          </p:nvPr>
        </p:nvSpPr>
        <p:spPr>
          <a:xfrm>
            <a:off x="1257480" y="720720"/>
            <a:ext cx="4800600" cy="3600360"/>
          </a:xfrm>
          <a:prstGeom prst="rect">
            <a:avLst/>
          </a:prstGeom>
          <a:ln w="0">
            <a:noFill/>
          </a:ln>
        </p:spPr>
      </p:sp>
      <p:sp>
        <p:nvSpPr>
          <p:cNvPr id="104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work environment or organizational dimension will influence how we interpret/process/ and act on certain issue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73EB-7222-4BDE-B553-BFB16FB3DB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43" name="PlaceHolder 1"/>
          <p:cNvSpPr>
            <a:spLocks noGrp="1"/>
          </p:cNvSpPr>
          <p:nvPr>
            <p:ph type="sldImg"/>
          </p:nvPr>
        </p:nvSpPr>
        <p:spPr>
          <a:xfrm>
            <a:off x="1257480" y="720720"/>
            <a:ext cx="4800600" cy="3600360"/>
          </a:xfrm>
          <a:prstGeom prst="rect">
            <a:avLst/>
          </a:prstGeom>
          <a:ln w="0">
            <a:noFill/>
          </a:ln>
        </p:spPr>
      </p:sp>
      <p:sp>
        <p:nvSpPr>
          <p:cNvPr id="104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begin to make sense of communication outside our culture, we need to develop awareness of ourselves and the various dimensions that have influenced who we are. There are several layers that determine your level of diversity. They are Personality, Personal Dimension, External Dimension, and Organizational Dimension.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D5A1-3B75-4076-833E-3174D82F6B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46" name="PlaceHolder 1"/>
          <p:cNvSpPr>
            <a:spLocks noGrp="1"/>
          </p:cNvSpPr>
          <p:nvPr>
            <p:ph type="sldImg"/>
          </p:nvPr>
        </p:nvSpPr>
        <p:spPr>
          <a:xfrm>
            <a:off x="1523880" y="395280"/>
            <a:ext cx="4407120" cy="3305160"/>
          </a:xfrm>
          <a:prstGeom prst="rect">
            <a:avLst/>
          </a:prstGeom>
          <a:ln w="0">
            <a:noFill/>
          </a:ln>
        </p:spPr>
      </p:sp>
      <p:sp>
        <p:nvSpPr>
          <p:cNvPr id="1047" name="PlaceHolder 2"/>
          <p:cNvSpPr>
            <a:spLocks noGrp="1"/>
          </p:cNvSpPr>
          <p:nvPr>
            <p:ph type="body"/>
          </p:nvPr>
        </p:nvSpPr>
        <p:spPr>
          <a:xfrm>
            <a:off x="239400" y="4022280"/>
            <a:ext cx="6861240" cy="5342040"/>
          </a:xfrm>
          <a:prstGeom prst="rect">
            <a:avLst/>
          </a:prstGeom>
          <a:noFill/>
          <a:ln w="12600">
            <a:solidFill>
              <a:srgbClr val="000000"/>
            </a:solidFill>
            <a:miter/>
          </a:ln>
        </p:spPr>
        <p:txBody>
          <a:bodyPr lIns="90000" rIns="9000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ss</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e graphic here is based on research conducted by experts in the field of diversity, Gardenschwartz &amp; Roe, who suggest that there are many layers/elements of diversity; keeping this is mind is essential in recognizing and valuing the many aspects of diversity and its impact on who we are and how we see the world</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e most core difference between us, of course, is our personality--something that distinguishes us from everyone else</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e primary elements of diversity are things we cannot change, such as age, race, physical ability; these are usually things people know about us simply by observing us</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e secondary elements are more subtle, such as geographic location, work style, educational background, etc.</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e outer ring are the organizational aspects of diversity; these may perhaps be things we don’t think of immediately when we think of diversity but can make a real difference in how we relate to one another, particularly in the workplace</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is graphic can also be used to think about how messages and biases about difference can influence the way we think about others</a:t>
            </a:r>
            <a:endParaRPr b="0" lang="en-US" sz="1000" spc="-1" strike="noStrike">
              <a:solidFill>
                <a:srgbClr val="000000"/>
              </a:solidFill>
              <a:latin typeface="Calibri"/>
            </a:endParaRPr>
          </a:p>
          <a:p>
            <a:pPr lvl="2" marL="9144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example, we all receive messages--subtle and explicit--about things like race, ethnicity, sexual orientation, etc., from our families and friends</a:t>
            </a:r>
            <a:endParaRPr b="0" lang="en-US" sz="1000" spc="-1" strike="noStrike">
              <a:solidFill>
                <a:srgbClr val="000000"/>
              </a:solidFill>
              <a:latin typeface="Calibri"/>
            </a:endParaRPr>
          </a:p>
          <a:p>
            <a:pPr lvl="2" marL="9144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ntil we recognize these messages and understand them, they subtlety influence the way we view and interact with others</a:t>
            </a:r>
            <a:endParaRPr b="0" lang="en-US" sz="1000" spc="-1" strike="noStrike">
              <a:solidFill>
                <a:srgbClr val="000000"/>
              </a:solidFill>
              <a:latin typeface="Calibri"/>
            </a:endParaRPr>
          </a:p>
          <a:p>
            <a:pPr lvl="2" marL="9144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versely, it’s important to recognize that others are always looking at us and interpreting our behaviour through their “lenses” and experiences</a:t>
            </a:r>
            <a:endParaRPr b="0" lang="en-US" sz="1000" spc="-1" strike="noStrike">
              <a:solidFill>
                <a:srgbClr val="000000"/>
              </a:solidFill>
              <a:latin typeface="Calibri"/>
            </a:endParaRPr>
          </a:p>
          <a:p>
            <a:pPr lvl="2"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Values and belief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Religions and their rol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Customs – birth, death, weddings, “coming of age”, hospitality, greetings, shar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Respec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Perception of tim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Perception of space (intimate, personal, social, publi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Physical contac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Relationship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Occupa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ocial clas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ocietal and community structur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Use of authorit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Looks and abiliti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Educa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Fami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Relationship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Sexual orientatio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ndividual v Collective (group) identity and decision making processe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Ways that people think</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Work ethics and practic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Preferences for learning (visually, orally, active do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Ways of communicating (verbally / nonverbally, saying NO, giving feedback)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Ways of negotiat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nvGrpSpPr>
          <p:cNvPr id="1048" name="Group 4"/>
          <p:cNvGrpSpPr/>
          <p:nvPr/>
        </p:nvGrpSpPr>
        <p:grpSpPr>
          <a:xfrm>
            <a:off x="5962680" y="4103640"/>
            <a:ext cx="579240" cy="615960"/>
            <a:chOff x="5962680" y="4103640"/>
            <a:chExt cx="579240" cy="615960"/>
          </a:xfrm>
        </p:grpSpPr>
        <p:sp>
          <p:nvSpPr>
            <p:cNvPr id="1049" name="AutoShape 5"/>
            <p:cNvSpPr/>
            <p:nvPr/>
          </p:nvSpPr>
          <p:spPr>
            <a:xfrm>
              <a:off x="5962680" y="4103640"/>
              <a:ext cx="579240" cy="615960"/>
            </a:xfrm>
            <a:custGeom>
              <a:avLst/>
              <a:gdLst>
                <a:gd name="textAreaLeft" fmla="*/ 28080 w 579240"/>
                <a:gd name="textAreaRight" fmla="*/ 551160 w 579240"/>
                <a:gd name="textAreaTop" fmla="*/ 28080 h 615960"/>
                <a:gd name="textAreaBottom" fmla="*/ 587880 h 615960"/>
              </a:gdLst>
              <a:ahLst/>
              <a:rect l="textAreaLeft" t="textAreaTop" r="textAreaRight" b="textAreaBottom"/>
              <a:pathLst>
                <a:path w="21600" h="22968">
                  <a:moveTo>
                    <a:pt x="3600" y="0"/>
                  </a:moveTo>
                  <a:arcTo wR="3600" hR="3600" stAng="16200000" swAng="-5400000"/>
                  <a:lnTo>
                    <a:pt x="0" y="19368"/>
                  </a:lnTo>
                  <a:arcTo wR="3600" hR="3600" stAng="10800000" swAng="-5400000"/>
                  <a:lnTo>
                    <a:pt x="18000" y="22968"/>
                  </a:lnTo>
                  <a:arcTo wR="3600" hR="3600" stAng="5400000" swAng="-5400000"/>
                  <a:lnTo>
                    <a:pt x="21600" y="3600"/>
                  </a:lnTo>
                  <a:arcTo wR="3600" hR="3600" stAng="0" swAng="-5400000"/>
                  <a:close/>
                </a:path>
              </a:pathLst>
            </a:cu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0" name="Group 6"/>
            <p:cNvGrpSpPr/>
            <p:nvPr/>
          </p:nvGrpSpPr>
          <p:grpSpPr>
            <a:xfrm>
              <a:off x="6049800" y="4170600"/>
              <a:ext cx="418680" cy="534240"/>
              <a:chOff x="6049800" y="4170600"/>
              <a:chExt cx="418680" cy="534240"/>
            </a:xfrm>
          </p:grpSpPr>
          <p:sp>
            <p:nvSpPr>
              <p:cNvPr id="1051" name="AutoShape 7"/>
              <p:cNvSpPr/>
              <p:nvPr/>
            </p:nvSpPr>
            <p:spPr>
              <a:xfrm flipH="1">
                <a:off x="6068160" y="4170600"/>
                <a:ext cx="389880" cy="300600"/>
              </a:xfrm>
              <a:prstGeom prst="roundRect">
                <a:avLst>
                  <a:gd name="adj" fmla="val 3773"/>
                </a:avLst>
              </a:prstGeom>
              <a:solidFill>
                <a:srgbClr val="0000ff"/>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2" name="Freeform 8"/>
              <p:cNvSpPr/>
              <p:nvPr/>
            </p:nvSpPr>
            <p:spPr>
              <a:xfrm>
                <a:off x="6126840" y="4250160"/>
                <a:ext cx="265680" cy="52200"/>
              </a:xfrm>
              <a:custGeom>
                <a:avLst/>
                <a:gdLst>
                  <a:gd name="textAreaLeft" fmla="*/ 0 w 265680"/>
                  <a:gd name="textAreaRight" fmla="*/ 266040 w 265680"/>
                  <a:gd name="textAreaTop" fmla="*/ 0 h 52200"/>
                  <a:gd name="textAreaBottom" fmla="*/ 52560 h 52200"/>
                </a:gdLst>
                <a:ahLst/>
                <a:rect l="textAreaLeft" t="textAreaTop" r="textAreaRight" b="textAreaBottom"/>
                <a:pathLst>
                  <a:path w="365" h="66">
                    <a:moveTo>
                      <a:pt x="0" y="40"/>
                    </a:moveTo>
                    <a:cubicBezTo>
                      <a:pt x="14" y="27"/>
                      <a:pt x="29" y="15"/>
                      <a:pt x="48" y="10"/>
                    </a:cubicBezTo>
                    <a:cubicBezTo>
                      <a:pt x="67" y="5"/>
                      <a:pt x="97" y="6"/>
                      <a:pt x="114" y="10"/>
                    </a:cubicBezTo>
                    <a:cubicBezTo>
                      <a:pt x="131" y="14"/>
                      <a:pt x="133" y="29"/>
                      <a:pt x="150" y="34"/>
                    </a:cubicBezTo>
                    <a:cubicBezTo>
                      <a:pt x="167" y="39"/>
                      <a:pt x="198" y="45"/>
                      <a:pt x="216" y="40"/>
                    </a:cubicBezTo>
                    <a:cubicBezTo>
                      <a:pt x="234" y="35"/>
                      <a:pt x="236" y="0"/>
                      <a:pt x="258" y="4"/>
                    </a:cubicBezTo>
                    <a:cubicBezTo>
                      <a:pt x="280" y="8"/>
                      <a:pt x="331" y="62"/>
                      <a:pt x="348" y="64"/>
                    </a:cubicBezTo>
                    <a:cubicBezTo>
                      <a:pt x="365" y="66"/>
                      <a:pt x="362" y="41"/>
                      <a:pt x="360" y="16"/>
                    </a:cubicBezTo>
                  </a:path>
                </a:pathLst>
              </a:custGeom>
              <a:noFill/>
              <a:ln w="28440">
                <a:solidFill>
                  <a:srgbClr val="ffffff"/>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Calibri"/>
                </a:endParaRPr>
              </a:p>
            </p:txBody>
          </p:sp>
          <p:grpSp>
            <p:nvGrpSpPr>
              <p:cNvPr id="1053" name="Group 9"/>
              <p:cNvGrpSpPr/>
              <p:nvPr/>
            </p:nvGrpSpPr>
            <p:grpSpPr>
              <a:xfrm>
                <a:off x="6203880" y="4203720"/>
                <a:ext cx="264600" cy="501120"/>
                <a:chOff x="6203880" y="4203720"/>
                <a:chExt cx="264600" cy="501120"/>
              </a:xfrm>
            </p:grpSpPr>
            <p:sp>
              <p:nvSpPr>
                <p:cNvPr id="1054" name="Freeform 10"/>
                <p:cNvSpPr/>
                <p:nvPr/>
              </p:nvSpPr>
              <p:spPr>
                <a:xfrm flipH="1">
                  <a:off x="6345000" y="4222080"/>
                  <a:ext cx="77040" cy="81720"/>
                </a:xfrm>
                <a:custGeom>
                  <a:avLst/>
                  <a:gdLst>
                    <a:gd name="textAreaLeft" fmla="*/ 360 w 77040"/>
                    <a:gd name="textAreaRight" fmla="*/ 77760 w 77040"/>
                    <a:gd name="textAreaTop" fmla="*/ 0 h 81720"/>
                    <a:gd name="textAreaBottom" fmla="*/ 82080 h 81720"/>
                  </a:gdLst>
                  <a:ahLst/>
                  <a:rect l="textAreaLeft" t="textAreaTop" r="textAreaRight" b="textAreaBottom"/>
                  <a:pathLst>
                    <a:path w="712" h="712">
                      <a:moveTo>
                        <a:pt x="356" y="712"/>
                      </a:moveTo>
                      <a:lnTo>
                        <a:pt x="374" y="711"/>
                      </a:lnTo>
                      <a:lnTo>
                        <a:pt x="392" y="710"/>
                      </a:lnTo>
                      <a:lnTo>
                        <a:pt x="410" y="707"/>
                      </a:lnTo>
                      <a:lnTo>
                        <a:pt x="427" y="704"/>
                      </a:lnTo>
                      <a:lnTo>
                        <a:pt x="444" y="700"/>
                      </a:lnTo>
                      <a:lnTo>
                        <a:pt x="462" y="696"/>
                      </a:lnTo>
                      <a:lnTo>
                        <a:pt x="478" y="690"/>
                      </a:lnTo>
                      <a:lnTo>
                        <a:pt x="494" y="683"/>
                      </a:lnTo>
                      <a:lnTo>
                        <a:pt x="510" y="676"/>
                      </a:lnTo>
                      <a:lnTo>
                        <a:pt x="525" y="668"/>
                      </a:lnTo>
                      <a:lnTo>
                        <a:pt x="541" y="660"/>
                      </a:lnTo>
                      <a:lnTo>
                        <a:pt x="554" y="651"/>
                      </a:lnTo>
                      <a:lnTo>
                        <a:pt x="568" y="640"/>
                      </a:lnTo>
                      <a:lnTo>
                        <a:pt x="582" y="630"/>
                      </a:lnTo>
                      <a:lnTo>
                        <a:pt x="595" y="619"/>
                      </a:lnTo>
                      <a:lnTo>
                        <a:pt x="608" y="608"/>
                      </a:lnTo>
                      <a:lnTo>
                        <a:pt x="619" y="595"/>
                      </a:lnTo>
                      <a:lnTo>
                        <a:pt x="630" y="582"/>
                      </a:lnTo>
                      <a:lnTo>
                        <a:pt x="641" y="568"/>
                      </a:lnTo>
                      <a:lnTo>
                        <a:pt x="651" y="555"/>
                      </a:lnTo>
                      <a:lnTo>
                        <a:pt x="660" y="541"/>
                      </a:lnTo>
                      <a:lnTo>
                        <a:pt x="668" y="526"/>
                      </a:lnTo>
                      <a:lnTo>
                        <a:pt x="676" y="511"/>
                      </a:lnTo>
                      <a:lnTo>
                        <a:pt x="683" y="494"/>
                      </a:lnTo>
                      <a:lnTo>
                        <a:pt x="690" y="478"/>
                      </a:lnTo>
                      <a:lnTo>
                        <a:pt x="696" y="462"/>
                      </a:lnTo>
                      <a:lnTo>
                        <a:pt x="700" y="445"/>
                      </a:lnTo>
                      <a:lnTo>
                        <a:pt x="704" y="427"/>
                      </a:lnTo>
                      <a:lnTo>
                        <a:pt x="707" y="410"/>
                      </a:lnTo>
                      <a:lnTo>
                        <a:pt x="710" y="392"/>
                      </a:lnTo>
                      <a:lnTo>
                        <a:pt x="711" y="374"/>
                      </a:lnTo>
                      <a:lnTo>
                        <a:pt x="712" y="355"/>
                      </a:lnTo>
                      <a:lnTo>
                        <a:pt x="711" y="337"/>
                      </a:lnTo>
                      <a:lnTo>
                        <a:pt x="710" y="320"/>
                      </a:lnTo>
                      <a:lnTo>
                        <a:pt x="707" y="301"/>
                      </a:lnTo>
                      <a:lnTo>
                        <a:pt x="704" y="284"/>
                      </a:lnTo>
                      <a:lnTo>
                        <a:pt x="700" y="266"/>
                      </a:lnTo>
                      <a:lnTo>
                        <a:pt x="696" y="249"/>
                      </a:lnTo>
                      <a:lnTo>
                        <a:pt x="690" y="233"/>
                      </a:lnTo>
                      <a:lnTo>
                        <a:pt x="683" y="217"/>
                      </a:lnTo>
                      <a:lnTo>
                        <a:pt x="676" y="202"/>
                      </a:lnTo>
                      <a:lnTo>
                        <a:pt x="668" y="186"/>
                      </a:lnTo>
                      <a:lnTo>
                        <a:pt x="660" y="171"/>
                      </a:lnTo>
                      <a:lnTo>
                        <a:pt x="651" y="156"/>
                      </a:lnTo>
                      <a:lnTo>
                        <a:pt x="641" y="143"/>
                      </a:lnTo>
                      <a:lnTo>
                        <a:pt x="630" y="129"/>
                      </a:lnTo>
                      <a:lnTo>
                        <a:pt x="619" y="116"/>
                      </a:lnTo>
                      <a:lnTo>
                        <a:pt x="608" y="104"/>
                      </a:lnTo>
                      <a:lnTo>
                        <a:pt x="595" y="92"/>
                      </a:lnTo>
                      <a:lnTo>
                        <a:pt x="582" y="81"/>
                      </a:lnTo>
                      <a:lnTo>
                        <a:pt x="568" y="71"/>
                      </a:lnTo>
                      <a:lnTo>
                        <a:pt x="554" y="60"/>
                      </a:lnTo>
                      <a:lnTo>
                        <a:pt x="541" y="51"/>
                      </a:lnTo>
                      <a:lnTo>
                        <a:pt x="525" y="43"/>
                      </a:lnTo>
                      <a:lnTo>
                        <a:pt x="510" y="35"/>
                      </a:lnTo>
                      <a:lnTo>
                        <a:pt x="494" y="28"/>
                      </a:lnTo>
                      <a:lnTo>
                        <a:pt x="478" y="21"/>
                      </a:lnTo>
                      <a:lnTo>
                        <a:pt x="462" y="15"/>
                      </a:lnTo>
                      <a:lnTo>
                        <a:pt x="444" y="11"/>
                      </a:lnTo>
                      <a:lnTo>
                        <a:pt x="427" y="7"/>
                      </a:lnTo>
                      <a:lnTo>
                        <a:pt x="410" y="4"/>
                      </a:lnTo>
                      <a:lnTo>
                        <a:pt x="392" y="1"/>
                      </a:lnTo>
                      <a:lnTo>
                        <a:pt x="374" y="0"/>
                      </a:lnTo>
                      <a:lnTo>
                        <a:pt x="356" y="0"/>
                      </a:lnTo>
                      <a:lnTo>
                        <a:pt x="338" y="0"/>
                      </a:lnTo>
                      <a:lnTo>
                        <a:pt x="319" y="1"/>
                      </a:lnTo>
                      <a:lnTo>
                        <a:pt x="302" y="4"/>
                      </a:lnTo>
                      <a:lnTo>
                        <a:pt x="285" y="7"/>
                      </a:lnTo>
                      <a:lnTo>
                        <a:pt x="267" y="11"/>
                      </a:lnTo>
                      <a:lnTo>
                        <a:pt x="250" y="15"/>
                      </a:lnTo>
                      <a:lnTo>
                        <a:pt x="234" y="21"/>
                      </a:lnTo>
                      <a:lnTo>
                        <a:pt x="217" y="28"/>
                      </a:lnTo>
                      <a:lnTo>
                        <a:pt x="201" y="35"/>
                      </a:lnTo>
                      <a:lnTo>
                        <a:pt x="186" y="43"/>
                      </a:lnTo>
                      <a:lnTo>
                        <a:pt x="171" y="51"/>
                      </a:lnTo>
                      <a:lnTo>
                        <a:pt x="157" y="60"/>
                      </a:lnTo>
                      <a:lnTo>
                        <a:pt x="143" y="71"/>
                      </a:lnTo>
                      <a:lnTo>
                        <a:pt x="129" y="81"/>
                      </a:lnTo>
                      <a:lnTo>
                        <a:pt x="117" y="92"/>
                      </a:lnTo>
                      <a:lnTo>
                        <a:pt x="104" y="104"/>
                      </a:lnTo>
                      <a:lnTo>
                        <a:pt x="92" y="116"/>
                      </a:lnTo>
                      <a:lnTo>
                        <a:pt x="82" y="129"/>
                      </a:lnTo>
                      <a:lnTo>
                        <a:pt x="70" y="143"/>
                      </a:lnTo>
                      <a:lnTo>
                        <a:pt x="61" y="156"/>
                      </a:lnTo>
                      <a:lnTo>
                        <a:pt x="52" y="171"/>
                      </a:lnTo>
                      <a:lnTo>
                        <a:pt x="44" y="186"/>
                      </a:lnTo>
                      <a:lnTo>
                        <a:pt x="36" y="202"/>
                      </a:lnTo>
                      <a:lnTo>
                        <a:pt x="29" y="217"/>
                      </a:lnTo>
                      <a:lnTo>
                        <a:pt x="22" y="233"/>
                      </a:lnTo>
                      <a:lnTo>
                        <a:pt x="16" y="249"/>
                      </a:lnTo>
                      <a:lnTo>
                        <a:pt x="11" y="266"/>
                      </a:lnTo>
                      <a:lnTo>
                        <a:pt x="8" y="284"/>
                      </a:lnTo>
                      <a:lnTo>
                        <a:pt x="4" y="301"/>
                      </a:lnTo>
                      <a:lnTo>
                        <a:pt x="2" y="320"/>
                      </a:lnTo>
                      <a:lnTo>
                        <a:pt x="1" y="337"/>
                      </a:lnTo>
                      <a:lnTo>
                        <a:pt x="0" y="355"/>
                      </a:lnTo>
                      <a:lnTo>
                        <a:pt x="1" y="374"/>
                      </a:lnTo>
                      <a:lnTo>
                        <a:pt x="2" y="392"/>
                      </a:lnTo>
                      <a:lnTo>
                        <a:pt x="4" y="410"/>
                      </a:lnTo>
                      <a:lnTo>
                        <a:pt x="8" y="427"/>
                      </a:lnTo>
                      <a:lnTo>
                        <a:pt x="11" y="445"/>
                      </a:lnTo>
                      <a:lnTo>
                        <a:pt x="16" y="462"/>
                      </a:lnTo>
                      <a:lnTo>
                        <a:pt x="22" y="478"/>
                      </a:lnTo>
                      <a:lnTo>
                        <a:pt x="29" y="494"/>
                      </a:lnTo>
                      <a:lnTo>
                        <a:pt x="36" y="511"/>
                      </a:lnTo>
                      <a:lnTo>
                        <a:pt x="44" y="526"/>
                      </a:lnTo>
                      <a:lnTo>
                        <a:pt x="52" y="541"/>
                      </a:lnTo>
                      <a:lnTo>
                        <a:pt x="61" y="555"/>
                      </a:lnTo>
                      <a:lnTo>
                        <a:pt x="70" y="568"/>
                      </a:lnTo>
                      <a:lnTo>
                        <a:pt x="82" y="582"/>
                      </a:lnTo>
                      <a:lnTo>
                        <a:pt x="92" y="595"/>
                      </a:lnTo>
                      <a:lnTo>
                        <a:pt x="104" y="608"/>
                      </a:lnTo>
                      <a:lnTo>
                        <a:pt x="117" y="619"/>
                      </a:lnTo>
                      <a:lnTo>
                        <a:pt x="129" y="630"/>
                      </a:lnTo>
                      <a:lnTo>
                        <a:pt x="143" y="640"/>
                      </a:lnTo>
                      <a:lnTo>
                        <a:pt x="157" y="651"/>
                      </a:lnTo>
                      <a:lnTo>
                        <a:pt x="171" y="660"/>
                      </a:lnTo>
                      <a:lnTo>
                        <a:pt x="186" y="668"/>
                      </a:lnTo>
                      <a:lnTo>
                        <a:pt x="201" y="676"/>
                      </a:lnTo>
                      <a:lnTo>
                        <a:pt x="217" y="683"/>
                      </a:lnTo>
                      <a:lnTo>
                        <a:pt x="234" y="690"/>
                      </a:lnTo>
                      <a:lnTo>
                        <a:pt x="250" y="696"/>
                      </a:lnTo>
                      <a:lnTo>
                        <a:pt x="267" y="700"/>
                      </a:lnTo>
                      <a:lnTo>
                        <a:pt x="285" y="704"/>
                      </a:lnTo>
                      <a:lnTo>
                        <a:pt x="302" y="707"/>
                      </a:lnTo>
                      <a:lnTo>
                        <a:pt x="319" y="710"/>
                      </a:lnTo>
                      <a:lnTo>
                        <a:pt x="338" y="711"/>
                      </a:lnTo>
                      <a:lnTo>
                        <a:pt x="356" y="712"/>
                      </a:lnTo>
                      <a:close/>
                    </a:path>
                  </a:pathLst>
                </a:custGeom>
                <a:solidFill>
                  <a:srgbClr val="80008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055" name="Freeform 11"/>
                <p:cNvSpPr/>
                <p:nvPr/>
              </p:nvSpPr>
              <p:spPr>
                <a:xfrm>
                  <a:off x="6203880" y="4203720"/>
                  <a:ext cx="264600" cy="501120"/>
                </a:xfrm>
                <a:custGeom>
                  <a:avLst/>
                  <a:gdLst>
                    <a:gd name="textAreaLeft" fmla="*/ 0 w 264600"/>
                    <a:gd name="textAreaRight" fmla="*/ 264960 w 264600"/>
                    <a:gd name="textAreaTop" fmla="*/ 0 h 501120"/>
                    <a:gd name="textAreaBottom" fmla="*/ 501480 h 501120"/>
                  </a:gdLst>
                  <a:ahLst/>
                  <a:rect l="textAreaLeft" t="textAreaTop" r="textAreaRight" b="textAreaBottom"/>
                  <a:pathLst>
                    <a:path w="367" h="649">
                      <a:moveTo>
                        <a:pt x="249" y="439"/>
                      </a:moveTo>
                      <a:lnTo>
                        <a:pt x="265" y="649"/>
                      </a:lnTo>
                      <a:lnTo>
                        <a:pt x="304" y="649"/>
                      </a:lnTo>
                      <a:lnTo>
                        <a:pt x="315" y="235"/>
                      </a:lnTo>
                      <a:lnTo>
                        <a:pt x="334" y="400"/>
                      </a:lnTo>
                      <a:lnTo>
                        <a:pt x="367" y="400"/>
                      </a:lnTo>
                      <a:lnTo>
                        <a:pt x="349" y="160"/>
                      </a:lnTo>
                      <a:lnTo>
                        <a:pt x="273" y="143"/>
                      </a:lnTo>
                      <a:lnTo>
                        <a:pt x="225" y="143"/>
                      </a:lnTo>
                      <a:lnTo>
                        <a:pt x="160" y="130"/>
                      </a:lnTo>
                      <a:lnTo>
                        <a:pt x="108" y="88"/>
                      </a:lnTo>
                      <a:lnTo>
                        <a:pt x="3" y="0"/>
                      </a:lnTo>
                      <a:lnTo>
                        <a:pt x="0" y="6"/>
                      </a:lnTo>
                      <a:lnTo>
                        <a:pt x="100" y="93"/>
                      </a:lnTo>
                      <a:lnTo>
                        <a:pt x="88" y="111"/>
                      </a:lnTo>
                      <a:lnTo>
                        <a:pt x="136" y="174"/>
                      </a:lnTo>
                      <a:lnTo>
                        <a:pt x="187" y="219"/>
                      </a:lnTo>
                      <a:lnTo>
                        <a:pt x="195" y="649"/>
                      </a:lnTo>
                      <a:lnTo>
                        <a:pt x="234" y="649"/>
                      </a:lnTo>
                      <a:lnTo>
                        <a:pt x="249" y="4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56" name="Group 12"/>
              <p:cNvGrpSpPr/>
              <p:nvPr/>
            </p:nvGrpSpPr>
            <p:grpSpPr>
              <a:xfrm>
                <a:off x="6231600" y="4382280"/>
                <a:ext cx="157320" cy="321840"/>
                <a:chOff x="6231600" y="4382280"/>
                <a:chExt cx="157320" cy="321840"/>
              </a:xfrm>
            </p:grpSpPr>
            <p:sp>
              <p:nvSpPr>
                <p:cNvPr id="1057" name="Freeform 13"/>
                <p:cNvSpPr/>
                <p:nvPr/>
              </p:nvSpPr>
              <p:spPr>
                <a:xfrm flipH="1">
                  <a:off x="6275880" y="4382280"/>
                  <a:ext cx="69480" cy="81720"/>
                </a:xfrm>
                <a:custGeom>
                  <a:avLst/>
                  <a:gdLst>
                    <a:gd name="textAreaLeft" fmla="*/ -360 w 69480"/>
                    <a:gd name="textAreaRight" fmla="*/ 69480 w 69480"/>
                    <a:gd name="textAreaTop" fmla="*/ 0 h 81720"/>
                    <a:gd name="textAreaBottom" fmla="*/ 82080 h 81720"/>
                  </a:gdLst>
                  <a:ahLst/>
                  <a:rect l="textAreaLeft" t="textAreaTop" r="textAreaRight" b="textAreaBottom"/>
                  <a:pathLst>
                    <a:path w="712" h="712">
                      <a:moveTo>
                        <a:pt x="356" y="712"/>
                      </a:moveTo>
                      <a:lnTo>
                        <a:pt x="374" y="711"/>
                      </a:lnTo>
                      <a:lnTo>
                        <a:pt x="392" y="710"/>
                      </a:lnTo>
                      <a:lnTo>
                        <a:pt x="410" y="707"/>
                      </a:lnTo>
                      <a:lnTo>
                        <a:pt x="427" y="704"/>
                      </a:lnTo>
                      <a:lnTo>
                        <a:pt x="444" y="700"/>
                      </a:lnTo>
                      <a:lnTo>
                        <a:pt x="462" y="696"/>
                      </a:lnTo>
                      <a:lnTo>
                        <a:pt x="478" y="690"/>
                      </a:lnTo>
                      <a:lnTo>
                        <a:pt x="494" y="683"/>
                      </a:lnTo>
                      <a:lnTo>
                        <a:pt x="510" y="676"/>
                      </a:lnTo>
                      <a:lnTo>
                        <a:pt x="525" y="668"/>
                      </a:lnTo>
                      <a:lnTo>
                        <a:pt x="541" y="660"/>
                      </a:lnTo>
                      <a:lnTo>
                        <a:pt x="554" y="651"/>
                      </a:lnTo>
                      <a:lnTo>
                        <a:pt x="568" y="640"/>
                      </a:lnTo>
                      <a:lnTo>
                        <a:pt x="582" y="630"/>
                      </a:lnTo>
                      <a:lnTo>
                        <a:pt x="595" y="619"/>
                      </a:lnTo>
                      <a:lnTo>
                        <a:pt x="608" y="608"/>
                      </a:lnTo>
                      <a:lnTo>
                        <a:pt x="619" y="595"/>
                      </a:lnTo>
                      <a:lnTo>
                        <a:pt x="630" y="582"/>
                      </a:lnTo>
                      <a:lnTo>
                        <a:pt x="641" y="568"/>
                      </a:lnTo>
                      <a:lnTo>
                        <a:pt x="651" y="555"/>
                      </a:lnTo>
                      <a:lnTo>
                        <a:pt x="660" y="541"/>
                      </a:lnTo>
                      <a:lnTo>
                        <a:pt x="668" y="526"/>
                      </a:lnTo>
                      <a:lnTo>
                        <a:pt x="676" y="511"/>
                      </a:lnTo>
                      <a:lnTo>
                        <a:pt x="683" y="494"/>
                      </a:lnTo>
                      <a:lnTo>
                        <a:pt x="690" y="478"/>
                      </a:lnTo>
                      <a:lnTo>
                        <a:pt x="696" y="462"/>
                      </a:lnTo>
                      <a:lnTo>
                        <a:pt x="700" y="445"/>
                      </a:lnTo>
                      <a:lnTo>
                        <a:pt x="704" y="427"/>
                      </a:lnTo>
                      <a:lnTo>
                        <a:pt x="707" y="410"/>
                      </a:lnTo>
                      <a:lnTo>
                        <a:pt x="710" y="392"/>
                      </a:lnTo>
                      <a:lnTo>
                        <a:pt x="711" y="374"/>
                      </a:lnTo>
                      <a:lnTo>
                        <a:pt x="712" y="355"/>
                      </a:lnTo>
                      <a:lnTo>
                        <a:pt x="711" y="337"/>
                      </a:lnTo>
                      <a:lnTo>
                        <a:pt x="710" y="320"/>
                      </a:lnTo>
                      <a:lnTo>
                        <a:pt x="707" y="301"/>
                      </a:lnTo>
                      <a:lnTo>
                        <a:pt x="704" y="284"/>
                      </a:lnTo>
                      <a:lnTo>
                        <a:pt x="700" y="266"/>
                      </a:lnTo>
                      <a:lnTo>
                        <a:pt x="696" y="249"/>
                      </a:lnTo>
                      <a:lnTo>
                        <a:pt x="690" y="233"/>
                      </a:lnTo>
                      <a:lnTo>
                        <a:pt x="683" y="217"/>
                      </a:lnTo>
                      <a:lnTo>
                        <a:pt x="676" y="202"/>
                      </a:lnTo>
                      <a:lnTo>
                        <a:pt x="668" y="186"/>
                      </a:lnTo>
                      <a:lnTo>
                        <a:pt x="660" y="171"/>
                      </a:lnTo>
                      <a:lnTo>
                        <a:pt x="651" y="156"/>
                      </a:lnTo>
                      <a:lnTo>
                        <a:pt x="641" y="143"/>
                      </a:lnTo>
                      <a:lnTo>
                        <a:pt x="630" y="129"/>
                      </a:lnTo>
                      <a:lnTo>
                        <a:pt x="619" y="116"/>
                      </a:lnTo>
                      <a:lnTo>
                        <a:pt x="608" y="104"/>
                      </a:lnTo>
                      <a:lnTo>
                        <a:pt x="595" y="92"/>
                      </a:lnTo>
                      <a:lnTo>
                        <a:pt x="582" y="81"/>
                      </a:lnTo>
                      <a:lnTo>
                        <a:pt x="568" y="71"/>
                      </a:lnTo>
                      <a:lnTo>
                        <a:pt x="554" y="60"/>
                      </a:lnTo>
                      <a:lnTo>
                        <a:pt x="541" y="51"/>
                      </a:lnTo>
                      <a:lnTo>
                        <a:pt x="525" y="43"/>
                      </a:lnTo>
                      <a:lnTo>
                        <a:pt x="510" y="35"/>
                      </a:lnTo>
                      <a:lnTo>
                        <a:pt x="494" y="28"/>
                      </a:lnTo>
                      <a:lnTo>
                        <a:pt x="478" y="21"/>
                      </a:lnTo>
                      <a:lnTo>
                        <a:pt x="462" y="15"/>
                      </a:lnTo>
                      <a:lnTo>
                        <a:pt x="444" y="11"/>
                      </a:lnTo>
                      <a:lnTo>
                        <a:pt x="427" y="7"/>
                      </a:lnTo>
                      <a:lnTo>
                        <a:pt x="410" y="4"/>
                      </a:lnTo>
                      <a:lnTo>
                        <a:pt x="392" y="1"/>
                      </a:lnTo>
                      <a:lnTo>
                        <a:pt x="374" y="0"/>
                      </a:lnTo>
                      <a:lnTo>
                        <a:pt x="356" y="0"/>
                      </a:lnTo>
                      <a:lnTo>
                        <a:pt x="338" y="0"/>
                      </a:lnTo>
                      <a:lnTo>
                        <a:pt x="319" y="1"/>
                      </a:lnTo>
                      <a:lnTo>
                        <a:pt x="302" y="4"/>
                      </a:lnTo>
                      <a:lnTo>
                        <a:pt x="285" y="7"/>
                      </a:lnTo>
                      <a:lnTo>
                        <a:pt x="267" y="11"/>
                      </a:lnTo>
                      <a:lnTo>
                        <a:pt x="250" y="15"/>
                      </a:lnTo>
                      <a:lnTo>
                        <a:pt x="234" y="21"/>
                      </a:lnTo>
                      <a:lnTo>
                        <a:pt x="217" y="28"/>
                      </a:lnTo>
                      <a:lnTo>
                        <a:pt x="201" y="35"/>
                      </a:lnTo>
                      <a:lnTo>
                        <a:pt x="186" y="43"/>
                      </a:lnTo>
                      <a:lnTo>
                        <a:pt x="171" y="51"/>
                      </a:lnTo>
                      <a:lnTo>
                        <a:pt x="157" y="60"/>
                      </a:lnTo>
                      <a:lnTo>
                        <a:pt x="143" y="71"/>
                      </a:lnTo>
                      <a:lnTo>
                        <a:pt x="129" y="81"/>
                      </a:lnTo>
                      <a:lnTo>
                        <a:pt x="117" y="92"/>
                      </a:lnTo>
                      <a:lnTo>
                        <a:pt x="104" y="104"/>
                      </a:lnTo>
                      <a:lnTo>
                        <a:pt x="92" y="116"/>
                      </a:lnTo>
                      <a:lnTo>
                        <a:pt x="82" y="129"/>
                      </a:lnTo>
                      <a:lnTo>
                        <a:pt x="70" y="143"/>
                      </a:lnTo>
                      <a:lnTo>
                        <a:pt x="61" y="156"/>
                      </a:lnTo>
                      <a:lnTo>
                        <a:pt x="52" y="171"/>
                      </a:lnTo>
                      <a:lnTo>
                        <a:pt x="44" y="186"/>
                      </a:lnTo>
                      <a:lnTo>
                        <a:pt x="36" y="202"/>
                      </a:lnTo>
                      <a:lnTo>
                        <a:pt x="29" y="217"/>
                      </a:lnTo>
                      <a:lnTo>
                        <a:pt x="22" y="233"/>
                      </a:lnTo>
                      <a:lnTo>
                        <a:pt x="16" y="249"/>
                      </a:lnTo>
                      <a:lnTo>
                        <a:pt x="11" y="266"/>
                      </a:lnTo>
                      <a:lnTo>
                        <a:pt x="8" y="284"/>
                      </a:lnTo>
                      <a:lnTo>
                        <a:pt x="4" y="301"/>
                      </a:lnTo>
                      <a:lnTo>
                        <a:pt x="2" y="320"/>
                      </a:lnTo>
                      <a:lnTo>
                        <a:pt x="1" y="337"/>
                      </a:lnTo>
                      <a:lnTo>
                        <a:pt x="0" y="355"/>
                      </a:lnTo>
                      <a:lnTo>
                        <a:pt x="1" y="374"/>
                      </a:lnTo>
                      <a:lnTo>
                        <a:pt x="2" y="392"/>
                      </a:lnTo>
                      <a:lnTo>
                        <a:pt x="4" y="410"/>
                      </a:lnTo>
                      <a:lnTo>
                        <a:pt x="8" y="427"/>
                      </a:lnTo>
                      <a:lnTo>
                        <a:pt x="11" y="445"/>
                      </a:lnTo>
                      <a:lnTo>
                        <a:pt x="16" y="462"/>
                      </a:lnTo>
                      <a:lnTo>
                        <a:pt x="22" y="478"/>
                      </a:lnTo>
                      <a:lnTo>
                        <a:pt x="29" y="494"/>
                      </a:lnTo>
                      <a:lnTo>
                        <a:pt x="36" y="511"/>
                      </a:lnTo>
                      <a:lnTo>
                        <a:pt x="44" y="526"/>
                      </a:lnTo>
                      <a:lnTo>
                        <a:pt x="52" y="541"/>
                      </a:lnTo>
                      <a:lnTo>
                        <a:pt x="61" y="555"/>
                      </a:lnTo>
                      <a:lnTo>
                        <a:pt x="70" y="568"/>
                      </a:lnTo>
                      <a:lnTo>
                        <a:pt x="82" y="582"/>
                      </a:lnTo>
                      <a:lnTo>
                        <a:pt x="92" y="595"/>
                      </a:lnTo>
                      <a:lnTo>
                        <a:pt x="104" y="608"/>
                      </a:lnTo>
                      <a:lnTo>
                        <a:pt x="117" y="619"/>
                      </a:lnTo>
                      <a:lnTo>
                        <a:pt x="129" y="630"/>
                      </a:lnTo>
                      <a:lnTo>
                        <a:pt x="143" y="640"/>
                      </a:lnTo>
                      <a:lnTo>
                        <a:pt x="157" y="651"/>
                      </a:lnTo>
                      <a:lnTo>
                        <a:pt x="171" y="660"/>
                      </a:lnTo>
                      <a:lnTo>
                        <a:pt x="186" y="668"/>
                      </a:lnTo>
                      <a:lnTo>
                        <a:pt x="201" y="676"/>
                      </a:lnTo>
                      <a:lnTo>
                        <a:pt x="217" y="683"/>
                      </a:lnTo>
                      <a:lnTo>
                        <a:pt x="234" y="690"/>
                      </a:lnTo>
                      <a:lnTo>
                        <a:pt x="250" y="696"/>
                      </a:lnTo>
                      <a:lnTo>
                        <a:pt x="267" y="700"/>
                      </a:lnTo>
                      <a:lnTo>
                        <a:pt x="285" y="704"/>
                      </a:lnTo>
                      <a:lnTo>
                        <a:pt x="302" y="707"/>
                      </a:lnTo>
                      <a:lnTo>
                        <a:pt x="319" y="710"/>
                      </a:lnTo>
                      <a:lnTo>
                        <a:pt x="338" y="711"/>
                      </a:lnTo>
                      <a:lnTo>
                        <a:pt x="356" y="712"/>
                      </a:lnTo>
                      <a:close/>
                    </a:path>
                  </a:pathLst>
                </a:custGeom>
                <a:solidFill>
                  <a:srgbClr val="c050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058" name="Freeform 14"/>
                <p:cNvSpPr/>
                <p:nvPr/>
              </p:nvSpPr>
              <p:spPr>
                <a:xfrm flipH="1">
                  <a:off x="6231240" y="4466160"/>
                  <a:ext cx="157320" cy="237960"/>
                </a:xfrm>
                <a:custGeom>
                  <a:avLst/>
                  <a:gdLst>
                    <a:gd name="textAreaLeft" fmla="*/ -360 w 157320"/>
                    <a:gd name="textAreaRight" fmla="*/ 157320 w 157320"/>
                    <a:gd name="textAreaTop" fmla="*/ 0 h 237960"/>
                    <a:gd name="textAreaBottom" fmla="*/ 238320 h 237960"/>
                  </a:gdLst>
                  <a:ahLst/>
                  <a:rect l="textAreaLeft" t="textAreaTop" r="textAreaRight" b="textAreaBottom"/>
                  <a:pathLst>
                    <a:path w="219" h="309">
                      <a:moveTo>
                        <a:pt x="49" y="309"/>
                      </a:moveTo>
                      <a:lnTo>
                        <a:pt x="45" y="230"/>
                      </a:lnTo>
                      <a:lnTo>
                        <a:pt x="65" y="153"/>
                      </a:lnTo>
                      <a:lnTo>
                        <a:pt x="50" y="109"/>
                      </a:lnTo>
                      <a:lnTo>
                        <a:pt x="30" y="288"/>
                      </a:lnTo>
                      <a:lnTo>
                        <a:pt x="0" y="288"/>
                      </a:lnTo>
                      <a:cubicBezTo>
                        <a:pt x="0" y="245"/>
                        <a:pt x="17" y="75"/>
                        <a:pt x="29" y="28"/>
                      </a:cubicBezTo>
                      <a:cubicBezTo>
                        <a:pt x="37" y="7"/>
                        <a:pt x="71" y="10"/>
                        <a:pt x="87" y="12"/>
                      </a:cubicBezTo>
                      <a:lnTo>
                        <a:pt x="110" y="38"/>
                      </a:lnTo>
                      <a:lnTo>
                        <a:pt x="132" y="12"/>
                      </a:lnTo>
                      <a:cubicBezTo>
                        <a:pt x="144" y="9"/>
                        <a:pt x="176" y="0"/>
                        <a:pt x="182" y="21"/>
                      </a:cubicBezTo>
                      <a:cubicBezTo>
                        <a:pt x="197" y="66"/>
                        <a:pt x="219" y="245"/>
                        <a:pt x="217" y="288"/>
                      </a:cubicBezTo>
                      <a:lnTo>
                        <a:pt x="187" y="288"/>
                      </a:lnTo>
                      <a:lnTo>
                        <a:pt x="167" y="109"/>
                      </a:lnTo>
                      <a:lnTo>
                        <a:pt x="153" y="159"/>
                      </a:lnTo>
                      <a:lnTo>
                        <a:pt x="168" y="234"/>
                      </a:lnTo>
                      <a:lnTo>
                        <a:pt x="163" y="309"/>
                      </a:lnTo>
                      <a:lnTo>
                        <a:pt x="49" y="309"/>
                      </a:lnTo>
                      <a:close/>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59" name="Group 15"/>
              <p:cNvGrpSpPr/>
              <p:nvPr/>
            </p:nvGrpSpPr>
            <p:grpSpPr>
              <a:xfrm>
                <a:off x="6134400" y="4380840"/>
                <a:ext cx="169560" cy="323640"/>
                <a:chOff x="6134400" y="4380840"/>
                <a:chExt cx="169560" cy="323640"/>
              </a:xfrm>
            </p:grpSpPr>
            <p:sp>
              <p:nvSpPr>
                <p:cNvPr id="1060" name="Freeform 16"/>
                <p:cNvSpPr/>
                <p:nvPr/>
              </p:nvSpPr>
              <p:spPr>
                <a:xfrm flipH="1">
                  <a:off x="6181560" y="4380840"/>
                  <a:ext cx="75600" cy="81720"/>
                </a:xfrm>
                <a:custGeom>
                  <a:avLst/>
                  <a:gdLst>
                    <a:gd name="textAreaLeft" fmla="*/ 0 w 75600"/>
                    <a:gd name="textAreaRight" fmla="*/ 75600 w 75600"/>
                    <a:gd name="textAreaTop" fmla="*/ 0 h 81720"/>
                    <a:gd name="textAreaBottom" fmla="*/ 82080 h 81720"/>
                  </a:gdLst>
                  <a:ahLst/>
                  <a:rect l="textAreaLeft" t="textAreaTop" r="textAreaRight" b="textAreaBottom"/>
                  <a:pathLst>
                    <a:path w="712" h="712">
                      <a:moveTo>
                        <a:pt x="356" y="712"/>
                      </a:moveTo>
                      <a:lnTo>
                        <a:pt x="374" y="711"/>
                      </a:lnTo>
                      <a:lnTo>
                        <a:pt x="392" y="710"/>
                      </a:lnTo>
                      <a:lnTo>
                        <a:pt x="410" y="707"/>
                      </a:lnTo>
                      <a:lnTo>
                        <a:pt x="427" y="704"/>
                      </a:lnTo>
                      <a:lnTo>
                        <a:pt x="444" y="700"/>
                      </a:lnTo>
                      <a:lnTo>
                        <a:pt x="462" y="696"/>
                      </a:lnTo>
                      <a:lnTo>
                        <a:pt x="478" y="690"/>
                      </a:lnTo>
                      <a:lnTo>
                        <a:pt x="494" y="683"/>
                      </a:lnTo>
                      <a:lnTo>
                        <a:pt x="510" y="676"/>
                      </a:lnTo>
                      <a:lnTo>
                        <a:pt x="525" y="668"/>
                      </a:lnTo>
                      <a:lnTo>
                        <a:pt x="541" y="660"/>
                      </a:lnTo>
                      <a:lnTo>
                        <a:pt x="554" y="651"/>
                      </a:lnTo>
                      <a:lnTo>
                        <a:pt x="568" y="640"/>
                      </a:lnTo>
                      <a:lnTo>
                        <a:pt x="582" y="630"/>
                      </a:lnTo>
                      <a:lnTo>
                        <a:pt x="595" y="619"/>
                      </a:lnTo>
                      <a:lnTo>
                        <a:pt x="608" y="608"/>
                      </a:lnTo>
                      <a:lnTo>
                        <a:pt x="619" y="595"/>
                      </a:lnTo>
                      <a:lnTo>
                        <a:pt x="630" y="582"/>
                      </a:lnTo>
                      <a:lnTo>
                        <a:pt x="641" y="568"/>
                      </a:lnTo>
                      <a:lnTo>
                        <a:pt x="651" y="555"/>
                      </a:lnTo>
                      <a:lnTo>
                        <a:pt x="660" y="541"/>
                      </a:lnTo>
                      <a:lnTo>
                        <a:pt x="668" y="526"/>
                      </a:lnTo>
                      <a:lnTo>
                        <a:pt x="676" y="511"/>
                      </a:lnTo>
                      <a:lnTo>
                        <a:pt x="683" y="494"/>
                      </a:lnTo>
                      <a:lnTo>
                        <a:pt x="690" y="478"/>
                      </a:lnTo>
                      <a:lnTo>
                        <a:pt x="696" y="462"/>
                      </a:lnTo>
                      <a:lnTo>
                        <a:pt x="700" y="445"/>
                      </a:lnTo>
                      <a:lnTo>
                        <a:pt x="704" y="427"/>
                      </a:lnTo>
                      <a:lnTo>
                        <a:pt x="707" y="410"/>
                      </a:lnTo>
                      <a:lnTo>
                        <a:pt x="710" y="392"/>
                      </a:lnTo>
                      <a:lnTo>
                        <a:pt x="711" y="374"/>
                      </a:lnTo>
                      <a:lnTo>
                        <a:pt x="712" y="355"/>
                      </a:lnTo>
                      <a:lnTo>
                        <a:pt x="711" y="337"/>
                      </a:lnTo>
                      <a:lnTo>
                        <a:pt x="710" y="320"/>
                      </a:lnTo>
                      <a:lnTo>
                        <a:pt x="707" y="301"/>
                      </a:lnTo>
                      <a:lnTo>
                        <a:pt x="704" y="284"/>
                      </a:lnTo>
                      <a:lnTo>
                        <a:pt x="700" y="266"/>
                      </a:lnTo>
                      <a:lnTo>
                        <a:pt x="696" y="249"/>
                      </a:lnTo>
                      <a:lnTo>
                        <a:pt x="690" y="233"/>
                      </a:lnTo>
                      <a:lnTo>
                        <a:pt x="683" y="217"/>
                      </a:lnTo>
                      <a:lnTo>
                        <a:pt x="676" y="202"/>
                      </a:lnTo>
                      <a:lnTo>
                        <a:pt x="668" y="186"/>
                      </a:lnTo>
                      <a:lnTo>
                        <a:pt x="660" y="171"/>
                      </a:lnTo>
                      <a:lnTo>
                        <a:pt x="651" y="156"/>
                      </a:lnTo>
                      <a:lnTo>
                        <a:pt x="641" y="143"/>
                      </a:lnTo>
                      <a:lnTo>
                        <a:pt x="630" y="129"/>
                      </a:lnTo>
                      <a:lnTo>
                        <a:pt x="619" y="116"/>
                      </a:lnTo>
                      <a:lnTo>
                        <a:pt x="608" y="104"/>
                      </a:lnTo>
                      <a:lnTo>
                        <a:pt x="595" y="92"/>
                      </a:lnTo>
                      <a:lnTo>
                        <a:pt x="582" y="81"/>
                      </a:lnTo>
                      <a:lnTo>
                        <a:pt x="568" y="71"/>
                      </a:lnTo>
                      <a:lnTo>
                        <a:pt x="554" y="60"/>
                      </a:lnTo>
                      <a:lnTo>
                        <a:pt x="541" y="51"/>
                      </a:lnTo>
                      <a:lnTo>
                        <a:pt x="525" y="43"/>
                      </a:lnTo>
                      <a:lnTo>
                        <a:pt x="510" y="35"/>
                      </a:lnTo>
                      <a:lnTo>
                        <a:pt x="494" y="28"/>
                      </a:lnTo>
                      <a:lnTo>
                        <a:pt x="478" y="21"/>
                      </a:lnTo>
                      <a:lnTo>
                        <a:pt x="462" y="15"/>
                      </a:lnTo>
                      <a:lnTo>
                        <a:pt x="444" y="11"/>
                      </a:lnTo>
                      <a:lnTo>
                        <a:pt x="427" y="7"/>
                      </a:lnTo>
                      <a:lnTo>
                        <a:pt x="410" y="4"/>
                      </a:lnTo>
                      <a:lnTo>
                        <a:pt x="392" y="1"/>
                      </a:lnTo>
                      <a:lnTo>
                        <a:pt x="374" y="0"/>
                      </a:lnTo>
                      <a:lnTo>
                        <a:pt x="356" y="0"/>
                      </a:lnTo>
                      <a:lnTo>
                        <a:pt x="338" y="0"/>
                      </a:lnTo>
                      <a:lnTo>
                        <a:pt x="319" y="1"/>
                      </a:lnTo>
                      <a:lnTo>
                        <a:pt x="302" y="4"/>
                      </a:lnTo>
                      <a:lnTo>
                        <a:pt x="285" y="7"/>
                      </a:lnTo>
                      <a:lnTo>
                        <a:pt x="267" y="11"/>
                      </a:lnTo>
                      <a:lnTo>
                        <a:pt x="250" y="15"/>
                      </a:lnTo>
                      <a:lnTo>
                        <a:pt x="234" y="21"/>
                      </a:lnTo>
                      <a:lnTo>
                        <a:pt x="217" y="28"/>
                      </a:lnTo>
                      <a:lnTo>
                        <a:pt x="201" y="35"/>
                      </a:lnTo>
                      <a:lnTo>
                        <a:pt x="186" y="43"/>
                      </a:lnTo>
                      <a:lnTo>
                        <a:pt x="171" y="51"/>
                      </a:lnTo>
                      <a:lnTo>
                        <a:pt x="157" y="60"/>
                      </a:lnTo>
                      <a:lnTo>
                        <a:pt x="143" y="71"/>
                      </a:lnTo>
                      <a:lnTo>
                        <a:pt x="129" y="81"/>
                      </a:lnTo>
                      <a:lnTo>
                        <a:pt x="117" y="92"/>
                      </a:lnTo>
                      <a:lnTo>
                        <a:pt x="104" y="104"/>
                      </a:lnTo>
                      <a:lnTo>
                        <a:pt x="92" y="116"/>
                      </a:lnTo>
                      <a:lnTo>
                        <a:pt x="82" y="129"/>
                      </a:lnTo>
                      <a:lnTo>
                        <a:pt x="70" y="143"/>
                      </a:lnTo>
                      <a:lnTo>
                        <a:pt x="61" y="156"/>
                      </a:lnTo>
                      <a:lnTo>
                        <a:pt x="52" y="171"/>
                      </a:lnTo>
                      <a:lnTo>
                        <a:pt x="44" y="186"/>
                      </a:lnTo>
                      <a:lnTo>
                        <a:pt x="36" y="202"/>
                      </a:lnTo>
                      <a:lnTo>
                        <a:pt x="29" y="217"/>
                      </a:lnTo>
                      <a:lnTo>
                        <a:pt x="22" y="233"/>
                      </a:lnTo>
                      <a:lnTo>
                        <a:pt x="16" y="249"/>
                      </a:lnTo>
                      <a:lnTo>
                        <a:pt x="11" y="266"/>
                      </a:lnTo>
                      <a:lnTo>
                        <a:pt x="8" y="284"/>
                      </a:lnTo>
                      <a:lnTo>
                        <a:pt x="4" y="301"/>
                      </a:lnTo>
                      <a:lnTo>
                        <a:pt x="2" y="320"/>
                      </a:lnTo>
                      <a:lnTo>
                        <a:pt x="1" y="337"/>
                      </a:lnTo>
                      <a:lnTo>
                        <a:pt x="0" y="355"/>
                      </a:lnTo>
                      <a:lnTo>
                        <a:pt x="1" y="374"/>
                      </a:lnTo>
                      <a:lnTo>
                        <a:pt x="2" y="392"/>
                      </a:lnTo>
                      <a:lnTo>
                        <a:pt x="4" y="410"/>
                      </a:lnTo>
                      <a:lnTo>
                        <a:pt x="8" y="427"/>
                      </a:lnTo>
                      <a:lnTo>
                        <a:pt x="11" y="445"/>
                      </a:lnTo>
                      <a:lnTo>
                        <a:pt x="16" y="462"/>
                      </a:lnTo>
                      <a:lnTo>
                        <a:pt x="22" y="478"/>
                      </a:lnTo>
                      <a:lnTo>
                        <a:pt x="29" y="494"/>
                      </a:lnTo>
                      <a:lnTo>
                        <a:pt x="36" y="511"/>
                      </a:lnTo>
                      <a:lnTo>
                        <a:pt x="44" y="526"/>
                      </a:lnTo>
                      <a:lnTo>
                        <a:pt x="52" y="541"/>
                      </a:lnTo>
                      <a:lnTo>
                        <a:pt x="61" y="555"/>
                      </a:lnTo>
                      <a:lnTo>
                        <a:pt x="70" y="568"/>
                      </a:lnTo>
                      <a:lnTo>
                        <a:pt x="82" y="582"/>
                      </a:lnTo>
                      <a:lnTo>
                        <a:pt x="92" y="595"/>
                      </a:lnTo>
                      <a:lnTo>
                        <a:pt x="104" y="608"/>
                      </a:lnTo>
                      <a:lnTo>
                        <a:pt x="117" y="619"/>
                      </a:lnTo>
                      <a:lnTo>
                        <a:pt x="129" y="630"/>
                      </a:lnTo>
                      <a:lnTo>
                        <a:pt x="143" y="640"/>
                      </a:lnTo>
                      <a:lnTo>
                        <a:pt x="157" y="651"/>
                      </a:lnTo>
                      <a:lnTo>
                        <a:pt x="171" y="660"/>
                      </a:lnTo>
                      <a:lnTo>
                        <a:pt x="186" y="668"/>
                      </a:lnTo>
                      <a:lnTo>
                        <a:pt x="201" y="676"/>
                      </a:lnTo>
                      <a:lnTo>
                        <a:pt x="217" y="683"/>
                      </a:lnTo>
                      <a:lnTo>
                        <a:pt x="234" y="690"/>
                      </a:lnTo>
                      <a:lnTo>
                        <a:pt x="250" y="696"/>
                      </a:lnTo>
                      <a:lnTo>
                        <a:pt x="267" y="700"/>
                      </a:lnTo>
                      <a:lnTo>
                        <a:pt x="285" y="704"/>
                      </a:lnTo>
                      <a:lnTo>
                        <a:pt x="302" y="707"/>
                      </a:lnTo>
                      <a:lnTo>
                        <a:pt x="319" y="710"/>
                      </a:lnTo>
                      <a:lnTo>
                        <a:pt x="338" y="711"/>
                      </a:lnTo>
                      <a:lnTo>
                        <a:pt x="356" y="712"/>
                      </a:lnTo>
                      <a:close/>
                    </a:path>
                  </a:pathLst>
                </a:custGeom>
                <a:solidFill>
                  <a:srgbClr val="80008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061" name="Freeform 17"/>
                <p:cNvSpPr/>
                <p:nvPr/>
              </p:nvSpPr>
              <p:spPr>
                <a:xfrm flipH="1">
                  <a:off x="6134040" y="4472640"/>
                  <a:ext cx="169560" cy="231840"/>
                </a:xfrm>
                <a:custGeom>
                  <a:avLst/>
                  <a:gdLst>
                    <a:gd name="textAreaLeft" fmla="*/ 0 w 169560"/>
                    <a:gd name="textAreaRight" fmla="*/ 169560 w 169560"/>
                    <a:gd name="textAreaTop" fmla="*/ 0 h 231840"/>
                    <a:gd name="textAreaBottom" fmla="*/ 232200 h 231840"/>
                  </a:gdLst>
                  <a:ahLst/>
                  <a:rect l="textAreaLeft" t="textAreaTop" r="textAreaRight" b="textAreaBottom"/>
                  <a:pathLst>
                    <a:path w="235" h="300">
                      <a:moveTo>
                        <a:pt x="58" y="300"/>
                      </a:moveTo>
                      <a:lnTo>
                        <a:pt x="54" y="97"/>
                      </a:lnTo>
                      <a:lnTo>
                        <a:pt x="33" y="276"/>
                      </a:lnTo>
                      <a:lnTo>
                        <a:pt x="0" y="276"/>
                      </a:lnTo>
                      <a:lnTo>
                        <a:pt x="18" y="17"/>
                      </a:lnTo>
                      <a:lnTo>
                        <a:pt x="94" y="0"/>
                      </a:lnTo>
                      <a:lnTo>
                        <a:pt x="143" y="0"/>
                      </a:lnTo>
                      <a:lnTo>
                        <a:pt x="217" y="17"/>
                      </a:lnTo>
                      <a:lnTo>
                        <a:pt x="235" y="276"/>
                      </a:lnTo>
                      <a:lnTo>
                        <a:pt x="202" y="276"/>
                      </a:lnTo>
                      <a:lnTo>
                        <a:pt x="181" y="97"/>
                      </a:lnTo>
                      <a:lnTo>
                        <a:pt x="178" y="300"/>
                      </a:lnTo>
                      <a:lnTo>
                        <a:pt x="58" y="30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62" name="Group 18"/>
              <p:cNvGrpSpPr/>
              <p:nvPr/>
            </p:nvGrpSpPr>
            <p:grpSpPr>
              <a:xfrm>
                <a:off x="6049800" y="4382280"/>
                <a:ext cx="157320" cy="321840"/>
                <a:chOff x="6049800" y="4382280"/>
                <a:chExt cx="157320" cy="321840"/>
              </a:xfrm>
            </p:grpSpPr>
            <p:sp>
              <p:nvSpPr>
                <p:cNvPr id="1063" name="Freeform 19"/>
                <p:cNvSpPr/>
                <p:nvPr/>
              </p:nvSpPr>
              <p:spPr>
                <a:xfrm flipH="1">
                  <a:off x="6094080" y="4382280"/>
                  <a:ext cx="69480" cy="81720"/>
                </a:xfrm>
                <a:custGeom>
                  <a:avLst/>
                  <a:gdLst>
                    <a:gd name="textAreaLeft" fmla="*/ -360 w 69480"/>
                    <a:gd name="textAreaRight" fmla="*/ 69480 w 69480"/>
                    <a:gd name="textAreaTop" fmla="*/ 0 h 81720"/>
                    <a:gd name="textAreaBottom" fmla="*/ 82080 h 81720"/>
                  </a:gdLst>
                  <a:ahLst/>
                  <a:rect l="textAreaLeft" t="textAreaTop" r="textAreaRight" b="textAreaBottom"/>
                  <a:pathLst>
                    <a:path w="712" h="712">
                      <a:moveTo>
                        <a:pt x="356" y="712"/>
                      </a:moveTo>
                      <a:lnTo>
                        <a:pt x="374" y="711"/>
                      </a:lnTo>
                      <a:lnTo>
                        <a:pt x="392" y="710"/>
                      </a:lnTo>
                      <a:lnTo>
                        <a:pt x="410" y="707"/>
                      </a:lnTo>
                      <a:lnTo>
                        <a:pt x="427" y="704"/>
                      </a:lnTo>
                      <a:lnTo>
                        <a:pt x="444" y="700"/>
                      </a:lnTo>
                      <a:lnTo>
                        <a:pt x="462" y="696"/>
                      </a:lnTo>
                      <a:lnTo>
                        <a:pt x="478" y="690"/>
                      </a:lnTo>
                      <a:lnTo>
                        <a:pt x="494" y="683"/>
                      </a:lnTo>
                      <a:lnTo>
                        <a:pt x="510" y="676"/>
                      </a:lnTo>
                      <a:lnTo>
                        <a:pt x="525" y="668"/>
                      </a:lnTo>
                      <a:lnTo>
                        <a:pt x="541" y="660"/>
                      </a:lnTo>
                      <a:lnTo>
                        <a:pt x="554" y="651"/>
                      </a:lnTo>
                      <a:lnTo>
                        <a:pt x="568" y="640"/>
                      </a:lnTo>
                      <a:lnTo>
                        <a:pt x="582" y="630"/>
                      </a:lnTo>
                      <a:lnTo>
                        <a:pt x="595" y="619"/>
                      </a:lnTo>
                      <a:lnTo>
                        <a:pt x="608" y="608"/>
                      </a:lnTo>
                      <a:lnTo>
                        <a:pt x="619" y="595"/>
                      </a:lnTo>
                      <a:lnTo>
                        <a:pt x="630" y="582"/>
                      </a:lnTo>
                      <a:lnTo>
                        <a:pt x="641" y="568"/>
                      </a:lnTo>
                      <a:lnTo>
                        <a:pt x="651" y="555"/>
                      </a:lnTo>
                      <a:lnTo>
                        <a:pt x="660" y="541"/>
                      </a:lnTo>
                      <a:lnTo>
                        <a:pt x="668" y="526"/>
                      </a:lnTo>
                      <a:lnTo>
                        <a:pt x="676" y="511"/>
                      </a:lnTo>
                      <a:lnTo>
                        <a:pt x="683" y="494"/>
                      </a:lnTo>
                      <a:lnTo>
                        <a:pt x="690" y="478"/>
                      </a:lnTo>
                      <a:lnTo>
                        <a:pt x="696" y="462"/>
                      </a:lnTo>
                      <a:lnTo>
                        <a:pt x="700" y="445"/>
                      </a:lnTo>
                      <a:lnTo>
                        <a:pt x="704" y="427"/>
                      </a:lnTo>
                      <a:lnTo>
                        <a:pt x="707" y="410"/>
                      </a:lnTo>
                      <a:lnTo>
                        <a:pt x="710" y="392"/>
                      </a:lnTo>
                      <a:lnTo>
                        <a:pt x="711" y="374"/>
                      </a:lnTo>
                      <a:lnTo>
                        <a:pt x="712" y="355"/>
                      </a:lnTo>
                      <a:lnTo>
                        <a:pt x="711" y="337"/>
                      </a:lnTo>
                      <a:lnTo>
                        <a:pt x="710" y="320"/>
                      </a:lnTo>
                      <a:lnTo>
                        <a:pt x="707" y="301"/>
                      </a:lnTo>
                      <a:lnTo>
                        <a:pt x="704" y="284"/>
                      </a:lnTo>
                      <a:lnTo>
                        <a:pt x="700" y="266"/>
                      </a:lnTo>
                      <a:lnTo>
                        <a:pt x="696" y="249"/>
                      </a:lnTo>
                      <a:lnTo>
                        <a:pt x="690" y="233"/>
                      </a:lnTo>
                      <a:lnTo>
                        <a:pt x="683" y="217"/>
                      </a:lnTo>
                      <a:lnTo>
                        <a:pt x="676" y="202"/>
                      </a:lnTo>
                      <a:lnTo>
                        <a:pt x="668" y="186"/>
                      </a:lnTo>
                      <a:lnTo>
                        <a:pt x="660" y="171"/>
                      </a:lnTo>
                      <a:lnTo>
                        <a:pt x="651" y="156"/>
                      </a:lnTo>
                      <a:lnTo>
                        <a:pt x="641" y="143"/>
                      </a:lnTo>
                      <a:lnTo>
                        <a:pt x="630" y="129"/>
                      </a:lnTo>
                      <a:lnTo>
                        <a:pt x="619" y="116"/>
                      </a:lnTo>
                      <a:lnTo>
                        <a:pt x="608" y="104"/>
                      </a:lnTo>
                      <a:lnTo>
                        <a:pt x="595" y="92"/>
                      </a:lnTo>
                      <a:lnTo>
                        <a:pt x="582" y="81"/>
                      </a:lnTo>
                      <a:lnTo>
                        <a:pt x="568" y="71"/>
                      </a:lnTo>
                      <a:lnTo>
                        <a:pt x="554" y="60"/>
                      </a:lnTo>
                      <a:lnTo>
                        <a:pt x="541" y="51"/>
                      </a:lnTo>
                      <a:lnTo>
                        <a:pt x="525" y="43"/>
                      </a:lnTo>
                      <a:lnTo>
                        <a:pt x="510" y="35"/>
                      </a:lnTo>
                      <a:lnTo>
                        <a:pt x="494" y="28"/>
                      </a:lnTo>
                      <a:lnTo>
                        <a:pt x="478" y="21"/>
                      </a:lnTo>
                      <a:lnTo>
                        <a:pt x="462" y="15"/>
                      </a:lnTo>
                      <a:lnTo>
                        <a:pt x="444" y="11"/>
                      </a:lnTo>
                      <a:lnTo>
                        <a:pt x="427" y="7"/>
                      </a:lnTo>
                      <a:lnTo>
                        <a:pt x="410" y="4"/>
                      </a:lnTo>
                      <a:lnTo>
                        <a:pt x="392" y="1"/>
                      </a:lnTo>
                      <a:lnTo>
                        <a:pt x="374" y="0"/>
                      </a:lnTo>
                      <a:lnTo>
                        <a:pt x="356" y="0"/>
                      </a:lnTo>
                      <a:lnTo>
                        <a:pt x="338" y="0"/>
                      </a:lnTo>
                      <a:lnTo>
                        <a:pt x="319" y="1"/>
                      </a:lnTo>
                      <a:lnTo>
                        <a:pt x="302" y="4"/>
                      </a:lnTo>
                      <a:lnTo>
                        <a:pt x="285" y="7"/>
                      </a:lnTo>
                      <a:lnTo>
                        <a:pt x="267" y="11"/>
                      </a:lnTo>
                      <a:lnTo>
                        <a:pt x="250" y="15"/>
                      </a:lnTo>
                      <a:lnTo>
                        <a:pt x="234" y="21"/>
                      </a:lnTo>
                      <a:lnTo>
                        <a:pt x="217" y="28"/>
                      </a:lnTo>
                      <a:lnTo>
                        <a:pt x="201" y="35"/>
                      </a:lnTo>
                      <a:lnTo>
                        <a:pt x="186" y="43"/>
                      </a:lnTo>
                      <a:lnTo>
                        <a:pt x="171" y="51"/>
                      </a:lnTo>
                      <a:lnTo>
                        <a:pt x="157" y="60"/>
                      </a:lnTo>
                      <a:lnTo>
                        <a:pt x="143" y="71"/>
                      </a:lnTo>
                      <a:lnTo>
                        <a:pt x="129" y="81"/>
                      </a:lnTo>
                      <a:lnTo>
                        <a:pt x="117" y="92"/>
                      </a:lnTo>
                      <a:lnTo>
                        <a:pt x="104" y="104"/>
                      </a:lnTo>
                      <a:lnTo>
                        <a:pt x="92" y="116"/>
                      </a:lnTo>
                      <a:lnTo>
                        <a:pt x="82" y="129"/>
                      </a:lnTo>
                      <a:lnTo>
                        <a:pt x="70" y="143"/>
                      </a:lnTo>
                      <a:lnTo>
                        <a:pt x="61" y="156"/>
                      </a:lnTo>
                      <a:lnTo>
                        <a:pt x="52" y="171"/>
                      </a:lnTo>
                      <a:lnTo>
                        <a:pt x="44" y="186"/>
                      </a:lnTo>
                      <a:lnTo>
                        <a:pt x="36" y="202"/>
                      </a:lnTo>
                      <a:lnTo>
                        <a:pt x="29" y="217"/>
                      </a:lnTo>
                      <a:lnTo>
                        <a:pt x="22" y="233"/>
                      </a:lnTo>
                      <a:lnTo>
                        <a:pt x="16" y="249"/>
                      </a:lnTo>
                      <a:lnTo>
                        <a:pt x="11" y="266"/>
                      </a:lnTo>
                      <a:lnTo>
                        <a:pt x="8" y="284"/>
                      </a:lnTo>
                      <a:lnTo>
                        <a:pt x="4" y="301"/>
                      </a:lnTo>
                      <a:lnTo>
                        <a:pt x="2" y="320"/>
                      </a:lnTo>
                      <a:lnTo>
                        <a:pt x="1" y="337"/>
                      </a:lnTo>
                      <a:lnTo>
                        <a:pt x="0" y="355"/>
                      </a:lnTo>
                      <a:lnTo>
                        <a:pt x="1" y="374"/>
                      </a:lnTo>
                      <a:lnTo>
                        <a:pt x="2" y="392"/>
                      </a:lnTo>
                      <a:lnTo>
                        <a:pt x="4" y="410"/>
                      </a:lnTo>
                      <a:lnTo>
                        <a:pt x="8" y="427"/>
                      </a:lnTo>
                      <a:lnTo>
                        <a:pt x="11" y="445"/>
                      </a:lnTo>
                      <a:lnTo>
                        <a:pt x="16" y="462"/>
                      </a:lnTo>
                      <a:lnTo>
                        <a:pt x="22" y="478"/>
                      </a:lnTo>
                      <a:lnTo>
                        <a:pt x="29" y="494"/>
                      </a:lnTo>
                      <a:lnTo>
                        <a:pt x="36" y="511"/>
                      </a:lnTo>
                      <a:lnTo>
                        <a:pt x="44" y="526"/>
                      </a:lnTo>
                      <a:lnTo>
                        <a:pt x="52" y="541"/>
                      </a:lnTo>
                      <a:lnTo>
                        <a:pt x="61" y="555"/>
                      </a:lnTo>
                      <a:lnTo>
                        <a:pt x="70" y="568"/>
                      </a:lnTo>
                      <a:lnTo>
                        <a:pt x="82" y="582"/>
                      </a:lnTo>
                      <a:lnTo>
                        <a:pt x="92" y="595"/>
                      </a:lnTo>
                      <a:lnTo>
                        <a:pt x="104" y="608"/>
                      </a:lnTo>
                      <a:lnTo>
                        <a:pt x="117" y="619"/>
                      </a:lnTo>
                      <a:lnTo>
                        <a:pt x="129" y="630"/>
                      </a:lnTo>
                      <a:lnTo>
                        <a:pt x="143" y="640"/>
                      </a:lnTo>
                      <a:lnTo>
                        <a:pt x="157" y="651"/>
                      </a:lnTo>
                      <a:lnTo>
                        <a:pt x="171" y="660"/>
                      </a:lnTo>
                      <a:lnTo>
                        <a:pt x="186" y="668"/>
                      </a:lnTo>
                      <a:lnTo>
                        <a:pt x="201" y="676"/>
                      </a:lnTo>
                      <a:lnTo>
                        <a:pt x="217" y="683"/>
                      </a:lnTo>
                      <a:lnTo>
                        <a:pt x="234" y="690"/>
                      </a:lnTo>
                      <a:lnTo>
                        <a:pt x="250" y="696"/>
                      </a:lnTo>
                      <a:lnTo>
                        <a:pt x="267" y="700"/>
                      </a:lnTo>
                      <a:lnTo>
                        <a:pt x="285" y="704"/>
                      </a:lnTo>
                      <a:lnTo>
                        <a:pt x="302" y="707"/>
                      </a:lnTo>
                      <a:lnTo>
                        <a:pt x="319" y="710"/>
                      </a:lnTo>
                      <a:lnTo>
                        <a:pt x="338" y="711"/>
                      </a:lnTo>
                      <a:lnTo>
                        <a:pt x="356" y="712"/>
                      </a:lnTo>
                      <a:close/>
                    </a:path>
                  </a:pathLst>
                </a:custGeom>
                <a:solidFill>
                  <a:srgbClr val="c050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064" name="Freeform 20"/>
                <p:cNvSpPr/>
                <p:nvPr/>
              </p:nvSpPr>
              <p:spPr>
                <a:xfrm flipH="1">
                  <a:off x="6049440" y="4466160"/>
                  <a:ext cx="157320" cy="237960"/>
                </a:xfrm>
                <a:custGeom>
                  <a:avLst/>
                  <a:gdLst>
                    <a:gd name="textAreaLeft" fmla="*/ -360 w 157320"/>
                    <a:gd name="textAreaRight" fmla="*/ 157320 w 157320"/>
                    <a:gd name="textAreaTop" fmla="*/ 0 h 237960"/>
                    <a:gd name="textAreaBottom" fmla="*/ 238320 h 237960"/>
                  </a:gdLst>
                  <a:ahLst/>
                  <a:rect l="textAreaLeft" t="textAreaTop" r="textAreaRight" b="textAreaBottom"/>
                  <a:pathLst>
                    <a:path w="219" h="309">
                      <a:moveTo>
                        <a:pt x="49" y="309"/>
                      </a:moveTo>
                      <a:lnTo>
                        <a:pt x="45" y="230"/>
                      </a:lnTo>
                      <a:lnTo>
                        <a:pt x="65" y="153"/>
                      </a:lnTo>
                      <a:lnTo>
                        <a:pt x="50" y="109"/>
                      </a:lnTo>
                      <a:lnTo>
                        <a:pt x="30" y="288"/>
                      </a:lnTo>
                      <a:lnTo>
                        <a:pt x="0" y="288"/>
                      </a:lnTo>
                      <a:cubicBezTo>
                        <a:pt x="0" y="245"/>
                        <a:pt x="17" y="75"/>
                        <a:pt x="29" y="28"/>
                      </a:cubicBezTo>
                      <a:cubicBezTo>
                        <a:pt x="37" y="7"/>
                        <a:pt x="71" y="10"/>
                        <a:pt x="87" y="12"/>
                      </a:cubicBezTo>
                      <a:lnTo>
                        <a:pt x="110" y="38"/>
                      </a:lnTo>
                      <a:lnTo>
                        <a:pt x="132" y="12"/>
                      </a:lnTo>
                      <a:cubicBezTo>
                        <a:pt x="144" y="9"/>
                        <a:pt x="176" y="0"/>
                        <a:pt x="182" y="21"/>
                      </a:cubicBezTo>
                      <a:cubicBezTo>
                        <a:pt x="197" y="66"/>
                        <a:pt x="219" y="245"/>
                        <a:pt x="217" y="288"/>
                      </a:cubicBezTo>
                      <a:lnTo>
                        <a:pt x="187" y="288"/>
                      </a:lnTo>
                      <a:lnTo>
                        <a:pt x="167" y="109"/>
                      </a:lnTo>
                      <a:lnTo>
                        <a:pt x="153" y="159"/>
                      </a:lnTo>
                      <a:lnTo>
                        <a:pt x="168" y="234"/>
                      </a:lnTo>
                      <a:lnTo>
                        <a:pt x="163" y="309"/>
                      </a:lnTo>
                      <a:lnTo>
                        <a:pt x="49" y="309"/>
                      </a:lnTo>
                      <a:close/>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57480" y="720720"/>
            <a:ext cx="4800600" cy="3600360"/>
          </a:xfrm>
          <a:prstGeom prst="rect">
            <a:avLst/>
          </a:prstGeom>
          <a:ln w="0">
            <a:noFill/>
          </a:ln>
        </p:spPr>
      </p:sp>
      <p:sp>
        <p:nvSpPr>
          <p:cNvPr id="10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2597-5B8D-4138-80E2-1FFE90633514}"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257480" y="720720"/>
            <a:ext cx="4800600" cy="3600360"/>
          </a:xfrm>
          <a:prstGeom prst="rect">
            <a:avLst/>
          </a:prstGeom>
          <a:ln w="0">
            <a:noFill/>
          </a:ln>
        </p:spPr>
      </p:sp>
      <p:sp>
        <p:nvSpPr>
          <p:cNvPr id="10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7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3A1E-FDB2-4BD7-BB2B-01697C0E27B4}"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258920" y="720720"/>
            <a:ext cx="4799160" cy="3598920"/>
          </a:xfrm>
          <a:prstGeom prst="rect">
            <a:avLst/>
          </a:prstGeom>
          <a:ln w="0">
            <a:noFill/>
          </a:ln>
        </p:spPr>
      </p:sp>
      <p:sp>
        <p:nvSpPr>
          <p:cNvPr id="1005" name="PlaceHolder 2"/>
          <p:cNvSpPr>
            <a:spLocks noGrp="1"/>
          </p:cNvSpPr>
          <p:nvPr>
            <p:ph type="body"/>
          </p:nvPr>
        </p:nvSpPr>
        <p:spPr>
          <a:xfrm>
            <a:off x="731880" y="4560480"/>
            <a:ext cx="5851440" cy="4319640"/>
          </a:xfrm>
          <a:prstGeom prst="rect">
            <a:avLst/>
          </a:prstGeom>
          <a:noFill/>
          <a:ln w="0">
            <a:noFill/>
          </a:ln>
        </p:spPr>
        <p:txBody>
          <a:bodyPr lIns="94320" rIns="94320" tIns="47160" bIns="4716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im of this lecture </a:t>
            </a:r>
            <a:r>
              <a:rPr b="0" lang="en-GB" sz="1200" spc="-1" strike="noStrike">
                <a:solidFill>
                  <a:srgbClr val="000000"/>
                </a:solidFill>
                <a:latin typeface="Calibri"/>
              </a:rPr>
              <a:t>is to increase awareness of the kind of diversities that may be encountered, including cultural diversity. </a:t>
            </a:r>
            <a:endParaRPr b="0" lang="en-US" sz="12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tion is also to reduce the possibilities for misunderstandings to occur while enhancing opportunities for clear and positive communications </a:t>
            </a:r>
            <a:r>
              <a:rPr b="0" lang="en-US" sz="1200" spc="-1" strike="noStrike">
                <a:solidFill>
                  <a:srgbClr val="000000"/>
                </a:solidFill>
                <a:latin typeface="Calibri"/>
              </a:rPr>
              <a:t>during Peacekeeping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FB9D7D0-0415-4790-B735-ACD00D77E5C0}" type="slidenum">
              <a:rPr b="0" lang="en-GB" sz="1100" spc="-1" strike="noStrike">
                <a:solidFill>
                  <a:srgbClr val="000000"/>
                </a:solidFill>
                <a:latin typeface="Arial"/>
              </a:rPr>
              <a:t>&lt;number&gt;</a:t>
            </a:fld>
            <a:endParaRPr b="0" lang="en-US" sz="11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57480" y="720720"/>
            <a:ext cx="4800600" cy="3600360"/>
          </a:xfrm>
          <a:prstGeom prst="rect">
            <a:avLst/>
          </a:prstGeom>
          <a:ln w="0">
            <a:noFill/>
          </a:ln>
        </p:spPr>
      </p:sp>
      <p:sp>
        <p:nvSpPr>
          <p:cNvPr id="10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1" lang="en-GB" sz="1200" spc="-1" strike="noStrike">
                <a:solidFill>
                  <a:srgbClr val="000000"/>
                </a:solidFill>
                <a:latin typeface="Calibri"/>
              </a:rPr>
              <a:t>Take time to understand what is happening. </a:t>
            </a:r>
            <a:r>
              <a:rPr b="0" lang="en-GB" sz="1200" spc="-1" strike="noStrike">
                <a:solidFill>
                  <a:srgbClr val="000000"/>
                </a:solidFill>
                <a:latin typeface="Calibri"/>
              </a:rPr>
              <a:t>It may be that the person comes from a national or professional culture 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ne should never disagree with a sup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ne should always air their opinions, even if they are in direct disagreement with a sup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pinions and ideas should not be shared ope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Deals are made outside of public meeting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57480" y="720720"/>
            <a:ext cx="4800600" cy="3600360"/>
          </a:xfrm>
          <a:prstGeom prst="rect">
            <a:avLst/>
          </a:prstGeom>
          <a:ln w="0">
            <a:noFill/>
          </a:ln>
        </p:spPr>
      </p:sp>
      <p:sp>
        <p:nvSpPr>
          <p:cNvPr id="10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e aware that many nations have no tradition of being on time. This may have practical reasons as the local traffic being congested or local weather having influence on traffic. This even happens for employees at the UN Headquarters in New York. Find out what the local culture practices about punctuality. Do not take it as an insult if the locals don not show up on time and are in no hurr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ldiers and policemen are punctua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t in the host country people may not be slaves of the clock</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one mission the answer from the local militia chief was: ”You have the clock, we have the tim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on time’ is relative in different contexts. The military has its own understanding of punctuality, or what being “on time” means, which may differ greatly from civilian practices or what the local community does. Being late can have different meanings culturally and should not necessarily be taken as a sign of disrespect or lack of consideration. Try to </a:t>
            </a:r>
            <a:r>
              <a:rPr b="1" lang="en-US" sz="1200" spc="-1" strike="noStrike">
                <a:solidFill>
                  <a:srgbClr val="000000"/>
                </a:solidFill>
                <a:latin typeface="Calibri"/>
              </a:rPr>
              <a:t>reserve judgement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meaning behind different attitudes and practices regard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57480" y="720720"/>
            <a:ext cx="4800600" cy="3600360"/>
          </a:xfrm>
          <a:prstGeom prst="rect">
            <a:avLst/>
          </a:prstGeom>
          <a:ln w="0">
            <a:noFill/>
          </a:ln>
        </p:spPr>
      </p:sp>
      <p:sp>
        <p:nvSpPr>
          <p:cNvPr id="10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pril 2002 a UN Department of Peacekeeping Operations training team was invited to Iran to present lectures to students from Iran, Serbia, Sri Lanka and other new troop contributing countries. Everything went perfectly well and the course was a real success. Only one person went home a little bit embarrassed. It was a UN staff member, who got excellent help from the Iranians and wanted to show his appreciation. Thus he gave them not only on thumb up but “two thumbs up”. In New York this shows your highest consideration for people, who assist you. Iranians are very polite people. They did not show their surprise. But as they got more thumbs up, they started to wonder. Did he not like them? Did they not provide him extra services? Eventually he was told by a middleman that the sign in Iran was extremely rude. The worst non verbal message anybody can sen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wo other very important issues are eye contact and “lose fac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Eye contact is a “must” in many cultures. If you do not look into peoples eyes, you may not be considered honest. Also with the eye contact you may make sure that the other person is listening to you. But in other cultures it is offensive to look people directly into their ey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Never make anybody lose face in public. Losing face means undermining status and authority. So do not reprimand anybody in  public or create a win-lose situation in a negoti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e concrete example of losing face. At a checkpoint in the Lebanon a family was searched at a checkpoint. However, the peacekeeper was not polite. He did not act in the spirit of the SOP. He was rude. While the wife watched the husband was searched in a very impolite manner. This hurt his manhood. His wife saw how he was treated and thus he lost face towards his wife. It was unnecessary and the check point later suffered of bad relations to the husband and his large famil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ross cultural awareness is about rules, which may not be written down. But even then, some cultural issues are so important that they are included even in the missions SOP. One example more from the SOP in UNIFIL is to be careful, where, when and whom you take a photograph of.</a:t>
            </a: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A1A118-B02A-4512-AC8D-6555845AC5B4}" type="slidenum">
              <a:rPr b="0" lang="en-GB" sz="1300" spc="-1" strike="noStrike">
                <a:solidFill>
                  <a:srgbClr val="000000"/>
                </a:solidFill>
                <a:latin typeface="Times New Roman"/>
              </a:rPr>
              <a:t>&lt;number&gt;</a:t>
            </a:fld>
            <a:endParaRPr b="0" lang="en-US" sz="1300" spc="-1" strike="noStrike">
              <a:solidFill>
                <a:srgbClr val="000000"/>
              </a:solidFill>
              <a:latin typeface="Calibri"/>
            </a:endParaRPr>
          </a:p>
        </p:txBody>
      </p:sp>
      <p:sp>
        <p:nvSpPr>
          <p:cNvPr id="1078" name="PlaceHolder 1"/>
          <p:cNvSpPr>
            <a:spLocks noGrp="1"/>
          </p:cNvSpPr>
          <p:nvPr>
            <p:ph type="sldImg"/>
          </p:nvPr>
        </p:nvSpPr>
        <p:spPr>
          <a:xfrm>
            <a:off x="1257480" y="720720"/>
            <a:ext cx="4800600" cy="3600360"/>
          </a:xfrm>
          <a:prstGeom prst="rect">
            <a:avLst/>
          </a:prstGeom>
          <a:ln w="0">
            <a:noFill/>
          </a:ln>
        </p:spPr>
      </p:sp>
      <p:sp>
        <p:nvSpPr>
          <p:cNvPr id="107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ew UN Blue Berets have English as their mother tongue. Even between US English and British English there are big differences. Not only in spelling, but also in meaning. For two peacekeepers talking English being non native spoken there is ample room for misunderstandings. So if you do not understand the message, ask to have it rephrased. Accents may also be heavy. This conversation was once overheard by a Danish peacekeeper in a UN HQ. A Major from India and a Major from Jordan were talking. Suddenly the Jordanian Major asked the other. “Are you talking Indian or English”. Some nations have a heavy accent as they speak English. Sometimes you may better understand, if the message is writ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t is extremely helpful if you speak just a few sentences of the local language. Local people will appreciate it and your job will be much easier.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e good example from real life: “An officer from  Ghana deployed with the UN in Cambodia was stopped by local bandits, who wanted to steal his car. But the  officer greeted them in the traditional Cambodian style and spoke some local words. Then the bandits started listening to him. Initially they were very hostile, but it gradually changed. Then he offered them a cigarette, and whenever he did not know a local word, he pointed to his pocket dictionary. The officer from Ghana was a very skilled UN peacekeeper and eventually the bandits let him go with everyth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just another  piece of good advice. Good humor makes somebody survive. But be careful. Humor is not cross cultural and your sense of humor may make you enemi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ew “languages” are common: Esperanto, mathematics, play from music (sheets of music) and the Morse alphabet.</a:t>
            </a: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257480" y="720720"/>
            <a:ext cx="4800600" cy="3600360"/>
          </a:xfrm>
          <a:prstGeom prst="rect">
            <a:avLst/>
          </a:prstGeom>
          <a:ln w="0">
            <a:noFill/>
          </a:ln>
        </p:spPr>
      </p:sp>
      <p:sp>
        <p:nvSpPr>
          <p:cNvPr id="10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nguage is culture-specific. Cultural undertones always exist in a person’s choice of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mmunication involves both speaking and hearing. When we speak our message (</a:t>
            </a:r>
            <a:r>
              <a:rPr b="1" lang="en-GB" sz="1200" spc="-1" strike="noStrike">
                <a:solidFill>
                  <a:srgbClr val="000000"/>
                </a:solidFill>
                <a:latin typeface="Calibri"/>
              </a:rPr>
              <a:t>original intention</a:t>
            </a:r>
            <a:r>
              <a:rPr b="0" lang="en-GB" sz="1200" spc="-1" strike="noStrike">
                <a:solidFill>
                  <a:srgbClr val="000000"/>
                </a:solidFill>
                <a:latin typeface="Calibri"/>
              </a:rPr>
              <a:t>), we are using the </a:t>
            </a:r>
            <a:r>
              <a:rPr b="1" lang="en-GB" sz="1200" spc="-1" strike="noStrike">
                <a:solidFill>
                  <a:srgbClr val="000000"/>
                </a:solidFill>
                <a:latin typeface="Calibri"/>
              </a:rPr>
              <a:t>language and idioms </a:t>
            </a:r>
            <a:r>
              <a:rPr b="0" lang="en-GB" sz="1200" spc="-1" strike="noStrike">
                <a:solidFill>
                  <a:srgbClr val="000000"/>
                </a:solidFill>
                <a:latin typeface="Calibri"/>
              </a:rPr>
              <a:t>of our own culture. Our message is also embedded with our </a:t>
            </a:r>
            <a:r>
              <a:rPr b="1" lang="en-GB" sz="1200" spc="-1" strike="noStrike">
                <a:solidFill>
                  <a:srgbClr val="000000"/>
                </a:solidFill>
                <a:latin typeface="Calibri"/>
              </a:rPr>
              <a:t>cultural norms and value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 listener is hearing our message through their own </a:t>
            </a:r>
            <a:r>
              <a:rPr b="1" lang="en-GB" sz="1200" spc="-1" strike="noStrike">
                <a:solidFill>
                  <a:srgbClr val="000000"/>
                </a:solidFill>
                <a:latin typeface="Calibri"/>
              </a:rPr>
              <a:t>filter </a:t>
            </a:r>
            <a:r>
              <a:rPr b="0" lang="en-GB" sz="1200" spc="-1" strike="noStrike">
                <a:solidFill>
                  <a:srgbClr val="000000"/>
                </a:solidFill>
                <a:latin typeface="Calibri"/>
              </a:rPr>
              <a:t>of language, use of idioms, norms and values. The message they receive may not be the same as the one we have intended to send. It is going through the receiver’s own filters and </a:t>
            </a:r>
            <a:r>
              <a:rPr b="1" lang="en-GB" sz="1200" spc="-1" strike="noStrike">
                <a:solidFill>
                  <a:srgbClr val="000000"/>
                </a:solidFill>
                <a:latin typeface="Calibri"/>
              </a:rPr>
              <a:t>results in their own understanding.</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257480" y="720720"/>
            <a:ext cx="4800600" cy="3600360"/>
          </a:xfrm>
          <a:prstGeom prst="rect">
            <a:avLst/>
          </a:prstGeom>
          <a:ln w="0">
            <a:noFill/>
          </a:ln>
        </p:spPr>
      </p:sp>
      <p:sp>
        <p:nvSpPr>
          <p:cNvPr id="10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Family ties are a key to a culture. Elders are greatly respected in many societies. As a rule, you will never go wrong by </a:t>
            </a:r>
            <a:r>
              <a:rPr b="1" lang="en-GB" sz="1200" spc="-1" strike="noStrike">
                <a:solidFill>
                  <a:srgbClr val="000000"/>
                </a:solidFill>
                <a:latin typeface="Calibri"/>
              </a:rPr>
              <a:t>paying respect to elder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t is also important to </a:t>
            </a:r>
            <a:r>
              <a:rPr b="1" lang="en-GB" sz="1200" spc="-1" strike="noStrike">
                <a:solidFill>
                  <a:srgbClr val="000000"/>
                </a:solidFill>
                <a:latin typeface="Calibri"/>
              </a:rPr>
              <a:t>understand the kinds of family ties </a:t>
            </a:r>
            <a:r>
              <a:rPr b="0" lang="en-GB" sz="1200" spc="-1" strike="noStrike">
                <a:solidFill>
                  <a:srgbClr val="000000"/>
                </a:solidFill>
                <a:latin typeface="Calibri"/>
              </a:rPr>
              <a:t>in the local population. The expectations and responsibilities may be very different than where you come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ake time to </a:t>
            </a:r>
            <a:r>
              <a:rPr b="1" lang="en-GB" sz="1200" spc="-1" strike="noStrike">
                <a:solidFill>
                  <a:srgbClr val="000000"/>
                </a:solidFill>
                <a:latin typeface="Calibri"/>
              </a:rPr>
              <a:t>understand the local roles and traditions for men and women </a:t>
            </a:r>
            <a:r>
              <a:rPr b="0" lang="en-GB" sz="1200" spc="-1" strike="noStrike">
                <a:solidFill>
                  <a:srgbClr val="000000"/>
                </a:solidFill>
                <a:latin typeface="Calibri"/>
              </a:rPr>
              <a:t>in the host country. These can vary greatly in different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Remember, your respect for local customs and traditions will reflect on the entire peacekeeping op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f you need specific information in order to be able to do your work, talk to the Gender Advisor or Gender Focal Point in the mission.</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257480" y="720720"/>
            <a:ext cx="4800600" cy="3600360"/>
          </a:xfrm>
          <a:prstGeom prst="rect">
            <a:avLst/>
          </a:prstGeom>
          <a:ln w="0">
            <a:noFill/>
          </a:ln>
        </p:spPr>
      </p:sp>
      <p:sp>
        <p:nvSpPr>
          <p:cNvPr id="108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ess codes can vary greatly between cultures based on prevailing </a:t>
            </a:r>
            <a:r>
              <a:rPr b="1" lang="en-GB" sz="1200" spc="-1" strike="noStrike">
                <a:solidFill>
                  <a:srgbClr val="000000"/>
                </a:solidFill>
                <a:latin typeface="Calibri"/>
              </a:rPr>
              <a:t>customs, climates </a:t>
            </a:r>
            <a:r>
              <a:rPr b="0" lang="en-GB" sz="1200" spc="-1" strike="noStrike">
                <a:solidFill>
                  <a:srgbClr val="000000"/>
                </a:solidFill>
                <a:latin typeface="Calibri"/>
              </a:rPr>
              <a:t>and religious traditions. Being sensitive and adapting to local clothing </a:t>
            </a:r>
            <a:r>
              <a:rPr b="1" lang="en-GB" sz="1200" spc="-1" strike="noStrike">
                <a:solidFill>
                  <a:srgbClr val="000000"/>
                </a:solidFill>
                <a:latin typeface="Calibri"/>
              </a:rPr>
              <a:t>norms </a:t>
            </a:r>
            <a:r>
              <a:rPr b="0" lang="en-GB" sz="1200" spc="-1" strike="noStrike">
                <a:solidFill>
                  <a:srgbClr val="000000"/>
                </a:solidFill>
                <a:latin typeface="Calibri"/>
              </a:rPr>
              <a:t>and concepts of modesty when in public can go a long way in demonstrating respect and facilitating connection with the host community.</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257480" y="720720"/>
            <a:ext cx="4800600" cy="3600360"/>
          </a:xfrm>
          <a:prstGeom prst="rect">
            <a:avLst/>
          </a:prstGeom>
          <a:ln w="0">
            <a:noFill/>
          </a:ln>
        </p:spPr>
      </p:sp>
      <p:sp>
        <p:nvSpPr>
          <p:cNvPr id="10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88"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52F609-44A1-400D-B6D7-CE1FF67B5ABA}"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E41F-469F-46A2-81A2-54A5EB162E6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08" name="PlaceHolder 1"/>
          <p:cNvSpPr>
            <a:spLocks noGrp="1"/>
          </p:cNvSpPr>
          <p:nvPr>
            <p:ph type="sldImg"/>
          </p:nvPr>
        </p:nvSpPr>
        <p:spPr>
          <a:xfrm>
            <a:off x="1255680" y="719280"/>
            <a:ext cx="4805280" cy="3603600"/>
          </a:xfrm>
          <a:prstGeom prst="rect">
            <a:avLst/>
          </a:prstGeom>
          <a:ln w="0">
            <a:noFill/>
          </a:ln>
        </p:spPr>
      </p:sp>
      <p:sp>
        <p:nvSpPr>
          <p:cNvPr id="1009" name="PlaceHolder 2"/>
          <p:cNvSpPr>
            <a:spLocks noGrp="1"/>
          </p:cNvSpPr>
          <p:nvPr>
            <p:ph type="body"/>
          </p:nvPr>
        </p:nvSpPr>
        <p:spPr>
          <a:xfrm>
            <a:off x="399600" y="4578120"/>
            <a:ext cx="6542280" cy="4732200"/>
          </a:xfrm>
          <a:prstGeom prst="rect">
            <a:avLst/>
          </a:prstGeom>
          <a:noFill/>
          <a:ln w="12600">
            <a:solidFill>
              <a:srgbClr val="000000"/>
            </a:solidFill>
            <a:miter/>
          </a:ln>
        </p:spPr>
        <p:txBody>
          <a:bodyPr lIns="90000" rIns="9000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Calibri"/>
              </a:rPr>
              <a:t>The Dimensions of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indicated, the material here is based on the Windham International Cultural Model (influenced by work by Hofstede and Trompena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formation is intended as reference material given the limited ti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ead of reviewing it, it may be helpful to provide a high-level explanation of the dimensions of culture and why they’re important</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we already discussed, a great deal of who we are is based on beliefs and values we hold</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ny of these beliefs and values come from our families and many of those are embedded within values held in the culture at larg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view nine dimensions and their primary concern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fferent cultures and parts of the world are often characterized by their different approaches to these dimensions of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dham International Cultural Model (1997) outlines nine dimensions of culture: relationships, time, communication, hierarchy, status attainment, space, group dependence, diversity receptivity, and change tolerance.  The model is intended as a tool for individuals to understand their own behaviour and the behaviour of individuals from other cultures. </a:t>
            </a:r>
            <a:endParaRPr b="0" lang="en-US" sz="1200" spc="-1" strike="noStrike">
              <a:solidFill>
                <a:srgbClr val="000000"/>
              </a:solidFill>
              <a:latin typeface="Calibri"/>
            </a:endParaRPr>
          </a:p>
        </p:txBody>
      </p:sp>
      <p:grpSp>
        <p:nvGrpSpPr>
          <p:cNvPr id="1010" name="Group 4"/>
          <p:cNvGrpSpPr/>
          <p:nvPr/>
        </p:nvGrpSpPr>
        <p:grpSpPr>
          <a:xfrm>
            <a:off x="5905440" y="4656240"/>
            <a:ext cx="581040" cy="614160"/>
            <a:chOff x="5905440" y="4656240"/>
            <a:chExt cx="581040" cy="614160"/>
          </a:xfrm>
        </p:grpSpPr>
        <p:sp>
          <p:nvSpPr>
            <p:cNvPr id="1011" name="AutoShape 5"/>
            <p:cNvSpPr/>
            <p:nvPr/>
          </p:nvSpPr>
          <p:spPr>
            <a:xfrm>
              <a:off x="5905440" y="4656240"/>
              <a:ext cx="581040" cy="614160"/>
            </a:xfrm>
            <a:custGeom>
              <a:avLst/>
              <a:gdLst>
                <a:gd name="textAreaLeft" fmla="*/ 28080 w 581040"/>
                <a:gd name="textAreaRight" fmla="*/ 552960 w 581040"/>
                <a:gd name="textAreaTop" fmla="*/ 28080 h 614160"/>
                <a:gd name="textAreaBottom" fmla="*/ 586080 h 614160"/>
              </a:gdLst>
              <a:ahLst/>
              <a:rect l="textAreaLeft" t="textAreaTop" r="textAreaRight" b="textAreaBottom"/>
              <a:pathLst>
                <a:path w="21600" h="22830">
                  <a:moveTo>
                    <a:pt x="3600" y="0"/>
                  </a:moveTo>
                  <a:arcTo wR="3600" hR="3600" stAng="16200000" swAng="-5400000"/>
                  <a:lnTo>
                    <a:pt x="0" y="19230"/>
                  </a:lnTo>
                  <a:arcTo wR="3600" hR="3600" stAng="10800000" swAng="-5400000"/>
                  <a:lnTo>
                    <a:pt x="18000" y="22830"/>
                  </a:lnTo>
                  <a:arcTo wR="3600" hR="3600" stAng="5400000" swAng="-5400000"/>
                  <a:lnTo>
                    <a:pt x="21600" y="3600"/>
                  </a:lnTo>
                  <a:arcTo wR="3600" hR="3600" stAng="0" swAng="-5400000"/>
                  <a:close/>
                </a:path>
              </a:pathLst>
            </a:cu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2" name="Group 6"/>
            <p:cNvGrpSpPr/>
            <p:nvPr/>
          </p:nvGrpSpPr>
          <p:grpSpPr>
            <a:xfrm>
              <a:off x="5993280" y="4723200"/>
              <a:ext cx="419400" cy="532080"/>
              <a:chOff x="5993280" y="4723200"/>
              <a:chExt cx="419400" cy="532080"/>
            </a:xfrm>
          </p:grpSpPr>
          <p:sp>
            <p:nvSpPr>
              <p:cNvPr id="1013" name="AutoShape 7"/>
              <p:cNvSpPr/>
              <p:nvPr/>
            </p:nvSpPr>
            <p:spPr>
              <a:xfrm flipH="1">
                <a:off x="6011280" y="4723200"/>
                <a:ext cx="390600" cy="299880"/>
              </a:xfrm>
              <a:prstGeom prst="roundRect">
                <a:avLst>
                  <a:gd name="adj" fmla="val 3773"/>
                </a:avLst>
              </a:prstGeom>
              <a:solidFill>
                <a:srgbClr val="0000ff"/>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Freeform 8"/>
              <p:cNvSpPr/>
              <p:nvPr/>
            </p:nvSpPr>
            <p:spPr>
              <a:xfrm>
                <a:off x="6070320" y="4802400"/>
                <a:ext cx="266400" cy="51840"/>
              </a:xfrm>
              <a:custGeom>
                <a:avLst/>
                <a:gdLst>
                  <a:gd name="textAreaLeft" fmla="*/ 0 w 266400"/>
                  <a:gd name="textAreaRight" fmla="*/ 266760 w 266400"/>
                  <a:gd name="textAreaTop" fmla="*/ 0 h 51840"/>
                  <a:gd name="textAreaBottom" fmla="*/ 52200 h 51840"/>
                </a:gdLst>
                <a:ahLst/>
                <a:rect l="textAreaLeft" t="textAreaTop" r="textAreaRight" b="textAreaBottom"/>
                <a:pathLst>
                  <a:path w="365" h="66">
                    <a:moveTo>
                      <a:pt x="0" y="40"/>
                    </a:moveTo>
                    <a:cubicBezTo>
                      <a:pt x="14" y="27"/>
                      <a:pt x="29" y="15"/>
                      <a:pt x="48" y="10"/>
                    </a:cubicBezTo>
                    <a:cubicBezTo>
                      <a:pt x="67" y="5"/>
                      <a:pt x="97" y="6"/>
                      <a:pt x="114" y="10"/>
                    </a:cubicBezTo>
                    <a:cubicBezTo>
                      <a:pt x="131" y="14"/>
                      <a:pt x="133" y="29"/>
                      <a:pt x="150" y="34"/>
                    </a:cubicBezTo>
                    <a:cubicBezTo>
                      <a:pt x="167" y="39"/>
                      <a:pt x="198" y="45"/>
                      <a:pt x="216" y="40"/>
                    </a:cubicBezTo>
                    <a:cubicBezTo>
                      <a:pt x="234" y="35"/>
                      <a:pt x="236" y="0"/>
                      <a:pt x="258" y="4"/>
                    </a:cubicBezTo>
                    <a:cubicBezTo>
                      <a:pt x="280" y="8"/>
                      <a:pt x="331" y="62"/>
                      <a:pt x="348" y="64"/>
                    </a:cubicBezTo>
                    <a:cubicBezTo>
                      <a:pt x="365" y="66"/>
                      <a:pt x="362" y="41"/>
                      <a:pt x="360" y="16"/>
                    </a:cubicBezTo>
                  </a:path>
                </a:pathLst>
              </a:custGeom>
              <a:noFill/>
              <a:ln w="28440">
                <a:solidFill>
                  <a:srgbClr val="ffffff"/>
                </a:solidFill>
                <a:round/>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Calibri"/>
                </a:endParaRPr>
              </a:p>
            </p:txBody>
          </p:sp>
          <p:grpSp>
            <p:nvGrpSpPr>
              <p:cNvPr id="1015" name="Group 9"/>
              <p:cNvGrpSpPr/>
              <p:nvPr/>
            </p:nvGrpSpPr>
            <p:grpSpPr>
              <a:xfrm>
                <a:off x="6147360" y="4755960"/>
                <a:ext cx="265320" cy="499320"/>
                <a:chOff x="6147360" y="4755960"/>
                <a:chExt cx="265320" cy="499320"/>
              </a:xfrm>
            </p:grpSpPr>
            <p:sp>
              <p:nvSpPr>
                <p:cNvPr id="1016" name="Freeform 10"/>
                <p:cNvSpPr/>
                <p:nvPr/>
              </p:nvSpPr>
              <p:spPr>
                <a:xfrm flipH="1">
                  <a:off x="6288120" y="4774320"/>
                  <a:ext cx="77400" cy="81360"/>
                </a:xfrm>
                <a:custGeom>
                  <a:avLst/>
                  <a:gdLst>
                    <a:gd name="textAreaLeft" fmla="*/ -360 w 77400"/>
                    <a:gd name="textAreaRight" fmla="*/ 77400 w 77400"/>
                    <a:gd name="textAreaTop" fmla="*/ 0 h 81360"/>
                    <a:gd name="textAreaBottom" fmla="*/ 81360 h 81360"/>
                  </a:gdLst>
                  <a:ahLst/>
                  <a:rect l="textAreaLeft" t="textAreaTop" r="textAreaRight" b="textAreaBottom"/>
                  <a:pathLst>
                    <a:path w="712" h="712">
                      <a:moveTo>
                        <a:pt x="356" y="712"/>
                      </a:moveTo>
                      <a:lnTo>
                        <a:pt x="374" y="711"/>
                      </a:lnTo>
                      <a:lnTo>
                        <a:pt x="392" y="710"/>
                      </a:lnTo>
                      <a:lnTo>
                        <a:pt x="410" y="707"/>
                      </a:lnTo>
                      <a:lnTo>
                        <a:pt x="427" y="704"/>
                      </a:lnTo>
                      <a:lnTo>
                        <a:pt x="444" y="700"/>
                      </a:lnTo>
                      <a:lnTo>
                        <a:pt x="462" y="696"/>
                      </a:lnTo>
                      <a:lnTo>
                        <a:pt x="478" y="690"/>
                      </a:lnTo>
                      <a:lnTo>
                        <a:pt x="494" y="683"/>
                      </a:lnTo>
                      <a:lnTo>
                        <a:pt x="510" y="676"/>
                      </a:lnTo>
                      <a:lnTo>
                        <a:pt x="525" y="668"/>
                      </a:lnTo>
                      <a:lnTo>
                        <a:pt x="541" y="660"/>
                      </a:lnTo>
                      <a:lnTo>
                        <a:pt x="554" y="651"/>
                      </a:lnTo>
                      <a:lnTo>
                        <a:pt x="568" y="640"/>
                      </a:lnTo>
                      <a:lnTo>
                        <a:pt x="582" y="630"/>
                      </a:lnTo>
                      <a:lnTo>
                        <a:pt x="595" y="619"/>
                      </a:lnTo>
                      <a:lnTo>
                        <a:pt x="608" y="608"/>
                      </a:lnTo>
                      <a:lnTo>
                        <a:pt x="619" y="595"/>
                      </a:lnTo>
                      <a:lnTo>
                        <a:pt x="630" y="582"/>
                      </a:lnTo>
                      <a:lnTo>
                        <a:pt x="641" y="568"/>
                      </a:lnTo>
                      <a:lnTo>
                        <a:pt x="651" y="555"/>
                      </a:lnTo>
                      <a:lnTo>
                        <a:pt x="660" y="541"/>
                      </a:lnTo>
                      <a:lnTo>
                        <a:pt x="668" y="526"/>
                      </a:lnTo>
                      <a:lnTo>
                        <a:pt x="676" y="511"/>
                      </a:lnTo>
                      <a:lnTo>
                        <a:pt x="683" y="494"/>
                      </a:lnTo>
                      <a:lnTo>
                        <a:pt x="690" y="478"/>
                      </a:lnTo>
                      <a:lnTo>
                        <a:pt x="696" y="462"/>
                      </a:lnTo>
                      <a:lnTo>
                        <a:pt x="700" y="445"/>
                      </a:lnTo>
                      <a:lnTo>
                        <a:pt x="704" y="427"/>
                      </a:lnTo>
                      <a:lnTo>
                        <a:pt x="707" y="410"/>
                      </a:lnTo>
                      <a:lnTo>
                        <a:pt x="710" y="392"/>
                      </a:lnTo>
                      <a:lnTo>
                        <a:pt x="711" y="374"/>
                      </a:lnTo>
                      <a:lnTo>
                        <a:pt x="712" y="355"/>
                      </a:lnTo>
                      <a:lnTo>
                        <a:pt x="711" y="337"/>
                      </a:lnTo>
                      <a:lnTo>
                        <a:pt x="710" y="320"/>
                      </a:lnTo>
                      <a:lnTo>
                        <a:pt x="707" y="301"/>
                      </a:lnTo>
                      <a:lnTo>
                        <a:pt x="704" y="284"/>
                      </a:lnTo>
                      <a:lnTo>
                        <a:pt x="700" y="266"/>
                      </a:lnTo>
                      <a:lnTo>
                        <a:pt x="696" y="249"/>
                      </a:lnTo>
                      <a:lnTo>
                        <a:pt x="690" y="233"/>
                      </a:lnTo>
                      <a:lnTo>
                        <a:pt x="683" y="217"/>
                      </a:lnTo>
                      <a:lnTo>
                        <a:pt x="676" y="202"/>
                      </a:lnTo>
                      <a:lnTo>
                        <a:pt x="668" y="186"/>
                      </a:lnTo>
                      <a:lnTo>
                        <a:pt x="660" y="171"/>
                      </a:lnTo>
                      <a:lnTo>
                        <a:pt x="651" y="156"/>
                      </a:lnTo>
                      <a:lnTo>
                        <a:pt x="641" y="143"/>
                      </a:lnTo>
                      <a:lnTo>
                        <a:pt x="630" y="129"/>
                      </a:lnTo>
                      <a:lnTo>
                        <a:pt x="619" y="116"/>
                      </a:lnTo>
                      <a:lnTo>
                        <a:pt x="608" y="104"/>
                      </a:lnTo>
                      <a:lnTo>
                        <a:pt x="595" y="92"/>
                      </a:lnTo>
                      <a:lnTo>
                        <a:pt x="582" y="81"/>
                      </a:lnTo>
                      <a:lnTo>
                        <a:pt x="568" y="71"/>
                      </a:lnTo>
                      <a:lnTo>
                        <a:pt x="554" y="60"/>
                      </a:lnTo>
                      <a:lnTo>
                        <a:pt x="541" y="51"/>
                      </a:lnTo>
                      <a:lnTo>
                        <a:pt x="525" y="43"/>
                      </a:lnTo>
                      <a:lnTo>
                        <a:pt x="510" y="35"/>
                      </a:lnTo>
                      <a:lnTo>
                        <a:pt x="494" y="28"/>
                      </a:lnTo>
                      <a:lnTo>
                        <a:pt x="478" y="21"/>
                      </a:lnTo>
                      <a:lnTo>
                        <a:pt x="462" y="15"/>
                      </a:lnTo>
                      <a:lnTo>
                        <a:pt x="444" y="11"/>
                      </a:lnTo>
                      <a:lnTo>
                        <a:pt x="427" y="7"/>
                      </a:lnTo>
                      <a:lnTo>
                        <a:pt x="410" y="4"/>
                      </a:lnTo>
                      <a:lnTo>
                        <a:pt x="392" y="1"/>
                      </a:lnTo>
                      <a:lnTo>
                        <a:pt x="374" y="0"/>
                      </a:lnTo>
                      <a:lnTo>
                        <a:pt x="356" y="0"/>
                      </a:lnTo>
                      <a:lnTo>
                        <a:pt x="338" y="0"/>
                      </a:lnTo>
                      <a:lnTo>
                        <a:pt x="319" y="1"/>
                      </a:lnTo>
                      <a:lnTo>
                        <a:pt x="302" y="4"/>
                      </a:lnTo>
                      <a:lnTo>
                        <a:pt x="285" y="7"/>
                      </a:lnTo>
                      <a:lnTo>
                        <a:pt x="267" y="11"/>
                      </a:lnTo>
                      <a:lnTo>
                        <a:pt x="250" y="15"/>
                      </a:lnTo>
                      <a:lnTo>
                        <a:pt x="234" y="21"/>
                      </a:lnTo>
                      <a:lnTo>
                        <a:pt x="217" y="28"/>
                      </a:lnTo>
                      <a:lnTo>
                        <a:pt x="201" y="35"/>
                      </a:lnTo>
                      <a:lnTo>
                        <a:pt x="186" y="43"/>
                      </a:lnTo>
                      <a:lnTo>
                        <a:pt x="171" y="51"/>
                      </a:lnTo>
                      <a:lnTo>
                        <a:pt x="157" y="60"/>
                      </a:lnTo>
                      <a:lnTo>
                        <a:pt x="143" y="71"/>
                      </a:lnTo>
                      <a:lnTo>
                        <a:pt x="129" y="81"/>
                      </a:lnTo>
                      <a:lnTo>
                        <a:pt x="117" y="92"/>
                      </a:lnTo>
                      <a:lnTo>
                        <a:pt x="104" y="104"/>
                      </a:lnTo>
                      <a:lnTo>
                        <a:pt x="92" y="116"/>
                      </a:lnTo>
                      <a:lnTo>
                        <a:pt x="82" y="129"/>
                      </a:lnTo>
                      <a:lnTo>
                        <a:pt x="70" y="143"/>
                      </a:lnTo>
                      <a:lnTo>
                        <a:pt x="61" y="156"/>
                      </a:lnTo>
                      <a:lnTo>
                        <a:pt x="52" y="171"/>
                      </a:lnTo>
                      <a:lnTo>
                        <a:pt x="44" y="186"/>
                      </a:lnTo>
                      <a:lnTo>
                        <a:pt x="36" y="202"/>
                      </a:lnTo>
                      <a:lnTo>
                        <a:pt x="29" y="217"/>
                      </a:lnTo>
                      <a:lnTo>
                        <a:pt x="22" y="233"/>
                      </a:lnTo>
                      <a:lnTo>
                        <a:pt x="16" y="249"/>
                      </a:lnTo>
                      <a:lnTo>
                        <a:pt x="11" y="266"/>
                      </a:lnTo>
                      <a:lnTo>
                        <a:pt x="8" y="284"/>
                      </a:lnTo>
                      <a:lnTo>
                        <a:pt x="4" y="301"/>
                      </a:lnTo>
                      <a:lnTo>
                        <a:pt x="2" y="320"/>
                      </a:lnTo>
                      <a:lnTo>
                        <a:pt x="1" y="337"/>
                      </a:lnTo>
                      <a:lnTo>
                        <a:pt x="0" y="355"/>
                      </a:lnTo>
                      <a:lnTo>
                        <a:pt x="1" y="374"/>
                      </a:lnTo>
                      <a:lnTo>
                        <a:pt x="2" y="392"/>
                      </a:lnTo>
                      <a:lnTo>
                        <a:pt x="4" y="410"/>
                      </a:lnTo>
                      <a:lnTo>
                        <a:pt x="8" y="427"/>
                      </a:lnTo>
                      <a:lnTo>
                        <a:pt x="11" y="445"/>
                      </a:lnTo>
                      <a:lnTo>
                        <a:pt x="16" y="462"/>
                      </a:lnTo>
                      <a:lnTo>
                        <a:pt x="22" y="478"/>
                      </a:lnTo>
                      <a:lnTo>
                        <a:pt x="29" y="494"/>
                      </a:lnTo>
                      <a:lnTo>
                        <a:pt x="36" y="511"/>
                      </a:lnTo>
                      <a:lnTo>
                        <a:pt x="44" y="526"/>
                      </a:lnTo>
                      <a:lnTo>
                        <a:pt x="52" y="541"/>
                      </a:lnTo>
                      <a:lnTo>
                        <a:pt x="61" y="555"/>
                      </a:lnTo>
                      <a:lnTo>
                        <a:pt x="70" y="568"/>
                      </a:lnTo>
                      <a:lnTo>
                        <a:pt x="82" y="582"/>
                      </a:lnTo>
                      <a:lnTo>
                        <a:pt x="92" y="595"/>
                      </a:lnTo>
                      <a:lnTo>
                        <a:pt x="104" y="608"/>
                      </a:lnTo>
                      <a:lnTo>
                        <a:pt x="117" y="619"/>
                      </a:lnTo>
                      <a:lnTo>
                        <a:pt x="129" y="630"/>
                      </a:lnTo>
                      <a:lnTo>
                        <a:pt x="143" y="640"/>
                      </a:lnTo>
                      <a:lnTo>
                        <a:pt x="157" y="651"/>
                      </a:lnTo>
                      <a:lnTo>
                        <a:pt x="171" y="660"/>
                      </a:lnTo>
                      <a:lnTo>
                        <a:pt x="186" y="668"/>
                      </a:lnTo>
                      <a:lnTo>
                        <a:pt x="201" y="676"/>
                      </a:lnTo>
                      <a:lnTo>
                        <a:pt x="217" y="683"/>
                      </a:lnTo>
                      <a:lnTo>
                        <a:pt x="234" y="690"/>
                      </a:lnTo>
                      <a:lnTo>
                        <a:pt x="250" y="696"/>
                      </a:lnTo>
                      <a:lnTo>
                        <a:pt x="267" y="700"/>
                      </a:lnTo>
                      <a:lnTo>
                        <a:pt x="285" y="704"/>
                      </a:lnTo>
                      <a:lnTo>
                        <a:pt x="302" y="707"/>
                      </a:lnTo>
                      <a:lnTo>
                        <a:pt x="319" y="710"/>
                      </a:lnTo>
                      <a:lnTo>
                        <a:pt x="338" y="711"/>
                      </a:lnTo>
                      <a:lnTo>
                        <a:pt x="356" y="712"/>
                      </a:lnTo>
                      <a:close/>
                    </a:path>
                  </a:pathLst>
                </a:custGeom>
                <a:solidFill>
                  <a:srgbClr val="80008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017" name="Freeform 11"/>
                <p:cNvSpPr/>
                <p:nvPr/>
              </p:nvSpPr>
              <p:spPr>
                <a:xfrm>
                  <a:off x="6147360" y="4755960"/>
                  <a:ext cx="265320" cy="499320"/>
                </a:xfrm>
                <a:custGeom>
                  <a:avLst/>
                  <a:gdLst>
                    <a:gd name="textAreaLeft" fmla="*/ 0 w 265320"/>
                    <a:gd name="textAreaRight" fmla="*/ 265680 w 265320"/>
                    <a:gd name="textAreaTop" fmla="*/ 0 h 499320"/>
                    <a:gd name="textAreaBottom" fmla="*/ 499680 h 499320"/>
                  </a:gdLst>
                  <a:ahLst/>
                  <a:rect l="textAreaLeft" t="textAreaTop" r="textAreaRight" b="textAreaBottom"/>
                  <a:pathLst>
                    <a:path w="367" h="649">
                      <a:moveTo>
                        <a:pt x="249" y="439"/>
                      </a:moveTo>
                      <a:lnTo>
                        <a:pt x="265" y="649"/>
                      </a:lnTo>
                      <a:lnTo>
                        <a:pt x="304" y="649"/>
                      </a:lnTo>
                      <a:lnTo>
                        <a:pt x="315" y="235"/>
                      </a:lnTo>
                      <a:lnTo>
                        <a:pt x="334" y="400"/>
                      </a:lnTo>
                      <a:lnTo>
                        <a:pt x="367" y="400"/>
                      </a:lnTo>
                      <a:lnTo>
                        <a:pt x="349" y="160"/>
                      </a:lnTo>
                      <a:lnTo>
                        <a:pt x="273" y="143"/>
                      </a:lnTo>
                      <a:lnTo>
                        <a:pt x="225" y="143"/>
                      </a:lnTo>
                      <a:lnTo>
                        <a:pt x="160" y="130"/>
                      </a:lnTo>
                      <a:lnTo>
                        <a:pt x="108" y="88"/>
                      </a:lnTo>
                      <a:lnTo>
                        <a:pt x="3" y="0"/>
                      </a:lnTo>
                      <a:lnTo>
                        <a:pt x="0" y="6"/>
                      </a:lnTo>
                      <a:lnTo>
                        <a:pt x="100" y="93"/>
                      </a:lnTo>
                      <a:lnTo>
                        <a:pt x="88" y="111"/>
                      </a:lnTo>
                      <a:lnTo>
                        <a:pt x="136" y="174"/>
                      </a:lnTo>
                      <a:lnTo>
                        <a:pt x="187" y="219"/>
                      </a:lnTo>
                      <a:lnTo>
                        <a:pt x="195" y="649"/>
                      </a:lnTo>
                      <a:lnTo>
                        <a:pt x="234" y="649"/>
                      </a:lnTo>
                      <a:lnTo>
                        <a:pt x="249" y="4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18" name="Group 12"/>
              <p:cNvGrpSpPr/>
              <p:nvPr/>
            </p:nvGrpSpPr>
            <p:grpSpPr>
              <a:xfrm>
                <a:off x="6175440" y="4934160"/>
                <a:ext cx="157680" cy="320760"/>
                <a:chOff x="6175440" y="4934160"/>
                <a:chExt cx="157680" cy="320760"/>
              </a:xfrm>
            </p:grpSpPr>
            <p:sp>
              <p:nvSpPr>
                <p:cNvPr id="1019" name="Freeform 13"/>
                <p:cNvSpPr/>
                <p:nvPr/>
              </p:nvSpPr>
              <p:spPr>
                <a:xfrm flipH="1">
                  <a:off x="6220080" y="4934160"/>
                  <a:ext cx="69840" cy="81360"/>
                </a:xfrm>
                <a:custGeom>
                  <a:avLst/>
                  <a:gdLst/>
                  <a:ahLst/>
                  <a:rect l="l" t="t" r="r" b="b"/>
                  <a:pathLst>
                    <a:path w="712" h="712">
                      <a:moveTo>
                        <a:pt x="356" y="712"/>
                      </a:moveTo>
                      <a:lnTo>
                        <a:pt x="374" y="711"/>
                      </a:lnTo>
                      <a:lnTo>
                        <a:pt x="392" y="710"/>
                      </a:lnTo>
                      <a:lnTo>
                        <a:pt x="410" y="707"/>
                      </a:lnTo>
                      <a:lnTo>
                        <a:pt x="427" y="704"/>
                      </a:lnTo>
                      <a:lnTo>
                        <a:pt x="444" y="700"/>
                      </a:lnTo>
                      <a:lnTo>
                        <a:pt x="462" y="696"/>
                      </a:lnTo>
                      <a:lnTo>
                        <a:pt x="478" y="690"/>
                      </a:lnTo>
                      <a:lnTo>
                        <a:pt x="494" y="683"/>
                      </a:lnTo>
                      <a:lnTo>
                        <a:pt x="510" y="676"/>
                      </a:lnTo>
                      <a:lnTo>
                        <a:pt x="525" y="668"/>
                      </a:lnTo>
                      <a:lnTo>
                        <a:pt x="541" y="660"/>
                      </a:lnTo>
                      <a:lnTo>
                        <a:pt x="554" y="651"/>
                      </a:lnTo>
                      <a:lnTo>
                        <a:pt x="568" y="640"/>
                      </a:lnTo>
                      <a:lnTo>
                        <a:pt x="582" y="630"/>
                      </a:lnTo>
                      <a:lnTo>
                        <a:pt x="595" y="619"/>
                      </a:lnTo>
                      <a:lnTo>
                        <a:pt x="608" y="608"/>
                      </a:lnTo>
                      <a:lnTo>
                        <a:pt x="619" y="595"/>
                      </a:lnTo>
                      <a:lnTo>
                        <a:pt x="630" y="582"/>
                      </a:lnTo>
                      <a:lnTo>
                        <a:pt x="641" y="568"/>
                      </a:lnTo>
                      <a:lnTo>
                        <a:pt x="651" y="555"/>
                      </a:lnTo>
                      <a:lnTo>
                        <a:pt x="660" y="541"/>
                      </a:lnTo>
                      <a:lnTo>
                        <a:pt x="668" y="526"/>
                      </a:lnTo>
                      <a:lnTo>
                        <a:pt x="676" y="511"/>
                      </a:lnTo>
                      <a:lnTo>
                        <a:pt x="683" y="494"/>
                      </a:lnTo>
                      <a:lnTo>
                        <a:pt x="690" y="478"/>
                      </a:lnTo>
                      <a:lnTo>
                        <a:pt x="696" y="462"/>
                      </a:lnTo>
                      <a:lnTo>
                        <a:pt x="700" y="445"/>
                      </a:lnTo>
                      <a:lnTo>
                        <a:pt x="704" y="427"/>
                      </a:lnTo>
                      <a:lnTo>
                        <a:pt x="707" y="410"/>
                      </a:lnTo>
                      <a:lnTo>
                        <a:pt x="710" y="392"/>
                      </a:lnTo>
                      <a:lnTo>
                        <a:pt x="711" y="374"/>
                      </a:lnTo>
                      <a:lnTo>
                        <a:pt x="712" y="355"/>
                      </a:lnTo>
                      <a:lnTo>
                        <a:pt x="711" y="337"/>
                      </a:lnTo>
                      <a:lnTo>
                        <a:pt x="710" y="320"/>
                      </a:lnTo>
                      <a:lnTo>
                        <a:pt x="707" y="301"/>
                      </a:lnTo>
                      <a:lnTo>
                        <a:pt x="704" y="284"/>
                      </a:lnTo>
                      <a:lnTo>
                        <a:pt x="700" y="266"/>
                      </a:lnTo>
                      <a:lnTo>
                        <a:pt x="696" y="249"/>
                      </a:lnTo>
                      <a:lnTo>
                        <a:pt x="690" y="233"/>
                      </a:lnTo>
                      <a:lnTo>
                        <a:pt x="683" y="217"/>
                      </a:lnTo>
                      <a:lnTo>
                        <a:pt x="676" y="202"/>
                      </a:lnTo>
                      <a:lnTo>
                        <a:pt x="668" y="186"/>
                      </a:lnTo>
                      <a:lnTo>
                        <a:pt x="660" y="171"/>
                      </a:lnTo>
                      <a:lnTo>
                        <a:pt x="651" y="156"/>
                      </a:lnTo>
                      <a:lnTo>
                        <a:pt x="641" y="143"/>
                      </a:lnTo>
                      <a:lnTo>
                        <a:pt x="630" y="129"/>
                      </a:lnTo>
                      <a:lnTo>
                        <a:pt x="619" y="116"/>
                      </a:lnTo>
                      <a:lnTo>
                        <a:pt x="608" y="104"/>
                      </a:lnTo>
                      <a:lnTo>
                        <a:pt x="595" y="92"/>
                      </a:lnTo>
                      <a:lnTo>
                        <a:pt x="582" y="81"/>
                      </a:lnTo>
                      <a:lnTo>
                        <a:pt x="568" y="71"/>
                      </a:lnTo>
                      <a:lnTo>
                        <a:pt x="554" y="60"/>
                      </a:lnTo>
                      <a:lnTo>
                        <a:pt x="541" y="51"/>
                      </a:lnTo>
                      <a:lnTo>
                        <a:pt x="525" y="43"/>
                      </a:lnTo>
                      <a:lnTo>
                        <a:pt x="510" y="35"/>
                      </a:lnTo>
                      <a:lnTo>
                        <a:pt x="494" y="28"/>
                      </a:lnTo>
                      <a:lnTo>
                        <a:pt x="478" y="21"/>
                      </a:lnTo>
                      <a:lnTo>
                        <a:pt x="462" y="15"/>
                      </a:lnTo>
                      <a:lnTo>
                        <a:pt x="444" y="11"/>
                      </a:lnTo>
                      <a:lnTo>
                        <a:pt x="427" y="7"/>
                      </a:lnTo>
                      <a:lnTo>
                        <a:pt x="410" y="4"/>
                      </a:lnTo>
                      <a:lnTo>
                        <a:pt x="392" y="1"/>
                      </a:lnTo>
                      <a:lnTo>
                        <a:pt x="374" y="0"/>
                      </a:lnTo>
                      <a:lnTo>
                        <a:pt x="356" y="0"/>
                      </a:lnTo>
                      <a:lnTo>
                        <a:pt x="338" y="0"/>
                      </a:lnTo>
                      <a:lnTo>
                        <a:pt x="319" y="1"/>
                      </a:lnTo>
                      <a:lnTo>
                        <a:pt x="302" y="4"/>
                      </a:lnTo>
                      <a:lnTo>
                        <a:pt x="285" y="7"/>
                      </a:lnTo>
                      <a:lnTo>
                        <a:pt x="267" y="11"/>
                      </a:lnTo>
                      <a:lnTo>
                        <a:pt x="250" y="15"/>
                      </a:lnTo>
                      <a:lnTo>
                        <a:pt x="234" y="21"/>
                      </a:lnTo>
                      <a:lnTo>
                        <a:pt x="217" y="28"/>
                      </a:lnTo>
                      <a:lnTo>
                        <a:pt x="201" y="35"/>
                      </a:lnTo>
                      <a:lnTo>
                        <a:pt x="186" y="43"/>
                      </a:lnTo>
                      <a:lnTo>
                        <a:pt x="171" y="51"/>
                      </a:lnTo>
                      <a:lnTo>
                        <a:pt x="157" y="60"/>
                      </a:lnTo>
                      <a:lnTo>
                        <a:pt x="143" y="71"/>
                      </a:lnTo>
                      <a:lnTo>
                        <a:pt x="129" y="81"/>
                      </a:lnTo>
                      <a:lnTo>
                        <a:pt x="117" y="92"/>
                      </a:lnTo>
                      <a:lnTo>
                        <a:pt x="104" y="104"/>
                      </a:lnTo>
                      <a:lnTo>
                        <a:pt x="92" y="116"/>
                      </a:lnTo>
                      <a:lnTo>
                        <a:pt x="82" y="129"/>
                      </a:lnTo>
                      <a:lnTo>
                        <a:pt x="70" y="143"/>
                      </a:lnTo>
                      <a:lnTo>
                        <a:pt x="61" y="156"/>
                      </a:lnTo>
                      <a:lnTo>
                        <a:pt x="52" y="171"/>
                      </a:lnTo>
                      <a:lnTo>
                        <a:pt x="44" y="186"/>
                      </a:lnTo>
                      <a:lnTo>
                        <a:pt x="36" y="202"/>
                      </a:lnTo>
                      <a:lnTo>
                        <a:pt x="29" y="217"/>
                      </a:lnTo>
                      <a:lnTo>
                        <a:pt x="22" y="233"/>
                      </a:lnTo>
                      <a:lnTo>
                        <a:pt x="16" y="249"/>
                      </a:lnTo>
                      <a:lnTo>
                        <a:pt x="11" y="266"/>
                      </a:lnTo>
                      <a:lnTo>
                        <a:pt x="8" y="284"/>
                      </a:lnTo>
                      <a:lnTo>
                        <a:pt x="4" y="301"/>
                      </a:lnTo>
                      <a:lnTo>
                        <a:pt x="2" y="320"/>
                      </a:lnTo>
                      <a:lnTo>
                        <a:pt x="1" y="337"/>
                      </a:lnTo>
                      <a:lnTo>
                        <a:pt x="0" y="355"/>
                      </a:lnTo>
                      <a:lnTo>
                        <a:pt x="1" y="374"/>
                      </a:lnTo>
                      <a:lnTo>
                        <a:pt x="2" y="392"/>
                      </a:lnTo>
                      <a:lnTo>
                        <a:pt x="4" y="410"/>
                      </a:lnTo>
                      <a:lnTo>
                        <a:pt x="8" y="427"/>
                      </a:lnTo>
                      <a:lnTo>
                        <a:pt x="11" y="445"/>
                      </a:lnTo>
                      <a:lnTo>
                        <a:pt x="16" y="462"/>
                      </a:lnTo>
                      <a:lnTo>
                        <a:pt x="22" y="478"/>
                      </a:lnTo>
                      <a:lnTo>
                        <a:pt x="29" y="494"/>
                      </a:lnTo>
                      <a:lnTo>
                        <a:pt x="36" y="511"/>
                      </a:lnTo>
                      <a:lnTo>
                        <a:pt x="44" y="526"/>
                      </a:lnTo>
                      <a:lnTo>
                        <a:pt x="52" y="541"/>
                      </a:lnTo>
                      <a:lnTo>
                        <a:pt x="61" y="555"/>
                      </a:lnTo>
                      <a:lnTo>
                        <a:pt x="70" y="568"/>
                      </a:lnTo>
                      <a:lnTo>
                        <a:pt x="82" y="582"/>
                      </a:lnTo>
                      <a:lnTo>
                        <a:pt x="92" y="595"/>
                      </a:lnTo>
                      <a:lnTo>
                        <a:pt x="104" y="608"/>
                      </a:lnTo>
                      <a:lnTo>
                        <a:pt x="117" y="619"/>
                      </a:lnTo>
                      <a:lnTo>
                        <a:pt x="129" y="630"/>
                      </a:lnTo>
                      <a:lnTo>
                        <a:pt x="143" y="640"/>
                      </a:lnTo>
                      <a:lnTo>
                        <a:pt x="157" y="651"/>
                      </a:lnTo>
                      <a:lnTo>
                        <a:pt x="171" y="660"/>
                      </a:lnTo>
                      <a:lnTo>
                        <a:pt x="186" y="668"/>
                      </a:lnTo>
                      <a:lnTo>
                        <a:pt x="201" y="676"/>
                      </a:lnTo>
                      <a:lnTo>
                        <a:pt x="217" y="683"/>
                      </a:lnTo>
                      <a:lnTo>
                        <a:pt x="234" y="690"/>
                      </a:lnTo>
                      <a:lnTo>
                        <a:pt x="250" y="696"/>
                      </a:lnTo>
                      <a:lnTo>
                        <a:pt x="267" y="700"/>
                      </a:lnTo>
                      <a:lnTo>
                        <a:pt x="285" y="704"/>
                      </a:lnTo>
                      <a:lnTo>
                        <a:pt x="302" y="707"/>
                      </a:lnTo>
                      <a:lnTo>
                        <a:pt x="319" y="710"/>
                      </a:lnTo>
                      <a:lnTo>
                        <a:pt x="338" y="711"/>
                      </a:lnTo>
                      <a:lnTo>
                        <a:pt x="356" y="712"/>
                      </a:lnTo>
                      <a:close/>
                    </a:path>
                  </a:pathLst>
                </a:custGeom>
                <a:solidFill>
                  <a:srgbClr val="c0504d"/>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020" name="Freeform 14"/>
                <p:cNvSpPr/>
                <p:nvPr/>
              </p:nvSpPr>
              <p:spPr>
                <a:xfrm flipH="1">
                  <a:off x="6175440" y="5017680"/>
                  <a:ext cx="157680" cy="237240"/>
                </a:xfrm>
                <a:custGeom>
                  <a:avLst/>
                  <a:gdLst>
                    <a:gd name="textAreaLeft" fmla="*/ 360 w 157680"/>
                    <a:gd name="textAreaRight" fmla="*/ 158400 w 157680"/>
                    <a:gd name="textAreaTop" fmla="*/ 0 h 237240"/>
                    <a:gd name="textAreaBottom" fmla="*/ 237600 h 237240"/>
                  </a:gdLst>
                  <a:ahLst/>
                  <a:rect l="textAreaLeft" t="textAreaTop" r="textAreaRight" b="textAreaBottom"/>
                  <a:pathLst>
                    <a:path w="219" h="309">
                      <a:moveTo>
                        <a:pt x="49" y="309"/>
                      </a:moveTo>
                      <a:lnTo>
                        <a:pt x="45" y="230"/>
                      </a:lnTo>
                      <a:lnTo>
                        <a:pt x="65" y="153"/>
                      </a:lnTo>
                      <a:lnTo>
                        <a:pt x="50" y="109"/>
                      </a:lnTo>
                      <a:lnTo>
                        <a:pt x="30" y="288"/>
                      </a:lnTo>
                      <a:lnTo>
                        <a:pt x="0" y="288"/>
                      </a:lnTo>
                      <a:cubicBezTo>
                        <a:pt x="0" y="245"/>
                        <a:pt x="17" y="75"/>
                        <a:pt x="29" y="28"/>
                      </a:cubicBezTo>
                      <a:cubicBezTo>
                        <a:pt x="37" y="7"/>
                        <a:pt x="71" y="10"/>
                        <a:pt x="87" y="12"/>
                      </a:cubicBezTo>
                      <a:lnTo>
                        <a:pt x="110" y="38"/>
                      </a:lnTo>
                      <a:lnTo>
                        <a:pt x="132" y="12"/>
                      </a:lnTo>
                      <a:cubicBezTo>
                        <a:pt x="144" y="9"/>
                        <a:pt x="176" y="0"/>
                        <a:pt x="182" y="21"/>
                      </a:cubicBezTo>
                      <a:cubicBezTo>
                        <a:pt x="197" y="66"/>
                        <a:pt x="219" y="245"/>
                        <a:pt x="217" y="288"/>
                      </a:cubicBezTo>
                      <a:lnTo>
                        <a:pt x="187" y="288"/>
                      </a:lnTo>
                      <a:lnTo>
                        <a:pt x="167" y="109"/>
                      </a:lnTo>
                      <a:lnTo>
                        <a:pt x="153" y="159"/>
                      </a:lnTo>
                      <a:lnTo>
                        <a:pt x="168" y="234"/>
                      </a:lnTo>
                      <a:lnTo>
                        <a:pt x="163" y="309"/>
                      </a:lnTo>
                      <a:lnTo>
                        <a:pt x="49" y="309"/>
                      </a:lnTo>
                      <a:close/>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21" name="Group 15"/>
              <p:cNvGrpSpPr/>
              <p:nvPr/>
            </p:nvGrpSpPr>
            <p:grpSpPr>
              <a:xfrm>
                <a:off x="6078240" y="4932720"/>
                <a:ext cx="169920" cy="322560"/>
                <a:chOff x="6078240" y="4932720"/>
                <a:chExt cx="169920" cy="322560"/>
              </a:xfrm>
            </p:grpSpPr>
            <p:sp>
              <p:nvSpPr>
                <p:cNvPr id="1022" name="Freeform 16"/>
                <p:cNvSpPr/>
                <p:nvPr/>
              </p:nvSpPr>
              <p:spPr>
                <a:xfrm flipH="1">
                  <a:off x="6125040" y="4932720"/>
                  <a:ext cx="75960" cy="81360"/>
                </a:xfrm>
                <a:custGeom>
                  <a:avLst/>
                  <a:gdLst>
                    <a:gd name="textAreaLeft" fmla="*/ -360 w 75960"/>
                    <a:gd name="textAreaRight" fmla="*/ 75960 w 75960"/>
                    <a:gd name="textAreaTop" fmla="*/ 0 h 81360"/>
                    <a:gd name="textAreaBottom" fmla="*/ 81360 h 81360"/>
                  </a:gdLst>
                  <a:ahLst/>
                  <a:rect l="textAreaLeft" t="textAreaTop" r="textAreaRight" b="textAreaBottom"/>
                  <a:pathLst>
                    <a:path w="712" h="712">
                      <a:moveTo>
                        <a:pt x="356" y="712"/>
                      </a:moveTo>
                      <a:lnTo>
                        <a:pt x="374" y="711"/>
                      </a:lnTo>
                      <a:lnTo>
                        <a:pt x="392" y="710"/>
                      </a:lnTo>
                      <a:lnTo>
                        <a:pt x="410" y="707"/>
                      </a:lnTo>
                      <a:lnTo>
                        <a:pt x="427" y="704"/>
                      </a:lnTo>
                      <a:lnTo>
                        <a:pt x="444" y="700"/>
                      </a:lnTo>
                      <a:lnTo>
                        <a:pt x="462" y="696"/>
                      </a:lnTo>
                      <a:lnTo>
                        <a:pt x="478" y="690"/>
                      </a:lnTo>
                      <a:lnTo>
                        <a:pt x="494" y="683"/>
                      </a:lnTo>
                      <a:lnTo>
                        <a:pt x="510" y="676"/>
                      </a:lnTo>
                      <a:lnTo>
                        <a:pt x="525" y="668"/>
                      </a:lnTo>
                      <a:lnTo>
                        <a:pt x="541" y="660"/>
                      </a:lnTo>
                      <a:lnTo>
                        <a:pt x="554" y="651"/>
                      </a:lnTo>
                      <a:lnTo>
                        <a:pt x="568" y="640"/>
                      </a:lnTo>
                      <a:lnTo>
                        <a:pt x="582" y="630"/>
                      </a:lnTo>
                      <a:lnTo>
                        <a:pt x="595" y="619"/>
                      </a:lnTo>
                      <a:lnTo>
                        <a:pt x="608" y="608"/>
                      </a:lnTo>
                      <a:lnTo>
                        <a:pt x="619" y="595"/>
                      </a:lnTo>
                      <a:lnTo>
                        <a:pt x="630" y="582"/>
                      </a:lnTo>
                      <a:lnTo>
                        <a:pt x="641" y="568"/>
                      </a:lnTo>
                      <a:lnTo>
                        <a:pt x="651" y="555"/>
                      </a:lnTo>
                      <a:lnTo>
                        <a:pt x="660" y="541"/>
                      </a:lnTo>
                      <a:lnTo>
                        <a:pt x="668" y="526"/>
                      </a:lnTo>
                      <a:lnTo>
                        <a:pt x="676" y="511"/>
                      </a:lnTo>
                      <a:lnTo>
                        <a:pt x="683" y="494"/>
                      </a:lnTo>
                      <a:lnTo>
                        <a:pt x="690" y="478"/>
                      </a:lnTo>
                      <a:lnTo>
                        <a:pt x="696" y="462"/>
                      </a:lnTo>
                      <a:lnTo>
                        <a:pt x="700" y="445"/>
                      </a:lnTo>
                      <a:lnTo>
                        <a:pt x="704" y="427"/>
                      </a:lnTo>
                      <a:lnTo>
                        <a:pt x="707" y="410"/>
                      </a:lnTo>
                      <a:lnTo>
                        <a:pt x="710" y="392"/>
                      </a:lnTo>
                      <a:lnTo>
                        <a:pt x="711" y="374"/>
                      </a:lnTo>
                      <a:lnTo>
                        <a:pt x="712" y="355"/>
                      </a:lnTo>
                      <a:lnTo>
                        <a:pt x="711" y="337"/>
                      </a:lnTo>
                      <a:lnTo>
                        <a:pt x="710" y="320"/>
                      </a:lnTo>
                      <a:lnTo>
                        <a:pt x="707" y="301"/>
                      </a:lnTo>
                      <a:lnTo>
                        <a:pt x="704" y="284"/>
                      </a:lnTo>
                      <a:lnTo>
                        <a:pt x="700" y="266"/>
                      </a:lnTo>
                      <a:lnTo>
                        <a:pt x="696" y="249"/>
                      </a:lnTo>
                      <a:lnTo>
                        <a:pt x="690" y="233"/>
                      </a:lnTo>
                      <a:lnTo>
                        <a:pt x="683" y="217"/>
                      </a:lnTo>
                      <a:lnTo>
                        <a:pt x="676" y="202"/>
                      </a:lnTo>
                      <a:lnTo>
                        <a:pt x="668" y="186"/>
                      </a:lnTo>
                      <a:lnTo>
                        <a:pt x="660" y="171"/>
                      </a:lnTo>
                      <a:lnTo>
                        <a:pt x="651" y="156"/>
                      </a:lnTo>
                      <a:lnTo>
                        <a:pt x="641" y="143"/>
                      </a:lnTo>
                      <a:lnTo>
                        <a:pt x="630" y="129"/>
                      </a:lnTo>
                      <a:lnTo>
                        <a:pt x="619" y="116"/>
                      </a:lnTo>
                      <a:lnTo>
                        <a:pt x="608" y="104"/>
                      </a:lnTo>
                      <a:lnTo>
                        <a:pt x="595" y="92"/>
                      </a:lnTo>
                      <a:lnTo>
                        <a:pt x="582" y="81"/>
                      </a:lnTo>
                      <a:lnTo>
                        <a:pt x="568" y="71"/>
                      </a:lnTo>
                      <a:lnTo>
                        <a:pt x="554" y="60"/>
                      </a:lnTo>
                      <a:lnTo>
                        <a:pt x="541" y="51"/>
                      </a:lnTo>
                      <a:lnTo>
                        <a:pt x="525" y="43"/>
                      </a:lnTo>
                      <a:lnTo>
                        <a:pt x="510" y="35"/>
                      </a:lnTo>
                      <a:lnTo>
                        <a:pt x="494" y="28"/>
                      </a:lnTo>
                      <a:lnTo>
                        <a:pt x="478" y="21"/>
                      </a:lnTo>
                      <a:lnTo>
                        <a:pt x="462" y="15"/>
                      </a:lnTo>
                      <a:lnTo>
                        <a:pt x="444" y="11"/>
                      </a:lnTo>
                      <a:lnTo>
                        <a:pt x="427" y="7"/>
                      </a:lnTo>
                      <a:lnTo>
                        <a:pt x="410" y="4"/>
                      </a:lnTo>
                      <a:lnTo>
                        <a:pt x="392" y="1"/>
                      </a:lnTo>
                      <a:lnTo>
                        <a:pt x="374" y="0"/>
                      </a:lnTo>
                      <a:lnTo>
                        <a:pt x="356" y="0"/>
                      </a:lnTo>
                      <a:lnTo>
                        <a:pt x="338" y="0"/>
                      </a:lnTo>
                      <a:lnTo>
                        <a:pt x="319" y="1"/>
                      </a:lnTo>
                      <a:lnTo>
                        <a:pt x="302" y="4"/>
                      </a:lnTo>
                      <a:lnTo>
                        <a:pt x="285" y="7"/>
                      </a:lnTo>
                      <a:lnTo>
                        <a:pt x="267" y="11"/>
                      </a:lnTo>
                      <a:lnTo>
                        <a:pt x="250" y="15"/>
                      </a:lnTo>
                      <a:lnTo>
                        <a:pt x="234" y="21"/>
                      </a:lnTo>
                      <a:lnTo>
                        <a:pt x="217" y="28"/>
                      </a:lnTo>
                      <a:lnTo>
                        <a:pt x="201" y="35"/>
                      </a:lnTo>
                      <a:lnTo>
                        <a:pt x="186" y="43"/>
                      </a:lnTo>
                      <a:lnTo>
                        <a:pt x="171" y="51"/>
                      </a:lnTo>
                      <a:lnTo>
                        <a:pt x="157" y="60"/>
                      </a:lnTo>
                      <a:lnTo>
                        <a:pt x="143" y="71"/>
                      </a:lnTo>
                      <a:lnTo>
                        <a:pt x="129" y="81"/>
                      </a:lnTo>
                      <a:lnTo>
                        <a:pt x="117" y="92"/>
                      </a:lnTo>
                      <a:lnTo>
                        <a:pt x="104" y="104"/>
                      </a:lnTo>
                      <a:lnTo>
                        <a:pt x="92" y="116"/>
                      </a:lnTo>
                      <a:lnTo>
                        <a:pt x="82" y="129"/>
                      </a:lnTo>
                      <a:lnTo>
                        <a:pt x="70" y="143"/>
                      </a:lnTo>
                      <a:lnTo>
                        <a:pt x="61" y="156"/>
                      </a:lnTo>
                      <a:lnTo>
                        <a:pt x="52" y="171"/>
                      </a:lnTo>
                      <a:lnTo>
                        <a:pt x="44" y="186"/>
                      </a:lnTo>
                      <a:lnTo>
                        <a:pt x="36" y="202"/>
                      </a:lnTo>
                      <a:lnTo>
                        <a:pt x="29" y="217"/>
                      </a:lnTo>
                      <a:lnTo>
                        <a:pt x="22" y="233"/>
                      </a:lnTo>
                      <a:lnTo>
                        <a:pt x="16" y="249"/>
                      </a:lnTo>
                      <a:lnTo>
                        <a:pt x="11" y="266"/>
                      </a:lnTo>
                      <a:lnTo>
                        <a:pt x="8" y="284"/>
                      </a:lnTo>
                      <a:lnTo>
                        <a:pt x="4" y="301"/>
                      </a:lnTo>
                      <a:lnTo>
                        <a:pt x="2" y="320"/>
                      </a:lnTo>
                      <a:lnTo>
                        <a:pt x="1" y="337"/>
                      </a:lnTo>
                      <a:lnTo>
                        <a:pt x="0" y="355"/>
                      </a:lnTo>
                      <a:lnTo>
                        <a:pt x="1" y="374"/>
                      </a:lnTo>
                      <a:lnTo>
                        <a:pt x="2" y="392"/>
                      </a:lnTo>
                      <a:lnTo>
                        <a:pt x="4" y="410"/>
                      </a:lnTo>
                      <a:lnTo>
                        <a:pt x="8" y="427"/>
                      </a:lnTo>
                      <a:lnTo>
                        <a:pt x="11" y="445"/>
                      </a:lnTo>
                      <a:lnTo>
                        <a:pt x="16" y="462"/>
                      </a:lnTo>
                      <a:lnTo>
                        <a:pt x="22" y="478"/>
                      </a:lnTo>
                      <a:lnTo>
                        <a:pt x="29" y="494"/>
                      </a:lnTo>
                      <a:lnTo>
                        <a:pt x="36" y="511"/>
                      </a:lnTo>
                      <a:lnTo>
                        <a:pt x="44" y="526"/>
                      </a:lnTo>
                      <a:lnTo>
                        <a:pt x="52" y="541"/>
                      </a:lnTo>
                      <a:lnTo>
                        <a:pt x="61" y="555"/>
                      </a:lnTo>
                      <a:lnTo>
                        <a:pt x="70" y="568"/>
                      </a:lnTo>
                      <a:lnTo>
                        <a:pt x="82" y="582"/>
                      </a:lnTo>
                      <a:lnTo>
                        <a:pt x="92" y="595"/>
                      </a:lnTo>
                      <a:lnTo>
                        <a:pt x="104" y="608"/>
                      </a:lnTo>
                      <a:lnTo>
                        <a:pt x="117" y="619"/>
                      </a:lnTo>
                      <a:lnTo>
                        <a:pt x="129" y="630"/>
                      </a:lnTo>
                      <a:lnTo>
                        <a:pt x="143" y="640"/>
                      </a:lnTo>
                      <a:lnTo>
                        <a:pt x="157" y="651"/>
                      </a:lnTo>
                      <a:lnTo>
                        <a:pt x="171" y="660"/>
                      </a:lnTo>
                      <a:lnTo>
                        <a:pt x="186" y="668"/>
                      </a:lnTo>
                      <a:lnTo>
                        <a:pt x="201" y="676"/>
                      </a:lnTo>
                      <a:lnTo>
                        <a:pt x="217" y="683"/>
                      </a:lnTo>
                      <a:lnTo>
                        <a:pt x="234" y="690"/>
                      </a:lnTo>
                      <a:lnTo>
                        <a:pt x="250" y="696"/>
                      </a:lnTo>
                      <a:lnTo>
                        <a:pt x="267" y="700"/>
                      </a:lnTo>
                      <a:lnTo>
                        <a:pt x="285" y="704"/>
                      </a:lnTo>
                      <a:lnTo>
                        <a:pt x="302" y="707"/>
                      </a:lnTo>
                      <a:lnTo>
                        <a:pt x="319" y="710"/>
                      </a:lnTo>
                      <a:lnTo>
                        <a:pt x="338" y="711"/>
                      </a:lnTo>
                      <a:lnTo>
                        <a:pt x="356" y="712"/>
                      </a:lnTo>
                      <a:close/>
                    </a:path>
                  </a:pathLst>
                </a:custGeom>
                <a:solidFill>
                  <a:srgbClr val="80008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023" name="Freeform 17"/>
                <p:cNvSpPr/>
                <p:nvPr/>
              </p:nvSpPr>
              <p:spPr>
                <a:xfrm flipH="1">
                  <a:off x="6078240" y="5024160"/>
                  <a:ext cx="169920" cy="231120"/>
                </a:xfrm>
                <a:custGeom>
                  <a:avLst/>
                  <a:gdLst>
                    <a:gd name="textAreaLeft" fmla="*/ 360 w 169920"/>
                    <a:gd name="textAreaRight" fmla="*/ 170640 w 169920"/>
                    <a:gd name="textAreaTop" fmla="*/ 0 h 231120"/>
                    <a:gd name="textAreaBottom" fmla="*/ 231480 h 231120"/>
                  </a:gdLst>
                  <a:ahLst/>
                  <a:rect l="textAreaLeft" t="textAreaTop" r="textAreaRight" b="textAreaBottom"/>
                  <a:pathLst>
                    <a:path w="235" h="300">
                      <a:moveTo>
                        <a:pt x="58" y="300"/>
                      </a:moveTo>
                      <a:lnTo>
                        <a:pt x="54" y="97"/>
                      </a:lnTo>
                      <a:lnTo>
                        <a:pt x="33" y="276"/>
                      </a:lnTo>
                      <a:lnTo>
                        <a:pt x="0" y="276"/>
                      </a:lnTo>
                      <a:lnTo>
                        <a:pt x="18" y="17"/>
                      </a:lnTo>
                      <a:lnTo>
                        <a:pt x="94" y="0"/>
                      </a:lnTo>
                      <a:lnTo>
                        <a:pt x="143" y="0"/>
                      </a:lnTo>
                      <a:lnTo>
                        <a:pt x="217" y="17"/>
                      </a:lnTo>
                      <a:lnTo>
                        <a:pt x="235" y="276"/>
                      </a:lnTo>
                      <a:lnTo>
                        <a:pt x="202" y="276"/>
                      </a:lnTo>
                      <a:lnTo>
                        <a:pt x="181" y="97"/>
                      </a:lnTo>
                      <a:lnTo>
                        <a:pt x="178" y="300"/>
                      </a:lnTo>
                      <a:lnTo>
                        <a:pt x="58" y="30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24" name="Group 18"/>
              <p:cNvGrpSpPr/>
              <p:nvPr/>
            </p:nvGrpSpPr>
            <p:grpSpPr>
              <a:xfrm>
                <a:off x="5993280" y="4934160"/>
                <a:ext cx="157680" cy="320760"/>
                <a:chOff x="5993280" y="4934160"/>
                <a:chExt cx="157680" cy="320760"/>
              </a:xfrm>
            </p:grpSpPr>
            <p:sp>
              <p:nvSpPr>
                <p:cNvPr id="1025" name="Freeform 19"/>
                <p:cNvSpPr/>
                <p:nvPr/>
              </p:nvSpPr>
              <p:spPr>
                <a:xfrm flipH="1">
                  <a:off x="6037920" y="4934160"/>
                  <a:ext cx="69840" cy="81360"/>
                </a:xfrm>
                <a:custGeom>
                  <a:avLst/>
                  <a:gdLst/>
                  <a:ahLst/>
                  <a:rect l="l" t="t" r="r" b="b"/>
                  <a:pathLst>
                    <a:path w="712" h="712">
                      <a:moveTo>
                        <a:pt x="356" y="712"/>
                      </a:moveTo>
                      <a:lnTo>
                        <a:pt x="374" y="711"/>
                      </a:lnTo>
                      <a:lnTo>
                        <a:pt x="392" y="710"/>
                      </a:lnTo>
                      <a:lnTo>
                        <a:pt x="410" y="707"/>
                      </a:lnTo>
                      <a:lnTo>
                        <a:pt x="427" y="704"/>
                      </a:lnTo>
                      <a:lnTo>
                        <a:pt x="444" y="700"/>
                      </a:lnTo>
                      <a:lnTo>
                        <a:pt x="462" y="696"/>
                      </a:lnTo>
                      <a:lnTo>
                        <a:pt x="478" y="690"/>
                      </a:lnTo>
                      <a:lnTo>
                        <a:pt x="494" y="683"/>
                      </a:lnTo>
                      <a:lnTo>
                        <a:pt x="510" y="676"/>
                      </a:lnTo>
                      <a:lnTo>
                        <a:pt x="525" y="668"/>
                      </a:lnTo>
                      <a:lnTo>
                        <a:pt x="541" y="660"/>
                      </a:lnTo>
                      <a:lnTo>
                        <a:pt x="554" y="651"/>
                      </a:lnTo>
                      <a:lnTo>
                        <a:pt x="568" y="640"/>
                      </a:lnTo>
                      <a:lnTo>
                        <a:pt x="582" y="630"/>
                      </a:lnTo>
                      <a:lnTo>
                        <a:pt x="595" y="619"/>
                      </a:lnTo>
                      <a:lnTo>
                        <a:pt x="608" y="608"/>
                      </a:lnTo>
                      <a:lnTo>
                        <a:pt x="619" y="595"/>
                      </a:lnTo>
                      <a:lnTo>
                        <a:pt x="630" y="582"/>
                      </a:lnTo>
                      <a:lnTo>
                        <a:pt x="641" y="568"/>
                      </a:lnTo>
                      <a:lnTo>
                        <a:pt x="651" y="555"/>
                      </a:lnTo>
                      <a:lnTo>
                        <a:pt x="660" y="541"/>
                      </a:lnTo>
                      <a:lnTo>
                        <a:pt x="668" y="526"/>
                      </a:lnTo>
                      <a:lnTo>
                        <a:pt x="676" y="511"/>
                      </a:lnTo>
                      <a:lnTo>
                        <a:pt x="683" y="494"/>
                      </a:lnTo>
                      <a:lnTo>
                        <a:pt x="690" y="478"/>
                      </a:lnTo>
                      <a:lnTo>
                        <a:pt x="696" y="462"/>
                      </a:lnTo>
                      <a:lnTo>
                        <a:pt x="700" y="445"/>
                      </a:lnTo>
                      <a:lnTo>
                        <a:pt x="704" y="427"/>
                      </a:lnTo>
                      <a:lnTo>
                        <a:pt x="707" y="410"/>
                      </a:lnTo>
                      <a:lnTo>
                        <a:pt x="710" y="392"/>
                      </a:lnTo>
                      <a:lnTo>
                        <a:pt x="711" y="374"/>
                      </a:lnTo>
                      <a:lnTo>
                        <a:pt x="712" y="355"/>
                      </a:lnTo>
                      <a:lnTo>
                        <a:pt x="711" y="337"/>
                      </a:lnTo>
                      <a:lnTo>
                        <a:pt x="710" y="320"/>
                      </a:lnTo>
                      <a:lnTo>
                        <a:pt x="707" y="301"/>
                      </a:lnTo>
                      <a:lnTo>
                        <a:pt x="704" y="284"/>
                      </a:lnTo>
                      <a:lnTo>
                        <a:pt x="700" y="266"/>
                      </a:lnTo>
                      <a:lnTo>
                        <a:pt x="696" y="249"/>
                      </a:lnTo>
                      <a:lnTo>
                        <a:pt x="690" y="233"/>
                      </a:lnTo>
                      <a:lnTo>
                        <a:pt x="683" y="217"/>
                      </a:lnTo>
                      <a:lnTo>
                        <a:pt x="676" y="202"/>
                      </a:lnTo>
                      <a:lnTo>
                        <a:pt x="668" y="186"/>
                      </a:lnTo>
                      <a:lnTo>
                        <a:pt x="660" y="171"/>
                      </a:lnTo>
                      <a:lnTo>
                        <a:pt x="651" y="156"/>
                      </a:lnTo>
                      <a:lnTo>
                        <a:pt x="641" y="143"/>
                      </a:lnTo>
                      <a:lnTo>
                        <a:pt x="630" y="129"/>
                      </a:lnTo>
                      <a:lnTo>
                        <a:pt x="619" y="116"/>
                      </a:lnTo>
                      <a:lnTo>
                        <a:pt x="608" y="104"/>
                      </a:lnTo>
                      <a:lnTo>
                        <a:pt x="595" y="92"/>
                      </a:lnTo>
                      <a:lnTo>
                        <a:pt x="582" y="81"/>
                      </a:lnTo>
                      <a:lnTo>
                        <a:pt x="568" y="71"/>
                      </a:lnTo>
                      <a:lnTo>
                        <a:pt x="554" y="60"/>
                      </a:lnTo>
                      <a:lnTo>
                        <a:pt x="541" y="51"/>
                      </a:lnTo>
                      <a:lnTo>
                        <a:pt x="525" y="43"/>
                      </a:lnTo>
                      <a:lnTo>
                        <a:pt x="510" y="35"/>
                      </a:lnTo>
                      <a:lnTo>
                        <a:pt x="494" y="28"/>
                      </a:lnTo>
                      <a:lnTo>
                        <a:pt x="478" y="21"/>
                      </a:lnTo>
                      <a:lnTo>
                        <a:pt x="462" y="15"/>
                      </a:lnTo>
                      <a:lnTo>
                        <a:pt x="444" y="11"/>
                      </a:lnTo>
                      <a:lnTo>
                        <a:pt x="427" y="7"/>
                      </a:lnTo>
                      <a:lnTo>
                        <a:pt x="410" y="4"/>
                      </a:lnTo>
                      <a:lnTo>
                        <a:pt x="392" y="1"/>
                      </a:lnTo>
                      <a:lnTo>
                        <a:pt x="374" y="0"/>
                      </a:lnTo>
                      <a:lnTo>
                        <a:pt x="356" y="0"/>
                      </a:lnTo>
                      <a:lnTo>
                        <a:pt x="338" y="0"/>
                      </a:lnTo>
                      <a:lnTo>
                        <a:pt x="319" y="1"/>
                      </a:lnTo>
                      <a:lnTo>
                        <a:pt x="302" y="4"/>
                      </a:lnTo>
                      <a:lnTo>
                        <a:pt x="285" y="7"/>
                      </a:lnTo>
                      <a:lnTo>
                        <a:pt x="267" y="11"/>
                      </a:lnTo>
                      <a:lnTo>
                        <a:pt x="250" y="15"/>
                      </a:lnTo>
                      <a:lnTo>
                        <a:pt x="234" y="21"/>
                      </a:lnTo>
                      <a:lnTo>
                        <a:pt x="217" y="28"/>
                      </a:lnTo>
                      <a:lnTo>
                        <a:pt x="201" y="35"/>
                      </a:lnTo>
                      <a:lnTo>
                        <a:pt x="186" y="43"/>
                      </a:lnTo>
                      <a:lnTo>
                        <a:pt x="171" y="51"/>
                      </a:lnTo>
                      <a:lnTo>
                        <a:pt x="157" y="60"/>
                      </a:lnTo>
                      <a:lnTo>
                        <a:pt x="143" y="71"/>
                      </a:lnTo>
                      <a:lnTo>
                        <a:pt x="129" y="81"/>
                      </a:lnTo>
                      <a:lnTo>
                        <a:pt x="117" y="92"/>
                      </a:lnTo>
                      <a:lnTo>
                        <a:pt x="104" y="104"/>
                      </a:lnTo>
                      <a:lnTo>
                        <a:pt x="92" y="116"/>
                      </a:lnTo>
                      <a:lnTo>
                        <a:pt x="82" y="129"/>
                      </a:lnTo>
                      <a:lnTo>
                        <a:pt x="70" y="143"/>
                      </a:lnTo>
                      <a:lnTo>
                        <a:pt x="61" y="156"/>
                      </a:lnTo>
                      <a:lnTo>
                        <a:pt x="52" y="171"/>
                      </a:lnTo>
                      <a:lnTo>
                        <a:pt x="44" y="186"/>
                      </a:lnTo>
                      <a:lnTo>
                        <a:pt x="36" y="202"/>
                      </a:lnTo>
                      <a:lnTo>
                        <a:pt x="29" y="217"/>
                      </a:lnTo>
                      <a:lnTo>
                        <a:pt x="22" y="233"/>
                      </a:lnTo>
                      <a:lnTo>
                        <a:pt x="16" y="249"/>
                      </a:lnTo>
                      <a:lnTo>
                        <a:pt x="11" y="266"/>
                      </a:lnTo>
                      <a:lnTo>
                        <a:pt x="8" y="284"/>
                      </a:lnTo>
                      <a:lnTo>
                        <a:pt x="4" y="301"/>
                      </a:lnTo>
                      <a:lnTo>
                        <a:pt x="2" y="320"/>
                      </a:lnTo>
                      <a:lnTo>
                        <a:pt x="1" y="337"/>
                      </a:lnTo>
                      <a:lnTo>
                        <a:pt x="0" y="355"/>
                      </a:lnTo>
                      <a:lnTo>
                        <a:pt x="1" y="374"/>
                      </a:lnTo>
                      <a:lnTo>
                        <a:pt x="2" y="392"/>
                      </a:lnTo>
                      <a:lnTo>
                        <a:pt x="4" y="410"/>
                      </a:lnTo>
                      <a:lnTo>
                        <a:pt x="8" y="427"/>
                      </a:lnTo>
                      <a:lnTo>
                        <a:pt x="11" y="445"/>
                      </a:lnTo>
                      <a:lnTo>
                        <a:pt x="16" y="462"/>
                      </a:lnTo>
                      <a:lnTo>
                        <a:pt x="22" y="478"/>
                      </a:lnTo>
                      <a:lnTo>
                        <a:pt x="29" y="494"/>
                      </a:lnTo>
                      <a:lnTo>
                        <a:pt x="36" y="511"/>
                      </a:lnTo>
                      <a:lnTo>
                        <a:pt x="44" y="526"/>
                      </a:lnTo>
                      <a:lnTo>
                        <a:pt x="52" y="541"/>
                      </a:lnTo>
                      <a:lnTo>
                        <a:pt x="61" y="555"/>
                      </a:lnTo>
                      <a:lnTo>
                        <a:pt x="70" y="568"/>
                      </a:lnTo>
                      <a:lnTo>
                        <a:pt x="82" y="582"/>
                      </a:lnTo>
                      <a:lnTo>
                        <a:pt x="92" y="595"/>
                      </a:lnTo>
                      <a:lnTo>
                        <a:pt x="104" y="608"/>
                      </a:lnTo>
                      <a:lnTo>
                        <a:pt x="117" y="619"/>
                      </a:lnTo>
                      <a:lnTo>
                        <a:pt x="129" y="630"/>
                      </a:lnTo>
                      <a:lnTo>
                        <a:pt x="143" y="640"/>
                      </a:lnTo>
                      <a:lnTo>
                        <a:pt x="157" y="651"/>
                      </a:lnTo>
                      <a:lnTo>
                        <a:pt x="171" y="660"/>
                      </a:lnTo>
                      <a:lnTo>
                        <a:pt x="186" y="668"/>
                      </a:lnTo>
                      <a:lnTo>
                        <a:pt x="201" y="676"/>
                      </a:lnTo>
                      <a:lnTo>
                        <a:pt x="217" y="683"/>
                      </a:lnTo>
                      <a:lnTo>
                        <a:pt x="234" y="690"/>
                      </a:lnTo>
                      <a:lnTo>
                        <a:pt x="250" y="696"/>
                      </a:lnTo>
                      <a:lnTo>
                        <a:pt x="267" y="700"/>
                      </a:lnTo>
                      <a:lnTo>
                        <a:pt x="285" y="704"/>
                      </a:lnTo>
                      <a:lnTo>
                        <a:pt x="302" y="707"/>
                      </a:lnTo>
                      <a:lnTo>
                        <a:pt x="319" y="710"/>
                      </a:lnTo>
                      <a:lnTo>
                        <a:pt x="338" y="711"/>
                      </a:lnTo>
                      <a:lnTo>
                        <a:pt x="356" y="712"/>
                      </a:lnTo>
                      <a:close/>
                    </a:path>
                  </a:pathLst>
                </a:custGeom>
                <a:solidFill>
                  <a:srgbClr val="c0504d"/>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026" name="Freeform 20"/>
                <p:cNvSpPr/>
                <p:nvPr/>
              </p:nvSpPr>
              <p:spPr>
                <a:xfrm flipH="1">
                  <a:off x="5993280" y="5017680"/>
                  <a:ext cx="157680" cy="237240"/>
                </a:xfrm>
                <a:custGeom>
                  <a:avLst/>
                  <a:gdLst>
                    <a:gd name="textAreaLeft" fmla="*/ 360 w 157680"/>
                    <a:gd name="textAreaRight" fmla="*/ 158400 w 157680"/>
                    <a:gd name="textAreaTop" fmla="*/ 0 h 237240"/>
                    <a:gd name="textAreaBottom" fmla="*/ 237600 h 237240"/>
                  </a:gdLst>
                  <a:ahLst/>
                  <a:rect l="textAreaLeft" t="textAreaTop" r="textAreaRight" b="textAreaBottom"/>
                  <a:pathLst>
                    <a:path w="219" h="309">
                      <a:moveTo>
                        <a:pt x="49" y="309"/>
                      </a:moveTo>
                      <a:lnTo>
                        <a:pt x="45" y="230"/>
                      </a:lnTo>
                      <a:lnTo>
                        <a:pt x="65" y="153"/>
                      </a:lnTo>
                      <a:lnTo>
                        <a:pt x="50" y="109"/>
                      </a:lnTo>
                      <a:lnTo>
                        <a:pt x="30" y="288"/>
                      </a:lnTo>
                      <a:lnTo>
                        <a:pt x="0" y="288"/>
                      </a:lnTo>
                      <a:cubicBezTo>
                        <a:pt x="0" y="245"/>
                        <a:pt x="17" y="75"/>
                        <a:pt x="29" y="28"/>
                      </a:cubicBezTo>
                      <a:cubicBezTo>
                        <a:pt x="37" y="7"/>
                        <a:pt x="71" y="10"/>
                        <a:pt x="87" y="12"/>
                      </a:cubicBezTo>
                      <a:lnTo>
                        <a:pt x="110" y="38"/>
                      </a:lnTo>
                      <a:lnTo>
                        <a:pt x="132" y="12"/>
                      </a:lnTo>
                      <a:cubicBezTo>
                        <a:pt x="144" y="9"/>
                        <a:pt x="176" y="0"/>
                        <a:pt x="182" y="21"/>
                      </a:cubicBezTo>
                      <a:cubicBezTo>
                        <a:pt x="197" y="66"/>
                        <a:pt x="219" y="245"/>
                        <a:pt x="217" y="288"/>
                      </a:cubicBezTo>
                      <a:lnTo>
                        <a:pt x="187" y="288"/>
                      </a:lnTo>
                      <a:lnTo>
                        <a:pt x="167" y="109"/>
                      </a:lnTo>
                      <a:lnTo>
                        <a:pt x="153" y="159"/>
                      </a:lnTo>
                      <a:lnTo>
                        <a:pt x="168" y="234"/>
                      </a:lnTo>
                      <a:lnTo>
                        <a:pt x="163" y="309"/>
                      </a:lnTo>
                      <a:lnTo>
                        <a:pt x="49" y="309"/>
                      </a:lnTo>
                      <a:close/>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AC81-2F7D-4CFC-9BB0-44B66FA2A8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28" name="PlaceHolder 1"/>
          <p:cNvSpPr>
            <a:spLocks noGrp="1"/>
          </p:cNvSpPr>
          <p:nvPr>
            <p:ph type="sldImg"/>
          </p:nvPr>
        </p:nvSpPr>
        <p:spPr>
          <a:xfrm>
            <a:off x="1257480" y="720720"/>
            <a:ext cx="4800600" cy="3600360"/>
          </a:xfrm>
          <a:prstGeom prst="rect">
            <a:avLst/>
          </a:prstGeom>
          <a:ln w="0">
            <a:noFill/>
          </a:ln>
        </p:spPr>
      </p:sp>
      <p:sp>
        <p:nvSpPr>
          <p:cNvPr id="102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begin to make sense of communication outside our culture, we need to develop awareness of ourselves and the various dimensions that have influenced who we are. There are several layers that determine your level of diversity. They are Personality, Personal Dimension, External Dimension, and Organizational Dimension.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77A1-AAA9-4968-93F7-BDD38A5592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31" name="PlaceHolder 1"/>
          <p:cNvSpPr>
            <a:spLocks noGrp="1"/>
          </p:cNvSpPr>
          <p:nvPr>
            <p:ph type="sldImg"/>
          </p:nvPr>
        </p:nvSpPr>
        <p:spPr>
          <a:xfrm>
            <a:off x="1257480" y="720720"/>
            <a:ext cx="4800600" cy="3600360"/>
          </a:xfrm>
          <a:prstGeom prst="rect">
            <a:avLst/>
          </a:prstGeom>
          <a:ln w="0">
            <a:noFill/>
          </a:ln>
        </p:spPr>
      </p:sp>
      <p:sp>
        <p:nvSpPr>
          <p:cNvPr id="103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ity defines who we are. It is our core beliefs; our needs, desires and valu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7FF6-A298-4EC0-8C40-2A18F24529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34" name="PlaceHolder 1"/>
          <p:cNvSpPr>
            <a:spLocks noGrp="1"/>
          </p:cNvSpPr>
          <p:nvPr>
            <p:ph type="sldImg"/>
          </p:nvPr>
        </p:nvSpPr>
        <p:spPr>
          <a:xfrm>
            <a:off x="1257480" y="720720"/>
            <a:ext cx="4800600" cy="3600360"/>
          </a:xfrm>
          <a:prstGeom prst="rect">
            <a:avLst/>
          </a:prstGeom>
          <a:ln w="0">
            <a:noFill/>
          </a:ln>
        </p:spPr>
      </p:sp>
      <p:sp>
        <p:nvSpPr>
          <p:cNvPr id="103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ow we interact is influenced by our: physical ability; gender; age; sexual orientation; race; ethnicity; and mental proces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3196-E5F5-4AA1-9AAE-F1BA7707EC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37" name="PlaceHolder 1"/>
          <p:cNvSpPr>
            <a:spLocks noGrp="1"/>
          </p:cNvSpPr>
          <p:nvPr>
            <p:ph type="sldImg"/>
          </p:nvPr>
        </p:nvSpPr>
        <p:spPr>
          <a:xfrm>
            <a:off x="1257480" y="720720"/>
            <a:ext cx="4800600" cy="3600360"/>
          </a:xfrm>
          <a:prstGeom prst="rect">
            <a:avLst/>
          </a:prstGeom>
          <a:ln w="0">
            <a:noFill/>
          </a:ln>
        </p:spPr>
      </p:sp>
      <p:sp>
        <p:nvSpPr>
          <p:cNvPr id="103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ow we process and interpret data and the world around is is also influenced by external factors: (read and explain the words on the slide and interject personal anecdotes if applic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DCD48E-7AE5-47C1-84A1-F63AC72C6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326596-5D32-4147-AB5C-CA0EB24EF3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74C9D2-4026-4861-A52B-A05219195F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48920-9124-42E0-806D-044725126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79B1E-3A62-4C21-AC41-2B02E388A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DEF3E-B665-48AC-895B-90E095CC7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3"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DAC309-00A4-4E49-BB41-235AB64E24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8B9284-CC81-47D6-A70A-2E272469A0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51"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7CF026-C7E9-4B44-975E-BD912822BA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97FBB1-D1DB-4F4E-AAA7-F74A783304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E52BF9-04BE-4D82-89BF-AA57BBE9C2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A4E7B0-DE8B-4B95-9F41-4E0AABD35D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D11B7-17F4-448C-8156-4FAFA9F368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0BE48E-3380-4EA5-A091-65AE8B630D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A4727A-5591-4944-B5CF-346BAEC9D4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5D65B-C27A-4F42-AFE6-87182ACB3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DDF0F3-ED9B-45C9-B480-112570867D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32560-33F6-4A2F-87E3-41704906B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D56FCF-7A7F-48A5-9231-E05A1D65E5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27A5E6-06BF-4193-93F2-57E6FF6E21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0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270A9C-7395-45C4-99B5-120FBB5E75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F32BC3-30ED-40E7-9873-131731580F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FFD672-A6A3-4728-A809-659C3131EF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0D22F8-51EC-4411-A056-37A001E237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3A1D0A-EE2C-4EA4-AC5B-052DD3E86E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BCF0A2-E2AB-4DC7-A0FA-4FD043B47B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872F69-C4F8-445E-9362-64D267481D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71747-2859-462E-BBD4-DD086AFDE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07425-5C91-4632-946B-CA6504090B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3EF5D0-8E74-4F0A-821E-01B7E2BC82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0A66BD-A258-4A0B-AA68-D407E55B5A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B2F5D3-5B61-4EC7-BBAA-F83E927D74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5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4B3422-4C6F-4C28-AAFC-B8A094EDAA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6063C9-2CFC-46ED-820C-992FA5C26D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5"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22EE15-0E88-4A4B-B823-DA271D0463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7"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E145D9-C16C-4522-BB89-63F200F688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AD8D4A-19B8-4201-B54D-C0050F8D0C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03FEE4-4375-4E14-9E4B-DD7ECCEB14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3DB2CE-9E6F-4208-9F95-A065917AAD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407A68-12F5-4E2F-8252-BF98DE9097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0"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B99D7D-5A8A-4739-89FA-8D1C8D43CD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4"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81780A-5673-4DC8-860C-60222B193F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6"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7"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A2708A-9101-4455-9BA6-FF024645C1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2"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FE4E86-5FD7-4F33-A054-46B11815E5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04"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9"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DE8F51-5767-4223-9966-6F967787FF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9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12C05-143B-4665-9E12-DB21D4D4A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6"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DD3B0-E052-4D5B-8834-DF45D7454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8"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7CE50-DF1A-4358-B506-2630B7AF3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BE1F4-04B2-40D0-B0D7-9C12762F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98F92-84CE-45E0-A2E4-E63AF5F46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64610-7EEA-40CC-B053-BD24B03E5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FE81E-8B0B-48E0-924D-36CE67C0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2CFDA-09B8-4A61-BE69-A0C00BD8F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4797-BE08-4EDF-BFF7-1B853210B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7"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160A-C994-4864-BB49-DD2634D61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97CC0-802B-4680-AE26-4D8CA371C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5"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072D7-23CB-4D99-AEAB-F45CA81BC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009BA-0D10-4EB5-9C27-9A462AD16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7"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3678B-A021-4AD6-BC35-A9F87B4A9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9"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E51CC-D7FC-43D3-957D-45212F24E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ECB89-F8F8-4C3E-AD42-FFEFCC7DD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6FF08-EE14-4AD4-897F-F67BE45E9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9F024-E184-4479-80E1-A67D494E8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84CFF-AEE7-433D-97E8-C9D9E7CE1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6E4BC-DF28-44B7-8476-4F9570725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74253-BD7D-4859-A696-7B7997458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8"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9CB73-3A0C-4411-ACA8-E6711A78E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F4711-F3D1-46A9-847C-1607B594F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6"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5D17B-771C-4BA0-A2F8-3A68E9B18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31D6EC-4AF6-46B5-8600-315C224E23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8"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DDDBE-7178-4052-8CD7-4B34DD8E4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0"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27140-7677-4796-ADF9-F065DDB8E6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27B51-D31F-4CC7-8477-143E40DC9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1B4F29-4AC0-4C1A-A3C0-253382EEF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07512-98F2-45A8-8EED-4A09B6A80B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450B8-C67F-47AC-9507-E4EE56F91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FF45D6-2FC0-42C1-8B37-08EEE10C5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3EF5E-422B-4D48-A2CD-A74D34F3F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9"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E7C411-14F7-44F4-85E5-257596919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31B12-5887-45B2-BD04-71BB106008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7"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75939F-55A4-42CE-A2DF-7205BFC3ED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E0F4CC-E26A-4A02-905E-EE4EED3AC4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9"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D2B43-6F0B-4AE8-9912-CA3AC109D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1"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CD26AB-A115-4A64-8F77-51EBA3673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A638C8-2C0A-4B6E-A1C6-5E959408C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4385A-10DF-44CC-8579-F78E5CF26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F24E8-ED8F-43B2-898E-82D8FBBCBC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3128FE-3608-4B3D-BBA4-04B26ABA6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F98ED7-D17F-4E39-BB17-7203ABFF3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90761-12C4-4512-A58D-6F32D1342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0"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BF73B8-0059-4133-9932-489BE03369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7B2B74-C125-46DC-9B2F-5917FBAFC7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8"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89E5F9-DA14-4573-97CE-2277AFCCCC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BD140F-2319-4BFA-BB4C-1776B3D034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0"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8535AD-E02B-40B8-A644-2940C8002B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2"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D512F-BDCE-4C29-83B2-270FAF6AD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F4F8D-3D90-4449-92D0-453BE15DD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A4DEA2-39F1-488C-B1F5-D68DE6090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5D6521-A1E3-4661-9BAE-49D6B5EAE8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0DD1F-9F13-415B-AFF2-1C7684108B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BCA916-A9D7-43FA-B6E8-93DF8C3B4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348567-EED6-4D33-A3F5-A713AA3B1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1"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89B8D5-2F24-42FF-8ED3-00CFF3C5C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D702C0-68F2-4AD4-A233-E2FB588E86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9"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0"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35A2C3-5CFF-4001-A468-88BA50E3A9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AC99E5-C42A-477F-95C8-176494C5EE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1"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0FBE2F-EC8F-411D-94FA-20CD145C3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3"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8B90B1-3261-4788-B784-982F5D936B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0F553F-4064-473C-BABB-D443E9160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7FE69C-F3EE-48AF-82EA-45495664B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D6CE3C-2270-4CA2-B57F-FA4E16248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57BA4-1D7C-47AD-82B9-DDD3FF69C6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AA611-3E15-454C-8FE4-6AC6687930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E8F3C-BA0E-449D-9DDE-8E6AF72AF2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2"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A63DA5-4CBE-4990-964D-1B87D4E368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7A162D-6471-44A1-B812-9AFC41633A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00"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9E49D9-BBBD-4E28-9557-240426747A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FB00ED-9C26-423A-9366-B0848024A2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2"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79838E-418C-48AA-B503-A0CC1E55A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4"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CB32A-256C-4129-AC4D-E9A06BBDDBC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1" name="Picture 3" descr="DMTC logo.jpg"/>
          <p:cNvPicPr/>
          <p:nvPr/>
        </p:nvPicPr>
        <p:blipFill>
          <a:blip r:embed="rId2"/>
          <a:stretch/>
        </p:blipFill>
        <p:spPr>
          <a:xfrm>
            <a:off x="6640560" y="6232680"/>
            <a:ext cx="460440" cy="583920"/>
          </a:xfrm>
          <a:prstGeom prst="rect">
            <a:avLst/>
          </a:prstGeom>
          <a:ln w="0">
            <a:noFill/>
          </a:ln>
        </p:spPr>
      </p:pic>
      <p:sp>
        <p:nvSpPr>
          <p:cNvPr id="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 name="Picture 8" descr=""/>
          <p:cNvPicPr/>
          <p:nvPr/>
        </p:nvPicPr>
        <p:blipFill>
          <a:blip r:embed="rId3"/>
          <a:stretch/>
        </p:blipFill>
        <p:spPr>
          <a:xfrm>
            <a:off x="309600" y="6348240"/>
            <a:ext cx="1660320" cy="343080"/>
          </a:xfrm>
          <a:prstGeom prst="rect">
            <a:avLst/>
          </a:prstGeom>
          <a:ln w="0">
            <a:noFill/>
          </a:ln>
        </p:spPr>
      </p:pic>
      <p:pic>
        <p:nvPicPr>
          <p:cNvPr id="4" name="Straight Connector 10" descr=""/>
          <p:cNvPicPr/>
          <p:nvPr/>
        </p:nvPicPr>
        <p:blipFill>
          <a:blip r:embed="rId4"/>
          <a:stretch/>
        </p:blipFill>
        <p:spPr>
          <a:xfrm>
            <a:off x="-103320" y="6035760"/>
            <a:ext cx="9375840" cy="225360"/>
          </a:xfrm>
          <a:prstGeom prst="rect">
            <a:avLst/>
          </a:prstGeom>
          <a:ln w="0">
            <a:noFill/>
          </a:ln>
        </p:spPr>
      </p:pic>
      <p:sp>
        <p:nvSpPr>
          <p:cNvPr id="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8" name="Picture 14" descr=""/>
          <p:cNvPicPr/>
          <p:nvPr/>
        </p:nvPicPr>
        <p:blipFill>
          <a:blip r:embed="rId5"/>
          <a:stretch/>
        </p:blipFill>
        <p:spPr>
          <a:xfrm>
            <a:off x="3921120" y="5470560"/>
            <a:ext cx="1087560" cy="1387440"/>
          </a:xfrm>
          <a:prstGeom prst="rect">
            <a:avLst/>
          </a:prstGeom>
          <a:ln w="0">
            <a:noFill/>
          </a:ln>
        </p:spPr>
      </p:pic>
      <p:grpSp>
        <p:nvGrpSpPr>
          <p:cNvPr id="9" name="Rectangle 12"/>
          <p:cNvGrpSpPr/>
          <p:nvPr/>
        </p:nvGrpSpPr>
        <p:grpSpPr>
          <a:xfrm>
            <a:off x="-146160" y="-146160"/>
            <a:ext cx="9436320" cy="993960"/>
            <a:chOff x="-146160" y="-146160"/>
            <a:chExt cx="9436320" cy="993960"/>
          </a:xfrm>
        </p:grpSpPr>
        <p:pic>
          <p:nvPicPr>
            <p:cNvPr id="10" name="Rectangle 12" descr=""/>
            <p:cNvPicPr/>
            <p:nvPr/>
          </p:nvPicPr>
          <p:blipFill>
            <a:blip r:embed="rId6"/>
            <a:stretch/>
          </p:blipFill>
          <p:spPr>
            <a:xfrm>
              <a:off x="-146160" y="-146160"/>
              <a:ext cx="9436320" cy="993960"/>
            </a:xfrm>
            <a:prstGeom prst="rect">
              <a:avLst/>
            </a:prstGeom>
            <a:ln w="0">
              <a:noFill/>
            </a:ln>
          </p:spPr>
        </p:pic>
        <p:sp>
          <p:nvSpPr>
            <p:cNvPr id="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3" descr="DMTC logo.jpg"/>
          <p:cNvPicPr/>
          <p:nvPr/>
        </p:nvPicPr>
        <p:blipFill>
          <a:blip r:embed="rId2"/>
          <a:stretch/>
        </p:blipFill>
        <p:spPr>
          <a:xfrm>
            <a:off x="6640560" y="6232680"/>
            <a:ext cx="460440" cy="583920"/>
          </a:xfrm>
          <a:prstGeom prst="rect">
            <a:avLst/>
          </a:prstGeom>
          <a:ln w="0">
            <a:noFill/>
          </a:ln>
        </p:spPr>
      </p:pic>
      <p:sp>
        <p:nvSpPr>
          <p:cNvPr id="458"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59" name="Picture 8" descr=""/>
          <p:cNvPicPr/>
          <p:nvPr/>
        </p:nvPicPr>
        <p:blipFill>
          <a:blip r:embed="rId3"/>
          <a:stretch/>
        </p:blipFill>
        <p:spPr>
          <a:xfrm>
            <a:off x="309600" y="6348240"/>
            <a:ext cx="1660320" cy="343080"/>
          </a:xfrm>
          <a:prstGeom prst="rect">
            <a:avLst/>
          </a:prstGeom>
          <a:ln w="0">
            <a:noFill/>
          </a:ln>
        </p:spPr>
      </p:pic>
      <p:pic>
        <p:nvPicPr>
          <p:cNvPr id="460" name="Straight Connector 10" descr=""/>
          <p:cNvPicPr/>
          <p:nvPr/>
        </p:nvPicPr>
        <p:blipFill>
          <a:blip r:embed="rId4"/>
          <a:stretch/>
        </p:blipFill>
        <p:spPr>
          <a:xfrm>
            <a:off x="-103320" y="6035760"/>
            <a:ext cx="9375840" cy="225360"/>
          </a:xfrm>
          <a:prstGeom prst="rect">
            <a:avLst/>
          </a:prstGeom>
          <a:ln w="0">
            <a:noFill/>
          </a:ln>
        </p:spPr>
      </p:pic>
      <p:sp>
        <p:nvSpPr>
          <p:cNvPr id="461"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62"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63" name="Picture 14" descr=""/>
          <p:cNvPicPr/>
          <p:nvPr/>
        </p:nvPicPr>
        <p:blipFill>
          <a:blip r:embed="rId5"/>
          <a:stretch/>
        </p:blipFill>
        <p:spPr>
          <a:xfrm>
            <a:off x="3921120" y="5470560"/>
            <a:ext cx="1087560" cy="1387440"/>
          </a:xfrm>
          <a:prstGeom prst="rect">
            <a:avLst/>
          </a:prstGeom>
          <a:ln w="0">
            <a:noFill/>
          </a:ln>
        </p:spPr>
      </p:pic>
      <p:grpSp>
        <p:nvGrpSpPr>
          <p:cNvPr id="464" name="Rectangle 12"/>
          <p:cNvGrpSpPr/>
          <p:nvPr/>
        </p:nvGrpSpPr>
        <p:grpSpPr>
          <a:xfrm>
            <a:off x="-146160" y="-146160"/>
            <a:ext cx="9436320" cy="993960"/>
            <a:chOff x="-146160" y="-146160"/>
            <a:chExt cx="9436320" cy="993960"/>
          </a:xfrm>
        </p:grpSpPr>
        <p:pic>
          <p:nvPicPr>
            <p:cNvPr id="465" name="Rectangle 12" descr=""/>
            <p:cNvPicPr/>
            <p:nvPr/>
          </p:nvPicPr>
          <p:blipFill>
            <a:blip r:embed="rId6"/>
            <a:stretch/>
          </p:blipFill>
          <p:spPr>
            <a:xfrm>
              <a:off x="-146160" y="-146160"/>
              <a:ext cx="9436320" cy="993960"/>
            </a:xfrm>
            <a:prstGeom prst="rect">
              <a:avLst/>
            </a:prstGeom>
            <a:ln w="0">
              <a:noFill/>
            </a:ln>
          </p:spPr>
        </p:pic>
        <p:sp>
          <p:nvSpPr>
            <p:cNvPr id="466"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7"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8"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69"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0"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11E5-D56B-4999-B3D0-B75E4ADF4CBA}"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3" descr="DMTC logo.jpg"/>
          <p:cNvPicPr/>
          <p:nvPr/>
        </p:nvPicPr>
        <p:blipFill>
          <a:blip r:embed="rId2"/>
          <a:stretch/>
        </p:blipFill>
        <p:spPr>
          <a:xfrm>
            <a:off x="6640560" y="6232680"/>
            <a:ext cx="460440" cy="583920"/>
          </a:xfrm>
          <a:prstGeom prst="rect">
            <a:avLst/>
          </a:prstGeom>
          <a:ln w="0">
            <a:noFill/>
          </a:ln>
        </p:spPr>
      </p:pic>
      <p:sp>
        <p:nvSpPr>
          <p:cNvPr id="50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10" name="Picture 8" descr=""/>
          <p:cNvPicPr/>
          <p:nvPr/>
        </p:nvPicPr>
        <p:blipFill>
          <a:blip r:embed="rId3"/>
          <a:stretch/>
        </p:blipFill>
        <p:spPr>
          <a:xfrm>
            <a:off x="309600" y="6348240"/>
            <a:ext cx="1660320" cy="343080"/>
          </a:xfrm>
          <a:prstGeom prst="rect">
            <a:avLst/>
          </a:prstGeom>
          <a:ln w="0">
            <a:noFill/>
          </a:ln>
        </p:spPr>
      </p:pic>
      <p:pic>
        <p:nvPicPr>
          <p:cNvPr id="511" name="Straight Connector 10" descr=""/>
          <p:cNvPicPr/>
          <p:nvPr/>
        </p:nvPicPr>
        <p:blipFill>
          <a:blip r:embed="rId4"/>
          <a:stretch/>
        </p:blipFill>
        <p:spPr>
          <a:xfrm>
            <a:off x="-103320" y="6035760"/>
            <a:ext cx="9375840" cy="225360"/>
          </a:xfrm>
          <a:prstGeom prst="rect">
            <a:avLst/>
          </a:prstGeom>
          <a:ln w="0">
            <a:noFill/>
          </a:ln>
        </p:spPr>
      </p:pic>
      <p:sp>
        <p:nvSpPr>
          <p:cNvPr id="51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1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14" name="Picture 14" descr=""/>
          <p:cNvPicPr/>
          <p:nvPr/>
        </p:nvPicPr>
        <p:blipFill>
          <a:blip r:embed="rId5"/>
          <a:stretch/>
        </p:blipFill>
        <p:spPr>
          <a:xfrm>
            <a:off x="3921120" y="5470560"/>
            <a:ext cx="1087560" cy="1387440"/>
          </a:xfrm>
          <a:prstGeom prst="rect">
            <a:avLst/>
          </a:prstGeom>
          <a:ln w="0">
            <a:noFill/>
          </a:ln>
        </p:spPr>
      </p:pic>
      <p:grpSp>
        <p:nvGrpSpPr>
          <p:cNvPr id="515" name="Rectangle 12"/>
          <p:cNvGrpSpPr/>
          <p:nvPr/>
        </p:nvGrpSpPr>
        <p:grpSpPr>
          <a:xfrm>
            <a:off x="-146160" y="-146160"/>
            <a:ext cx="9436320" cy="993960"/>
            <a:chOff x="-146160" y="-146160"/>
            <a:chExt cx="9436320" cy="993960"/>
          </a:xfrm>
        </p:grpSpPr>
        <p:pic>
          <p:nvPicPr>
            <p:cNvPr id="516" name="Rectangle 12" descr=""/>
            <p:cNvPicPr/>
            <p:nvPr/>
          </p:nvPicPr>
          <p:blipFill>
            <a:blip r:embed="rId6"/>
            <a:stretch/>
          </p:blipFill>
          <p:spPr>
            <a:xfrm>
              <a:off x="-146160" y="-146160"/>
              <a:ext cx="9436320" cy="993960"/>
            </a:xfrm>
            <a:prstGeom prst="rect">
              <a:avLst/>
            </a:prstGeom>
            <a:ln w="0">
              <a:noFill/>
            </a:ln>
          </p:spPr>
        </p:pic>
        <p:sp>
          <p:nvSpPr>
            <p:cNvPr id="51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8"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19"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20"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21"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CD76-E131-425B-BC7D-77024991BB6D}"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Picture 3" descr="DMTC logo.jpg"/>
          <p:cNvPicPr/>
          <p:nvPr/>
        </p:nvPicPr>
        <p:blipFill>
          <a:blip r:embed="rId2"/>
          <a:stretch/>
        </p:blipFill>
        <p:spPr>
          <a:xfrm>
            <a:off x="6640560" y="6232680"/>
            <a:ext cx="460440" cy="583920"/>
          </a:xfrm>
          <a:prstGeom prst="rect">
            <a:avLst/>
          </a:prstGeom>
          <a:ln w="0">
            <a:noFill/>
          </a:ln>
        </p:spPr>
      </p:pic>
      <p:sp>
        <p:nvSpPr>
          <p:cNvPr id="56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61" name="Picture 8" descr=""/>
          <p:cNvPicPr/>
          <p:nvPr/>
        </p:nvPicPr>
        <p:blipFill>
          <a:blip r:embed="rId3"/>
          <a:stretch/>
        </p:blipFill>
        <p:spPr>
          <a:xfrm>
            <a:off x="309600" y="6348240"/>
            <a:ext cx="1660320" cy="343080"/>
          </a:xfrm>
          <a:prstGeom prst="rect">
            <a:avLst/>
          </a:prstGeom>
          <a:ln w="0">
            <a:noFill/>
          </a:ln>
        </p:spPr>
      </p:pic>
      <p:pic>
        <p:nvPicPr>
          <p:cNvPr id="562" name="Straight Connector 10" descr=""/>
          <p:cNvPicPr/>
          <p:nvPr/>
        </p:nvPicPr>
        <p:blipFill>
          <a:blip r:embed="rId4"/>
          <a:stretch/>
        </p:blipFill>
        <p:spPr>
          <a:xfrm>
            <a:off x="-103320" y="6035760"/>
            <a:ext cx="9375840" cy="225360"/>
          </a:xfrm>
          <a:prstGeom prst="rect">
            <a:avLst/>
          </a:prstGeom>
          <a:ln w="0">
            <a:noFill/>
          </a:ln>
        </p:spPr>
      </p:pic>
      <p:sp>
        <p:nvSpPr>
          <p:cNvPr id="56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6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65" name="Picture 14" descr=""/>
          <p:cNvPicPr/>
          <p:nvPr/>
        </p:nvPicPr>
        <p:blipFill>
          <a:blip r:embed="rId5"/>
          <a:stretch/>
        </p:blipFill>
        <p:spPr>
          <a:xfrm>
            <a:off x="3921120" y="5470560"/>
            <a:ext cx="1087560" cy="1387440"/>
          </a:xfrm>
          <a:prstGeom prst="rect">
            <a:avLst/>
          </a:prstGeom>
          <a:ln w="0">
            <a:noFill/>
          </a:ln>
        </p:spPr>
      </p:pic>
      <p:grpSp>
        <p:nvGrpSpPr>
          <p:cNvPr id="566" name="Rectangle 12"/>
          <p:cNvGrpSpPr/>
          <p:nvPr/>
        </p:nvGrpSpPr>
        <p:grpSpPr>
          <a:xfrm>
            <a:off x="-146160" y="-146160"/>
            <a:ext cx="9436320" cy="993960"/>
            <a:chOff x="-146160" y="-146160"/>
            <a:chExt cx="9436320" cy="993960"/>
          </a:xfrm>
        </p:grpSpPr>
        <p:pic>
          <p:nvPicPr>
            <p:cNvPr id="567" name="Rectangle 12" descr=""/>
            <p:cNvPicPr/>
            <p:nvPr/>
          </p:nvPicPr>
          <p:blipFill>
            <a:blip r:embed="rId6"/>
            <a:stretch/>
          </p:blipFill>
          <p:spPr>
            <a:xfrm>
              <a:off x="-146160" y="-146160"/>
              <a:ext cx="9436320" cy="993960"/>
            </a:xfrm>
            <a:prstGeom prst="rect">
              <a:avLst/>
            </a:prstGeom>
            <a:ln w="0">
              <a:noFill/>
            </a:ln>
          </p:spPr>
        </p:pic>
        <p:sp>
          <p:nvSpPr>
            <p:cNvPr id="56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70"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71"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2"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C50D-B860-4E82-B99E-D3FE63F86309}"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MTC logo.jpg"/>
          <p:cNvPicPr/>
          <p:nvPr/>
        </p:nvPicPr>
        <p:blipFill>
          <a:blip r:embed="rId2"/>
          <a:stretch/>
        </p:blipFill>
        <p:spPr>
          <a:xfrm>
            <a:off x="6640560" y="6232680"/>
            <a:ext cx="460440" cy="583920"/>
          </a:xfrm>
          <a:prstGeom prst="rect">
            <a:avLst/>
          </a:prstGeom>
          <a:ln w="0">
            <a:noFill/>
          </a:ln>
        </p:spPr>
      </p:pic>
      <p:sp>
        <p:nvSpPr>
          <p:cNvPr id="4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0" name="Picture 8" descr=""/>
          <p:cNvPicPr/>
          <p:nvPr/>
        </p:nvPicPr>
        <p:blipFill>
          <a:blip r:embed="rId3"/>
          <a:stretch/>
        </p:blipFill>
        <p:spPr>
          <a:xfrm>
            <a:off x="309600" y="6348240"/>
            <a:ext cx="1660320" cy="343080"/>
          </a:xfrm>
          <a:prstGeom prst="rect">
            <a:avLst/>
          </a:prstGeom>
          <a:ln w="0">
            <a:noFill/>
          </a:ln>
        </p:spPr>
      </p:pic>
      <p:pic>
        <p:nvPicPr>
          <p:cNvPr id="51" name="Straight Connector 10" descr=""/>
          <p:cNvPicPr/>
          <p:nvPr/>
        </p:nvPicPr>
        <p:blipFill>
          <a:blip r:embed="rId4"/>
          <a:stretch/>
        </p:blipFill>
        <p:spPr>
          <a:xfrm>
            <a:off x="-103320" y="6035760"/>
            <a:ext cx="9375840" cy="225360"/>
          </a:xfrm>
          <a:prstGeom prst="rect">
            <a:avLst/>
          </a:prstGeom>
          <a:ln w="0">
            <a:noFill/>
          </a:ln>
        </p:spPr>
      </p:pic>
      <p:sp>
        <p:nvSpPr>
          <p:cNvPr id="5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4" name="Picture 14" descr=""/>
          <p:cNvPicPr/>
          <p:nvPr/>
        </p:nvPicPr>
        <p:blipFill>
          <a:blip r:embed="rId5"/>
          <a:stretch/>
        </p:blipFill>
        <p:spPr>
          <a:xfrm>
            <a:off x="3921120" y="5470560"/>
            <a:ext cx="1087560" cy="1387440"/>
          </a:xfrm>
          <a:prstGeom prst="rect">
            <a:avLst/>
          </a:prstGeom>
          <a:ln w="0">
            <a:noFill/>
          </a:ln>
        </p:spPr>
      </p:pic>
      <p:grpSp>
        <p:nvGrpSpPr>
          <p:cNvPr id="55" name="Rectangle 12"/>
          <p:cNvGrpSpPr/>
          <p:nvPr/>
        </p:nvGrpSpPr>
        <p:grpSpPr>
          <a:xfrm>
            <a:off x="-146160" y="-146160"/>
            <a:ext cx="9436320" cy="993960"/>
            <a:chOff x="-146160" y="-146160"/>
            <a:chExt cx="9436320" cy="993960"/>
          </a:xfrm>
        </p:grpSpPr>
        <p:pic>
          <p:nvPicPr>
            <p:cNvPr id="56" name="Rectangle 12" descr=""/>
            <p:cNvPicPr/>
            <p:nvPr/>
          </p:nvPicPr>
          <p:blipFill>
            <a:blip r:embed="rId6"/>
            <a:stretch/>
          </p:blipFill>
          <p:spPr>
            <a:xfrm>
              <a:off x="-146160" y="-146160"/>
              <a:ext cx="9436320" cy="993960"/>
            </a:xfrm>
            <a:prstGeom prst="rect">
              <a:avLst/>
            </a:prstGeom>
            <a:ln w="0">
              <a:noFill/>
            </a:ln>
          </p:spPr>
        </p:pic>
        <p:sp>
          <p:nvSpPr>
            <p:cNvPr id="5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 name="Rectangle 15"/>
          <p:cNvGrpSpPr/>
          <p:nvPr/>
        </p:nvGrpSpPr>
        <p:grpSpPr>
          <a:xfrm>
            <a:off x="-146160" y="-146160"/>
            <a:ext cx="9436320" cy="993960"/>
            <a:chOff x="-146160" y="-146160"/>
            <a:chExt cx="9436320" cy="993960"/>
          </a:xfrm>
        </p:grpSpPr>
        <p:pic>
          <p:nvPicPr>
            <p:cNvPr id="59" name="Rectangle 15" descr=""/>
            <p:cNvPicPr/>
            <p:nvPr/>
          </p:nvPicPr>
          <p:blipFill>
            <a:blip r:embed="rId7"/>
            <a:stretch/>
          </p:blipFill>
          <p:spPr>
            <a:xfrm>
              <a:off x="-146160" y="-146160"/>
              <a:ext cx="9436320" cy="993960"/>
            </a:xfrm>
            <a:prstGeom prst="rect">
              <a:avLst/>
            </a:prstGeom>
            <a:ln w="0">
              <a:noFill/>
            </a:ln>
          </p:spPr>
        </p:pic>
        <p:sp>
          <p:nvSpPr>
            <p:cNvPr id="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DMTC logo.jpg"/>
          <p:cNvPicPr/>
          <p:nvPr/>
        </p:nvPicPr>
        <p:blipFill>
          <a:blip r:embed="rId2"/>
          <a:stretch/>
        </p:blipFill>
        <p:spPr>
          <a:xfrm>
            <a:off x="6640560" y="6232680"/>
            <a:ext cx="460440" cy="583920"/>
          </a:xfrm>
          <a:prstGeom prst="rect">
            <a:avLst/>
          </a:prstGeom>
          <a:ln w="0">
            <a:noFill/>
          </a:ln>
        </p:spPr>
      </p:pic>
      <p:sp>
        <p:nvSpPr>
          <p:cNvPr id="10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01" name="Picture 8" descr=""/>
          <p:cNvPicPr/>
          <p:nvPr/>
        </p:nvPicPr>
        <p:blipFill>
          <a:blip r:embed="rId3"/>
          <a:stretch/>
        </p:blipFill>
        <p:spPr>
          <a:xfrm>
            <a:off x="309600" y="6348240"/>
            <a:ext cx="1660320" cy="343080"/>
          </a:xfrm>
          <a:prstGeom prst="rect">
            <a:avLst/>
          </a:prstGeom>
          <a:ln w="0">
            <a:noFill/>
          </a:ln>
        </p:spPr>
      </p:pic>
      <p:pic>
        <p:nvPicPr>
          <p:cNvPr id="102" name="Straight Connector 10" descr=""/>
          <p:cNvPicPr/>
          <p:nvPr/>
        </p:nvPicPr>
        <p:blipFill>
          <a:blip r:embed="rId4"/>
          <a:stretch/>
        </p:blipFill>
        <p:spPr>
          <a:xfrm>
            <a:off x="-103320" y="6035760"/>
            <a:ext cx="9375840" cy="225360"/>
          </a:xfrm>
          <a:prstGeom prst="rect">
            <a:avLst/>
          </a:prstGeom>
          <a:ln w="0">
            <a:noFill/>
          </a:ln>
        </p:spPr>
      </p:pic>
      <p:sp>
        <p:nvSpPr>
          <p:cNvPr id="10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0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05" name="Picture 14" descr=""/>
          <p:cNvPicPr/>
          <p:nvPr/>
        </p:nvPicPr>
        <p:blipFill>
          <a:blip r:embed="rId5"/>
          <a:stretch/>
        </p:blipFill>
        <p:spPr>
          <a:xfrm>
            <a:off x="3921120" y="5470560"/>
            <a:ext cx="1087560" cy="1387440"/>
          </a:xfrm>
          <a:prstGeom prst="rect">
            <a:avLst/>
          </a:prstGeom>
          <a:ln w="0">
            <a:noFill/>
          </a:ln>
        </p:spPr>
      </p:pic>
      <p:grpSp>
        <p:nvGrpSpPr>
          <p:cNvPr id="106" name="Rectangle 12"/>
          <p:cNvGrpSpPr/>
          <p:nvPr/>
        </p:nvGrpSpPr>
        <p:grpSpPr>
          <a:xfrm>
            <a:off x="-146160" y="-146160"/>
            <a:ext cx="9436320" cy="993960"/>
            <a:chOff x="-146160" y="-146160"/>
            <a:chExt cx="9436320" cy="993960"/>
          </a:xfrm>
        </p:grpSpPr>
        <p:pic>
          <p:nvPicPr>
            <p:cNvPr id="107" name="Rectangle 12" descr=""/>
            <p:cNvPicPr/>
            <p:nvPr/>
          </p:nvPicPr>
          <p:blipFill>
            <a:blip r:embed="rId6"/>
            <a:stretch/>
          </p:blipFill>
          <p:spPr>
            <a:xfrm>
              <a:off x="-146160" y="-146160"/>
              <a:ext cx="9436320" cy="993960"/>
            </a:xfrm>
            <a:prstGeom prst="rect">
              <a:avLst/>
            </a:prstGeom>
            <a:ln w="0">
              <a:noFill/>
            </a:ln>
          </p:spPr>
        </p:pic>
        <p:sp>
          <p:nvSpPr>
            <p:cNvPr id="10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9" name="Picture 7" descr="unlogo"/>
          <p:cNvPicPr/>
          <p:nvPr/>
        </p:nvPicPr>
        <p:blipFill>
          <a:blip r:embed="rId7"/>
          <a:stretch/>
        </p:blipFill>
        <p:spPr>
          <a:xfrm>
            <a:off x="0" y="6407280"/>
            <a:ext cx="533520" cy="450720"/>
          </a:xfrm>
          <a:prstGeom prst="rect">
            <a:avLst/>
          </a:prstGeom>
          <a:ln w="0">
            <a:noFill/>
          </a:ln>
        </p:spPr>
      </p:pic>
      <p:sp>
        <p:nvSpPr>
          <p:cNvPr id="11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1"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1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8E09-C1E6-484D-84C3-E66AC2E6791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3" descr="DMTC logo.jpg"/>
          <p:cNvPicPr/>
          <p:nvPr/>
        </p:nvPicPr>
        <p:blipFill>
          <a:blip r:embed="rId2"/>
          <a:stretch/>
        </p:blipFill>
        <p:spPr>
          <a:xfrm>
            <a:off x="6640560" y="6232680"/>
            <a:ext cx="460440" cy="583920"/>
          </a:xfrm>
          <a:prstGeom prst="rect">
            <a:avLst/>
          </a:prstGeom>
          <a:ln w="0">
            <a:noFill/>
          </a:ln>
        </p:spPr>
      </p:pic>
      <p:sp>
        <p:nvSpPr>
          <p:cNvPr id="15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53" name="Picture 8" descr=""/>
          <p:cNvPicPr/>
          <p:nvPr/>
        </p:nvPicPr>
        <p:blipFill>
          <a:blip r:embed="rId3"/>
          <a:stretch/>
        </p:blipFill>
        <p:spPr>
          <a:xfrm>
            <a:off x="309600" y="6348240"/>
            <a:ext cx="1660320" cy="343080"/>
          </a:xfrm>
          <a:prstGeom prst="rect">
            <a:avLst/>
          </a:prstGeom>
          <a:ln w="0">
            <a:noFill/>
          </a:ln>
        </p:spPr>
      </p:pic>
      <p:pic>
        <p:nvPicPr>
          <p:cNvPr id="154" name="Straight Connector 10" descr=""/>
          <p:cNvPicPr/>
          <p:nvPr/>
        </p:nvPicPr>
        <p:blipFill>
          <a:blip r:embed="rId4"/>
          <a:stretch/>
        </p:blipFill>
        <p:spPr>
          <a:xfrm>
            <a:off x="-103320" y="6035760"/>
            <a:ext cx="9375840" cy="225360"/>
          </a:xfrm>
          <a:prstGeom prst="rect">
            <a:avLst/>
          </a:prstGeom>
          <a:ln w="0">
            <a:noFill/>
          </a:ln>
        </p:spPr>
      </p:pic>
      <p:sp>
        <p:nvSpPr>
          <p:cNvPr id="155"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56"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57" name="Picture 14" descr=""/>
          <p:cNvPicPr/>
          <p:nvPr/>
        </p:nvPicPr>
        <p:blipFill>
          <a:blip r:embed="rId5"/>
          <a:stretch/>
        </p:blipFill>
        <p:spPr>
          <a:xfrm>
            <a:off x="3921120" y="5470560"/>
            <a:ext cx="1087560" cy="1387440"/>
          </a:xfrm>
          <a:prstGeom prst="rect">
            <a:avLst/>
          </a:prstGeom>
          <a:ln w="0">
            <a:noFill/>
          </a:ln>
        </p:spPr>
      </p:pic>
      <p:grpSp>
        <p:nvGrpSpPr>
          <p:cNvPr id="158" name="Rectangle 12"/>
          <p:cNvGrpSpPr/>
          <p:nvPr/>
        </p:nvGrpSpPr>
        <p:grpSpPr>
          <a:xfrm>
            <a:off x="-146160" y="-146160"/>
            <a:ext cx="9436320" cy="993960"/>
            <a:chOff x="-146160" y="-146160"/>
            <a:chExt cx="9436320" cy="993960"/>
          </a:xfrm>
        </p:grpSpPr>
        <p:pic>
          <p:nvPicPr>
            <p:cNvPr id="159" name="Rectangle 12" descr=""/>
            <p:cNvPicPr/>
            <p:nvPr/>
          </p:nvPicPr>
          <p:blipFill>
            <a:blip r:embed="rId6"/>
            <a:stretch/>
          </p:blipFill>
          <p:spPr>
            <a:xfrm>
              <a:off x="-146160" y="-146160"/>
              <a:ext cx="9436320" cy="993960"/>
            </a:xfrm>
            <a:prstGeom prst="rect">
              <a:avLst/>
            </a:prstGeom>
            <a:ln w="0">
              <a:noFill/>
            </a:ln>
          </p:spPr>
        </p:pic>
        <p:sp>
          <p:nvSpPr>
            <p:cNvPr id="1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6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2BA0-B7A9-46CF-97E9-FF6741B1CDA2}"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3" descr="DMTC logo.jpg"/>
          <p:cNvPicPr/>
          <p:nvPr/>
        </p:nvPicPr>
        <p:blipFill>
          <a:blip r:embed="rId2"/>
          <a:stretch/>
        </p:blipFill>
        <p:spPr>
          <a:xfrm>
            <a:off x="6640560" y="6232680"/>
            <a:ext cx="460440" cy="583920"/>
          </a:xfrm>
          <a:prstGeom prst="rect">
            <a:avLst/>
          </a:prstGeom>
          <a:ln w="0">
            <a:noFill/>
          </a:ln>
        </p:spPr>
      </p:pic>
      <p:sp>
        <p:nvSpPr>
          <p:cNvPr id="203"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04" name="Picture 8" descr=""/>
          <p:cNvPicPr/>
          <p:nvPr/>
        </p:nvPicPr>
        <p:blipFill>
          <a:blip r:embed="rId3"/>
          <a:stretch/>
        </p:blipFill>
        <p:spPr>
          <a:xfrm>
            <a:off x="309600" y="6348240"/>
            <a:ext cx="1660320" cy="343080"/>
          </a:xfrm>
          <a:prstGeom prst="rect">
            <a:avLst/>
          </a:prstGeom>
          <a:ln w="0">
            <a:noFill/>
          </a:ln>
        </p:spPr>
      </p:pic>
      <p:pic>
        <p:nvPicPr>
          <p:cNvPr id="205" name="Straight Connector 10" descr=""/>
          <p:cNvPicPr/>
          <p:nvPr/>
        </p:nvPicPr>
        <p:blipFill>
          <a:blip r:embed="rId4"/>
          <a:stretch/>
        </p:blipFill>
        <p:spPr>
          <a:xfrm>
            <a:off x="-103320" y="6035760"/>
            <a:ext cx="9375840" cy="225360"/>
          </a:xfrm>
          <a:prstGeom prst="rect">
            <a:avLst/>
          </a:prstGeom>
          <a:ln w="0">
            <a:noFill/>
          </a:ln>
        </p:spPr>
      </p:pic>
      <p:sp>
        <p:nvSpPr>
          <p:cNvPr id="20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0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08" name="Picture 14" descr=""/>
          <p:cNvPicPr/>
          <p:nvPr/>
        </p:nvPicPr>
        <p:blipFill>
          <a:blip r:embed="rId5"/>
          <a:stretch/>
        </p:blipFill>
        <p:spPr>
          <a:xfrm>
            <a:off x="3921120" y="5470560"/>
            <a:ext cx="1087560" cy="1387440"/>
          </a:xfrm>
          <a:prstGeom prst="rect">
            <a:avLst/>
          </a:prstGeom>
          <a:ln w="0">
            <a:noFill/>
          </a:ln>
        </p:spPr>
      </p:pic>
      <p:grpSp>
        <p:nvGrpSpPr>
          <p:cNvPr id="209" name="Rectangle 12"/>
          <p:cNvGrpSpPr/>
          <p:nvPr/>
        </p:nvGrpSpPr>
        <p:grpSpPr>
          <a:xfrm>
            <a:off x="-146160" y="-146160"/>
            <a:ext cx="9436320" cy="993960"/>
            <a:chOff x="-146160" y="-146160"/>
            <a:chExt cx="9436320" cy="993960"/>
          </a:xfrm>
        </p:grpSpPr>
        <p:pic>
          <p:nvPicPr>
            <p:cNvPr id="210" name="Rectangle 12" descr=""/>
            <p:cNvPicPr/>
            <p:nvPr/>
          </p:nvPicPr>
          <p:blipFill>
            <a:blip r:embed="rId6"/>
            <a:stretch/>
          </p:blipFill>
          <p:spPr>
            <a:xfrm>
              <a:off x="-146160" y="-146160"/>
              <a:ext cx="9436320" cy="993960"/>
            </a:xfrm>
            <a:prstGeom prst="rect">
              <a:avLst/>
            </a:prstGeom>
            <a:ln w="0">
              <a:noFill/>
            </a:ln>
          </p:spPr>
        </p:pic>
        <p:sp>
          <p:nvSpPr>
            <p:cNvPr id="2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3"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1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E8E7-103C-475F-8BC8-7BA3E90CB256}"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3" descr="DMTC logo.jpg"/>
          <p:cNvPicPr/>
          <p:nvPr/>
        </p:nvPicPr>
        <p:blipFill>
          <a:blip r:embed="rId2"/>
          <a:stretch/>
        </p:blipFill>
        <p:spPr>
          <a:xfrm>
            <a:off x="6640560" y="6232680"/>
            <a:ext cx="460440" cy="583920"/>
          </a:xfrm>
          <a:prstGeom prst="rect">
            <a:avLst/>
          </a:prstGeom>
          <a:ln w="0">
            <a:noFill/>
          </a:ln>
        </p:spPr>
      </p:pic>
      <p:sp>
        <p:nvSpPr>
          <p:cNvPr id="254"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55" name="Picture 8" descr=""/>
          <p:cNvPicPr/>
          <p:nvPr/>
        </p:nvPicPr>
        <p:blipFill>
          <a:blip r:embed="rId3"/>
          <a:stretch/>
        </p:blipFill>
        <p:spPr>
          <a:xfrm>
            <a:off x="309600" y="6348240"/>
            <a:ext cx="1660320" cy="343080"/>
          </a:xfrm>
          <a:prstGeom prst="rect">
            <a:avLst/>
          </a:prstGeom>
          <a:ln w="0">
            <a:noFill/>
          </a:ln>
        </p:spPr>
      </p:pic>
      <p:pic>
        <p:nvPicPr>
          <p:cNvPr id="256" name="Straight Connector 10" descr=""/>
          <p:cNvPicPr/>
          <p:nvPr/>
        </p:nvPicPr>
        <p:blipFill>
          <a:blip r:embed="rId4"/>
          <a:stretch/>
        </p:blipFill>
        <p:spPr>
          <a:xfrm>
            <a:off x="-103320" y="6035760"/>
            <a:ext cx="9375840" cy="225360"/>
          </a:xfrm>
          <a:prstGeom prst="rect">
            <a:avLst/>
          </a:prstGeom>
          <a:ln w="0">
            <a:noFill/>
          </a:ln>
        </p:spPr>
      </p:pic>
      <p:sp>
        <p:nvSpPr>
          <p:cNvPr id="257"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58"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59" name="Picture 14" descr=""/>
          <p:cNvPicPr/>
          <p:nvPr/>
        </p:nvPicPr>
        <p:blipFill>
          <a:blip r:embed="rId5"/>
          <a:stretch/>
        </p:blipFill>
        <p:spPr>
          <a:xfrm>
            <a:off x="3921120" y="5470560"/>
            <a:ext cx="1087560" cy="1387440"/>
          </a:xfrm>
          <a:prstGeom prst="rect">
            <a:avLst/>
          </a:prstGeom>
          <a:ln w="0">
            <a:noFill/>
          </a:ln>
        </p:spPr>
      </p:pic>
      <p:grpSp>
        <p:nvGrpSpPr>
          <p:cNvPr id="260" name="Rectangle 12"/>
          <p:cNvGrpSpPr/>
          <p:nvPr/>
        </p:nvGrpSpPr>
        <p:grpSpPr>
          <a:xfrm>
            <a:off x="-146160" y="-146160"/>
            <a:ext cx="9436320" cy="993960"/>
            <a:chOff x="-146160" y="-146160"/>
            <a:chExt cx="9436320" cy="993960"/>
          </a:xfrm>
        </p:grpSpPr>
        <p:pic>
          <p:nvPicPr>
            <p:cNvPr id="261" name="Rectangle 12" descr=""/>
            <p:cNvPicPr/>
            <p:nvPr/>
          </p:nvPicPr>
          <p:blipFill>
            <a:blip r:embed="rId6"/>
            <a:stretch/>
          </p:blipFill>
          <p:spPr>
            <a:xfrm>
              <a:off x="-146160" y="-146160"/>
              <a:ext cx="9436320" cy="993960"/>
            </a:xfrm>
            <a:prstGeom prst="rect">
              <a:avLst/>
            </a:prstGeom>
            <a:ln w="0">
              <a:noFill/>
            </a:ln>
          </p:spPr>
        </p:pic>
        <p:sp>
          <p:nvSpPr>
            <p:cNvPr id="262"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3"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4"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65"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6"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3CBE-815B-4759-B0D7-A0DBF78AE63B}"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3" descr="DMTC logo.jpg"/>
          <p:cNvPicPr/>
          <p:nvPr/>
        </p:nvPicPr>
        <p:blipFill>
          <a:blip r:embed="rId2"/>
          <a:stretch/>
        </p:blipFill>
        <p:spPr>
          <a:xfrm>
            <a:off x="6640560" y="6232680"/>
            <a:ext cx="460440" cy="583920"/>
          </a:xfrm>
          <a:prstGeom prst="rect">
            <a:avLst/>
          </a:prstGeom>
          <a:ln w="0">
            <a:noFill/>
          </a:ln>
        </p:spPr>
      </p:pic>
      <p:sp>
        <p:nvSpPr>
          <p:cNvPr id="305"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06" name="Picture 8" descr=""/>
          <p:cNvPicPr/>
          <p:nvPr/>
        </p:nvPicPr>
        <p:blipFill>
          <a:blip r:embed="rId3"/>
          <a:stretch/>
        </p:blipFill>
        <p:spPr>
          <a:xfrm>
            <a:off x="309600" y="6348240"/>
            <a:ext cx="1660320" cy="343080"/>
          </a:xfrm>
          <a:prstGeom prst="rect">
            <a:avLst/>
          </a:prstGeom>
          <a:ln w="0">
            <a:noFill/>
          </a:ln>
        </p:spPr>
      </p:pic>
      <p:pic>
        <p:nvPicPr>
          <p:cNvPr id="307" name="Straight Connector 10" descr=""/>
          <p:cNvPicPr/>
          <p:nvPr/>
        </p:nvPicPr>
        <p:blipFill>
          <a:blip r:embed="rId4"/>
          <a:stretch/>
        </p:blipFill>
        <p:spPr>
          <a:xfrm>
            <a:off x="-103320" y="6035760"/>
            <a:ext cx="9375840" cy="225360"/>
          </a:xfrm>
          <a:prstGeom prst="rect">
            <a:avLst/>
          </a:prstGeom>
          <a:ln w="0">
            <a:noFill/>
          </a:ln>
        </p:spPr>
      </p:pic>
      <p:sp>
        <p:nvSpPr>
          <p:cNvPr id="308"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09"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10" name="Picture 14" descr=""/>
          <p:cNvPicPr/>
          <p:nvPr/>
        </p:nvPicPr>
        <p:blipFill>
          <a:blip r:embed="rId5"/>
          <a:stretch/>
        </p:blipFill>
        <p:spPr>
          <a:xfrm>
            <a:off x="3921120" y="5470560"/>
            <a:ext cx="1087560" cy="1387440"/>
          </a:xfrm>
          <a:prstGeom prst="rect">
            <a:avLst/>
          </a:prstGeom>
          <a:ln w="0">
            <a:noFill/>
          </a:ln>
        </p:spPr>
      </p:pic>
      <p:grpSp>
        <p:nvGrpSpPr>
          <p:cNvPr id="311" name="Rectangle 12"/>
          <p:cNvGrpSpPr/>
          <p:nvPr/>
        </p:nvGrpSpPr>
        <p:grpSpPr>
          <a:xfrm>
            <a:off x="-146160" y="-146160"/>
            <a:ext cx="9436320" cy="993960"/>
            <a:chOff x="-146160" y="-146160"/>
            <a:chExt cx="9436320" cy="993960"/>
          </a:xfrm>
        </p:grpSpPr>
        <p:pic>
          <p:nvPicPr>
            <p:cNvPr id="312" name="Rectangle 12" descr=""/>
            <p:cNvPicPr/>
            <p:nvPr/>
          </p:nvPicPr>
          <p:blipFill>
            <a:blip r:embed="rId6"/>
            <a:stretch/>
          </p:blipFill>
          <p:spPr>
            <a:xfrm>
              <a:off x="-146160" y="-146160"/>
              <a:ext cx="9436320" cy="993960"/>
            </a:xfrm>
            <a:prstGeom prst="rect">
              <a:avLst/>
            </a:prstGeom>
            <a:ln w="0">
              <a:noFill/>
            </a:ln>
          </p:spPr>
        </p:pic>
        <p:sp>
          <p:nvSpPr>
            <p:cNvPr id="313"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1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C85A-6AF0-4798-A0C5-9932D94959F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3" descr="DMTC logo.jpg"/>
          <p:cNvPicPr/>
          <p:nvPr/>
        </p:nvPicPr>
        <p:blipFill>
          <a:blip r:embed="rId2"/>
          <a:stretch/>
        </p:blipFill>
        <p:spPr>
          <a:xfrm>
            <a:off x="6640560" y="6232680"/>
            <a:ext cx="460440" cy="583920"/>
          </a:xfrm>
          <a:prstGeom prst="rect">
            <a:avLst/>
          </a:prstGeom>
          <a:ln w="0">
            <a:noFill/>
          </a:ln>
        </p:spPr>
      </p:pic>
      <p:sp>
        <p:nvSpPr>
          <p:cNvPr id="356"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57" name="Picture 8" descr=""/>
          <p:cNvPicPr/>
          <p:nvPr/>
        </p:nvPicPr>
        <p:blipFill>
          <a:blip r:embed="rId3"/>
          <a:stretch/>
        </p:blipFill>
        <p:spPr>
          <a:xfrm>
            <a:off x="309600" y="6348240"/>
            <a:ext cx="1660320" cy="343080"/>
          </a:xfrm>
          <a:prstGeom prst="rect">
            <a:avLst/>
          </a:prstGeom>
          <a:ln w="0">
            <a:noFill/>
          </a:ln>
        </p:spPr>
      </p:pic>
      <p:pic>
        <p:nvPicPr>
          <p:cNvPr id="358" name="Straight Connector 10" descr=""/>
          <p:cNvPicPr/>
          <p:nvPr/>
        </p:nvPicPr>
        <p:blipFill>
          <a:blip r:embed="rId4"/>
          <a:stretch/>
        </p:blipFill>
        <p:spPr>
          <a:xfrm>
            <a:off x="-103320" y="6035760"/>
            <a:ext cx="9375840" cy="225360"/>
          </a:xfrm>
          <a:prstGeom prst="rect">
            <a:avLst/>
          </a:prstGeom>
          <a:ln w="0">
            <a:noFill/>
          </a:ln>
        </p:spPr>
      </p:pic>
      <p:sp>
        <p:nvSpPr>
          <p:cNvPr id="359"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60"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61" name="Picture 14" descr=""/>
          <p:cNvPicPr/>
          <p:nvPr/>
        </p:nvPicPr>
        <p:blipFill>
          <a:blip r:embed="rId5"/>
          <a:stretch/>
        </p:blipFill>
        <p:spPr>
          <a:xfrm>
            <a:off x="3921120" y="5470560"/>
            <a:ext cx="1087560" cy="1387440"/>
          </a:xfrm>
          <a:prstGeom prst="rect">
            <a:avLst/>
          </a:prstGeom>
          <a:ln w="0">
            <a:noFill/>
          </a:ln>
        </p:spPr>
      </p:pic>
      <p:grpSp>
        <p:nvGrpSpPr>
          <p:cNvPr id="362" name="Rectangle 12"/>
          <p:cNvGrpSpPr/>
          <p:nvPr/>
        </p:nvGrpSpPr>
        <p:grpSpPr>
          <a:xfrm>
            <a:off x="-146160" y="-146160"/>
            <a:ext cx="9436320" cy="993960"/>
            <a:chOff x="-146160" y="-146160"/>
            <a:chExt cx="9436320" cy="993960"/>
          </a:xfrm>
        </p:grpSpPr>
        <p:pic>
          <p:nvPicPr>
            <p:cNvPr id="363" name="Rectangle 12" descr=""/>
            <p:cNvPicPr/>
            <p:nvPr/>
          </p:nvPicPr>
          <p:blipFill>
            <a:blip r:embed="rId6"/>
            <a:stretch/>
          </p:blipFill>
          <p:spPr>
            <a:xfrm>
              <a:off x="-146160" y="-146160"/>
              <a:ext cx="9436320" cy="993960"/>
            </a:xfrm>
            <a:prstGeom prst="rect">
              <a:avLst/>
            </a:prstGeom>
            <a:ln w="0">
              <a:noFill/>
            </a:ln>
          </p:spPr>
        </p:pic>
        <p:sp>
          <p:nvSpPr>
            <p:cNvPr id="364"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6"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6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F73D-1C0B-4EAB-9BF5-51FAA71C9003}"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Picture 3" descr="DMTC logo.jpg"/>
          <p:cNvPicPr/>
          <p:nvPr/>
        </p:nvPicPr>
        <p:blipFill>
          <a:blip r:embed="rId2"/>
          <a:stretch/>
        </p:blipFill>
        <p:spPr>
          <a:xfrm>
            <a:off x="6640560" y="6232680"/>
            <a:ext cx="460440" cy="583920"/>
          </a:xfrm>
          <a:prstGeom prst="rect">
            <a:avLst/>
          </a:prstGeom>
          <a:ln w="0">
            <a:noFill/>
          </a:ln>
        </p:spPr>
      </p:pic>
      <p:sp>
        <p:nvSpPr>
          <p:cNvPr id="407"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08" name="Picture 8" descr=""/>
          <p:cNvPicPr/>
          <p:nvPr/>
        </p:nvPicPr>
        <p:blipFill>
          <a:blip r:embed="rId3"/>
          <a:stretch/>
        </p:blipFill>
        <p:spPr>
          <a:xfrm>
            <a:off x="309600" y="6348240"/>
            <a:ext cx="1660320" cy="343080"/>
          </a:xfrm>
          <a:prstGeom prst="rect">
            <a:avLst/>
          </a:prstGeom>
          <a:ln w="0">
            <a:noFill/>
          </a:ln>
        </p:spPr>
      </p:pic>
      <p:pic>
        <p:nvPicPr>
          <p:cNvPr id="409" name="Straight Connector 10" descr=""/>
          <p:cNvPicPr/>
          <p:nvPr/>
        </p:nvPicPr>
        <p:blipFill>
          <a:blip r:embed="rId4"/>
          <a:stretch/>
        </p:blipFill>
        <p:spPr>
          <a:xfrm>
            <a:off x="-103320" y="6035760"/>
            <a:ext cx="9375840" cy="225360"/>
          </a:xfrm>
          <a:prstGeom prst="rect">
            <a:avLst/>
          </a:prstGeom>
          <a:ln w="0">
            <a:noFill/>
          </a:ln>
        </p:spPr>
      </p:pic>
      <p:sp>
        <p:nvSpPr>
          <p:cNvPr id="410"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11"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12" name="Picture 14" descr=""/>
          <p:cNvPicPr/>
          <p:nvPr/>
        </p:nvPicPr>
        <p:blipFill>
          <a:blip r:embed="rId5"/>
          <a:stretch/>
        </p:blipFill>
        <p:spPr>
          <a:xfrm>
            <a:off x="3921120" y="5470560"/>
            <a:ext cx="1087560" cy="1387440"/>
          </a:xfrm>
          <a:prstGeom prst="rect">
            <a:avLst/>
          </a:prstGeom>
          <a:ln w="0">
            <a:noFill/>
          </a:ln>
        </p:spPr>
      </p:pic>
      <p:grpSp>
        <p:nvGrpSpPr>
          <p:cNvPr id="413" name="Rectangle 12"/>
          <p:cNvGrpSpPr/>
          <p:nvPr/>
        </p:nvGrpSpPr>
        <p:grpSpPr>
          <a:xfrm>
            <a:off x="-146160" y="-146160"/>
            <a:ext cx="9436320" cy="993960"/>
            <a:chOff x="-146160" y="-146160"/>
            <a:chExt cx="9436320" cy="993960"/>
          </a:xfrm>
        </p:grpSpPr>
        <p:pic>
          <p:nvPicPr>
            <p:cNvPr id="414" name="Rectangle 12" descr=""/>
            <p:cNvPicPr/>
            <p:nvPr/>
          </p:nvPicPr>
          <p:blipFill>
            <a:blip r:embed="rId6"/>
            <a:stretch/>
          </p:blipFill>
          <p:spPr>
            <a:xfrm>
              <a:off x="-146160" y="-146160"/>
              <a:ext cx="9436320" cy="993960"/>
            </a:xfrm>
            <a:prstGeom prst="rect">
              <a:avLst/>
            </a:prstGeom>
            <a:ln w="0">
              <a:noFill/>
            </a:ln>
          </p:spPr>
        </p:pic>
        <p:sp>
          <p:nvSpPr>
            <p:cNvPr id="415"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6"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7"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1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564A-A965-4A6F-91FF-BAD36C91AD0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slideLayout" Target="../slideLayouts/slideLayout2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699840"/>
            <a:ext cx="9077400" cy="21524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500" spc="-1" strike="noStrike">
                <a:solidFill>
                  <a:srgbClr val="000000"/>
                </a:solidFill>
                <a:latin typeface="Calibri Light"/>
              </a:rPr>
              <a:t>Respect for Diversity in PKO</a:t>
            </a:r>
            <a:br>
              <a:rPr sz="4500"/>
            </a:br>
            <a:endParaRPr b="0" lang="en-US" sz="4500" spc="-1" strike="noStrike">
              <a:solidFill>
                <a:srgbClr val="ffffff"/>
              </a:solidFill>
              <a:latin typeface="Calibri Light"/>
            </a:endParaRPr>
          </a:p>
        </p:txBody>
      </p:sp>
      <p:pic>
        <p:nvPicPr>
          <p:cNvPr id="618" name="Picture 4" descr="C:\! A Work Current or Backup\! Core Integrated Training\Photos\UN flag.jpg"/>
          <p:cNvPicPr/>
          <p:nvPr/>
        </p:nvPicPr>
        <p:blipFill>
          <a:blip r:embed="rId1"/>
          <a:stretch/>
        </p:blipFill>
        <p:spPr>
          <a:xfrm>
            <a:off x="2773440" y="2706840"/>
            <a:ext cx="3432240" cy="2371680"/>
          </a:xfrm>
          <a:prstGeom prst="rect">
            <a:avLst/>
          </a:prstGeom>
          <a:ln w="0">
            <a:noFill/>
          </a:ln>
        </p:spPr>
      </p:pic>
      <p:sp>
        <p:nvSpPr>
          <p:cNvPr id="619" name="TextBox 4"/>
          <p:cNvSpPr/>
          <p:nvPr/>
        </p:nvSpPr>
        <p:spPr>
          <a:xfrm>
            <a:off x="500040" y="5611680"/>
            <a:ext cx="378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 </a:t>
            </a:r>
            <a:r>
              <a:rPr b="0" lang="en-CA" sz="1200" spc="-1" strike="noStrike">
                <a:solidFill>
                  <a:srgbClr val="000000"/>
                </a:solidFill>
                <a:latin typeface="Arial"/>
                <a:ea typeface="Arial"/>
              </a:rPr>
              <a:t>Pre-Deployment Training (PDT) </a:t>
            </a:r>
            <a:r>
              <a:rPr b="0" lang="en-US" sz="1200" spc="-1" strike="noStrike">
                <a:solidFill>
                  <a:srgbClr val="000000"/>
                </a:solidFill>
                <a:latin typeface="Arial"/>
                <a:ea typeface="Arial"/>
              </a:rPr>
              <a:t>Standard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Core PDT Materials </a:t>
            </a:r>
            <a:r>
              <a:rPr b="0" lang="en-US" sz="1200" spc="-1" strike="noStrike">
                <a:solidFill>
                  <a:srgbClr val="000000"/>
                </a:solidFill>
                <a:latin typeface="Arial"/>
                <a:ea typeface="Arial"/>
              </a:rPr>
              <a:t>1</a:t>
            </a:r>
            <a:r>
              <a:rPr b="0" lang="en-US" sz="1200" spc="-1" strike="noStrike" baseline="30000">
                <a:solidFill>
                  <a:srgbClr val="000000"/>
                </a:solidFill>
                <a:latin typeface="Arial"/>
                <a:ea typeface="Arial"/>
              </a:rPr>
              <a:t>st</a:t>
            </a:r>
            <a:r>
              <a:rPr b="0" lang="en-US" sz="1200" spc="-1" strike="noStrike">
                <a:solidFill>
                  <a:srgbClr val="000000"/>
                </a:solidFill>
                <a:latin typeface="Arial"/>
                <a:ea typeface="Arial"/>
              </a:rPr>
              <a:t> Ed. 2009</a:t>
            </a:r>
            <a:endParaRPr b="0" lang="en-US" sz="1200" spc="-1" strike="noStrike">
              <a:solidFill>
                <a:srgbClr val="000000"/>
              </a:solidFill>
              <a:latin typeface="Calibri"/>
            </a:endParaRPr>
          </a:p>
        </p:txBody>
      </p:sp>
      <p:pic>
        <p:nvPicPr>
          <p:cNvPr id="620" name="Picture 7" descr="unlogo"/>
          <p:cNvPicPr/>
          <p:nvPr/>
        </p:nvPicPr>
        <p:blipFill>
          <a:blip r:embed="rId2"/>
          <a:stretch/>
        </p:blipFill>
        <p:spPr>
          <a:xfrm>
            <a:off x="0" y="5589720"/>
            <a:ext cx="533520" cy="45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Oval 8"/>
          <p:cNvSpPr/>
          <p:nvPr/>
        </p:nvSpPr>
        <p:spPr>
          <a:xfrm>
            <a:off x="1984320" y="836640"/>
            <a:ext cx="5900760" cy="4680000"/>
          </a:xfrm>
          <a:prstGeom prst="ellipse">
            <a:avLst/>
          </a:prstGeom>
          <a:solidFill>
            <a:srgbClr val="ccffcc"/>
          </a:solidFill>
          <a:ln w="15840">
            <a:solidFill>
              <a:srgbClr val="954f7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Oval 12"/>
          <p:cNvSpPr/>
          <p:nvPr/>
        </p:nvSpPr>
        <p:spPr>
          <a:xfrm>
            <a:off x="3657600" y="1919160"/>
            <a:ext cx="2519280" cy="2314800"/>
          </a:xfrm>
          <a:prstGeom prst="ellipse">
            <a:avLst/>
          </a:prstGeom>
          <a:solidFill>
            <a:srgbClr val="ccffff"/>
          </a:solidFill>
          <a:ln w="15840">
            <a:solidFill>
              <a:srgbClr val="0563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Oval 7"/>
          <p:cNvSpPr/>
          <p:nvPr/>
        </p:nvSpPr>
        <p:spPr>
          <a:xfrm>
            <a:off x="3916440" y="2131920"/>
            <a:ext cx="2019240" cy="1908360"/>
          </a:xfrm>
          <a:prstGeom prst="ellipse">
            <a:avLst/>
          </a:prstGeom>
          <a:solidFill>
            <a:srgbClr val="ffff99"/>
          </a:solidFill>
          <a:ln w="15840">
            <a:solidFill>
              <a:srgbClr val="44546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Oval 5"/>
          <p:cNvSpPr/>
          <p:nvPr/>
        </p:nvSpPr>
        <p:spPr>
          <a:xfrm>
            <a:off x="4197240" y="2560680"/>
            <a:ext cx="1524240" cy="1066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Text Box 6"/>
          <p:cNvSpPr/>
          <p:nvPr/>
        </p:nvSpPr>
        <p:spPr>
          <a:xfrm>
            <a:off x="4222800" y="2865600"/>
            <a:ext cx="1638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ersonality</a:t>
            </a:r>
            <a:endParaRPr b="0" lang="en-US" sz="2000" spc="-1" strike="noStrike">
              <a:solidFill>
                <a:srgbClr val="000000"/>
              </a:solidFill>
              <a:latin typeface="Calibri"/>
            </a:endParaRPr>
          </a:p>
        </p:txBody>
      </p:sp>
      <p:sp>
        <p:nvSpPr>
          <p:cNvPr id="744" name="Text Box 10"/>
          <p:cNvSpPr/>
          <p:nvPr/>
        </p:nvSpPr>
        <p:spPr>
          <a:xfrm>
            <a:off x="152280" y="1447920"/>
            <a:ext cx="2332080" cy="685800"/>
          </a:xfrm>
          <a:prstGeom prst="rect">
            <a:avLst/>
          </a:prstGeom>
          <a:noFill/>
          <a:ln w="0">
            <a:noFill/>
          </a:ln>
        </p:spPr>
        <p:style>
          <a:lnRef idx="0"/>
          <a:fillRef idx="0"/>
          <a:effectRef idx="0"/>
          <a:fontRef idx="minor"/>
        </p:style>
        <p:txBody>
          <a:bodyPr lIns="90000" rIns="90000" tIns="46800" bIns="468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3c1"/>
                </a:solidFill>
                <a:latin typeface="Arial"/>
                <a:ea typeface="Arial"/>
              </a:rPr>
              <a:t>Organizational Dimension</a:t>
            </a:r>
            <a:endParaRPr b="0" lang="en-US" sz="2400" spc="-1" strike="noStrike">
              <a:solidFill>
                <a:srgbClr val="000000"/>
              </a:solidFill>
              <a:latin typeface="Calibri"/>
            </a:endParaRPr>
          </a:p>
        </p:txBody>
      </p:sp>
      <p:sp>
        <p:nvSpPr>
          <p:cNvPr id="745" name="Rectangle 11"/>
          <p:cNvSpPr/>
          <p:nvPr/>
        </p:nvSpPr>
        <p:spPr>
          <a:xfrm>
            <a:off x="2055960" y="350028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agement Status</a:t>
            </a:r>
            <a:endParaRPr b="0" lang="en-US" sz="2000" spc="-1" strike="noStrike">
              <a:solidFill>
                <a:srgbClr val="000000"/>
              </a:solidFill>
              <a:latin typeface="Calibri"/>
            </a:endParaRPr>
          </a:p>
        </p:txBody>
      </p:sp>
      <p:sp>
        <p:nvSpPr>
          <p:cNvPr id="746" name="Rectangle 12"/>
          <p:cNvSpPr/>
          <p:nvPr/>
        </p:nvSpPr>
        <p:spPr>
          <a:xfrm>
            <a:off x="6232680" y="2492280"/>
            <a:ext cx="1447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ion Affiliation</a:t>
            </a:r>
            <a:endParaRPr b="0" lang="en-US" sz="2000" spc="-1" strike="noStrike">
              <a:solidFill>
                <a:srgbClr val="000000"/>
              </a:solidFill>
              <a:latin typeface="Calibri"/>
            </a:endParaRPr>
          </a:p>
        </p:txBody>
      </p:sp>
      <p:sp>
        <p:nvSpPr>
          <p:cNvPr id="747" name="Text Box 13"/>
          <p:cNvSpPr/>
          <p:nvPr/>
        </p:nvSpPr>
        <p:spPr>
          <a:xfrm>
            <a:off x="6087960" y="3860640"/>
            <a:ext cx="1219320" cy="68580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 Location</a:t>
            </a:r>
            <a:endParaRPr b="0" lang="en-US" sz="2000" spc="-1" strike="noStrike">
              <a:solidFill>
                <a:srgbClr val="000000"/>
              </a:solidFill>
              <a:latin typeface="Calibri"/>
            </a:endParaRPr>
          </a:p>
        </p:txBody>
      </p:sp>
      <p:sp>
        <p:nvSpPr>
          <p:cNvPr id="748" name="Rectangle 14"/>
          <p:cNvSpPr/>
          <p:nvPr/>
        </p:nvSpPr>
        <p:spPr>
          <a:xfrm>
            <a:off x="2992320" y="458136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it/Department/Division</a:t>
            </a:r>
            <a:endParaRPr b="0" lang="en-US" sz="2000" spc="-1" strike="noStrike">
              <a:solidFill>
                <a:srgbClr val="000000"/>
              </a:solidFill>
              <a:latin typeface="Calibri"/>
            </a:endParaRPr>
          </a:p>
        </p:txBody>
      </p:sp>
      <p:sp>
        <p:nvSpPr>
          <p:cNvPr id="749" name="Rectangle 15"/>
          <p:cNvSpPr/>
          <p:nvPr/>
        </p:nvSpPr>
        <p:spPr>
          <a:xfrm>
            <a:off x="4287960" y="1341360"/>
            <a:ext cx="144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iority</a:t>
            </a:r>
            <a:endParaRPr b="0" lang="en-US" sz="2000" spc="-1" strike="noStrike">
              <a:solidFill>
                <a:srgbClr val="000000"/>
              </a:solidFill>
              <a:latin typeface="Calibri"/>
            </a:endParaRPr>
          </a:p>
        </p:txBody>
      </p:sp>
      <p:sp>
        <p:nvSpPr>
          <p:cNvPr id="750" name="Text Box 16"/>
          <p:cNvSpPr/>
          <p:nvPr/>
        </p:nvSpPr>
        <p:spPr>
          <a:xfrm>
            <a:off x="2487600" y="1844640"/>
            <a:ext cx="1219320" cy="91440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 Content/Field</a:t>
            </a:r>
            <a:endParaRPr b="0" lang="en-US" sz="2000" spc="-1" strike="noStrike">
              <a:solidFill>
                <a:srgbClr val="000000"/>
              </a:solidFill>
              <a:latin typeface="Calibri"/>
            </a:endParaRPr>
          </a:p>
        </p:txBody>
      </p:sp>
      <p:sp>
        <p:nvSpPr>
          <p:cNvPr id="751"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Layers of Diversity</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Oval 8"/>
          <p:cNvSpPr/>
          <p:nvPr/>
        </p:nvSpPr>
        <p:spPr>
          <a:xfrm>
            <a:off x="1496880" y="692280"/>
            <a:ext cx="6096240" cy="5333760"/>
          </a:xfrm>
          <a:prstGeom prst="ellipse">
            <a:avLst/>
          </a:prstGeom>
          <a:solidFill>
            <a:srgbClr val="ccffcc"/>
          </a:solidFill>
          <a:ln w="15840">
            <a:solidFill>
              <a:srgbClr val="954f7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Oval 12"/>
          <p:cNvSpPr/>
          <p:nvPr/>
        </p:nvSpPr>
        <p:spPr>
          <a:xfrm>
            <a:off x="2131920" y="1411200"/>
            <a:ext cx="5029200" cy="4114800"/>
          </a:xfrm>
          <a:prstGeom prst="ellipse">
            <a:avLst/>
          </a:prstGeom>
          <a:solidFill>
            <a:srgbClr val="ccffff"/>
          </a:solidFill>
          <a:ln w="15840">
            <a:solidFill>
              <a:srgbClr val="0563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
          <p:cNvSpPr txBox="1"/>
          <p:nvPr/>
        </p:nvSpPr>
        <p:spPr>
          <a:xfrm>
            <a:off x="826920" y="1936800"/>
            <a:ext cx="7772400" cy="4114800"/>
          </a:xfrm>
          <a:prstGeom prst="rect">
            <a:avLst/>
          </a:prstGeom>
          <a:noFill/>
          <a:ln w="0">
            <a:noFill/>
          </a:ln>
        </p:spPr>
        <p:txBody>
          <a:bodyPr anchor="t">
            <a:normAutofit/>
          </a:bodyPr>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755" name="Oval 7"/>
          <p:cNvSpPr/>
          <p:nvPr/>
        </p:nvSpPr>
        <p:spPr>
          <a:xfrm>
            <a:off x="2768760" y="2081160"/>
            <a:ext cx="3733560" cy="2895480"/>
          </a:xfrm>
          <a:prstGeom prst="ellipse">
            <a:avLst/>
          </a:prstGeom>
          <a:solidFill>
            <a:srgbClr val="ffff99"/>
          </a:solidFill>
          <a:ln w="15840">
            <a:solidFill>
              <a:srgbClr val="44546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Text Box 9"/>
          <p:cNvSpPr/>
          <p:nvPr/>
        </p:nvSpPr>
        <p:spPr>
          <a:xfrm>
            <a:off x="3417840" y="2478240"/>
            <a:ext cx="2286000" cy="3902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Personal Dimension</a:t>
            </a:r>
            <a:endParaRPr b="0" lang="en-US" sz="1800" spc="-1" strike="noStrike">
              <a:solidFill>
                <a:srgbClr val="000000"/>
              </a:solidFill>
              <a:latin typeface="Calibri"/>
            </a:endParaRPr>
          </a:p>
        </p:txBody>
      </p:sp>
      <p:sp>
        <p:nvSpPr>
          <p:cNvPr id="757" name="Rectangle 10"/>
          <p:cNvSpPr/>
          <p:nvPr/>
        </p:nvSpPr>
        <p:spPr>
          <a:xfrm>
            <a:off x="3405240" y="17128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External Dimension</a:t>
            </a:r>
            <a:endParaRPr b="0" lang="en-US" sz="1800" spc="-1" strike="noStrike">
              <a:solidFill>
                <a:srgbClr val="000000"/>
              </a:solidFill>
              <a:latin typeface="Calibri"/>
            </a:endParaRPr>
          </a:p>
        </p:txBody>
      </p:sp>
      <p:sp>
        <p:nvSpPr>
          <p:cNvPr id="758" name="Text Box 11"/>
          <p:cNvSpPr/>
          <p:nvPr/>
        </p:nvSpPr>
        <p:spPr>
          <a:xfrm>
            <a:off x="3036960" y="979560"/>
            <a:ext cx="2971800" cy="304560"/>
          </a:xfrm>
          <a:prstGeom prst="rect">
            <a:avLst/>
          </a:prstGeom>
          <a:noFill/>
          <a:ln w="0">
            <a:noFill/>
          </a:ln>
        </p:spPr>
        <p:style>
          <a:lnRef idx="0"/>
          <a:fillRef idx="0"/>
          <a:effectRef idx="0"/>
          <a:fontRef idx="minor"/>
        </p:style>
        <p:txBody>
          <a:bodyPr lIns="90000" rIns="90000" tIns="46800" bIns="46800" anchor="t">
            <a:normAutofit fontScale="7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Organizational Dimension</a:t>
            </a:r>
            <a:endParaRPr b="0" lang="en-US" sz="1800" spc="-1" strike="noStrike">
              <a:solidFill>
                <a:srgbClr val="000000"/>
              </a:solidFill>
              <a:latin typeface="Calibri"/>
            </a:endParaRPr>
          </a:p>
        </p:txBody>
      </p:sp>
      <p:sp>
        <p:nvSpPr>
          <p:cNvPr id="759"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Layers of Diversity</a:t>
            </a:r>
            <a:endParaRPr b="0" lang="en-US" sz="3200" spc="-1" strike="noStrike">
              <a:solidFill>
                <a:srgbClr val="000000"/>
              </a:solidFill>
              <a:latin typeface="Calibri"/>
            </a:endParaRPr>
          </a:p>
        </p:txBody>
      </p:sp>
      <p:sp>
        <p:nvSpPr>
          <p:cNvPr id="760" name="Oval 5"/>
          <p:cNvSpPr/>
          <p:nvPr/>
        </p:nvSpPr>
        <p:spPr>
          <a:xfrm>
            <a:off x="3849840" y="2919240"/>
            <a:ext cx="1523880" cy="1067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1" name="Text Box 6"/>
          <p:cNvSpPr/>
          <p:nvPr/>
        </p:nvSpPr>
        <p:spPr>
          <a:xfrm>
            <a:off x="3875040" y="3224160"/>
            <a:ext cx="1638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Personality</a:t>
            </a: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Oval 3"/>
          <p:cNvSpPr/>
          <p:nvPr/>
        </p:nvSpPr>
        <p:spPr>
          <a:xfrm>
            <a:off x="287280" y="717480"/>
            <a:ext cx="8532720" cy="5105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Oval 4"/>
          <p:cNvSpPr/>
          <p:nvPr/>
        </p:nvSpPr>
        <p:spPr>
          <a:xfrm>
            <a:off x="1293840" y="1317600"/>
            <a:ext cx="6522840" cy="390528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Line 5"/>
          <p:cNvSpPr/>
          <p:nvPr/>
        </p:nvSpPr>
        <p:spPr>
          <a:xfrm>
            <a:off x="1476360" y="2617920"/>
            <a:ext cx="1074600" cy="22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5" name="Line 6"/>
          <p:cNvSpPr/>
          <p:nvPr/>
        </p:nvSpPr>
        <p:spPr>
          <a:xfrm>
            <a:off x="2195640" y="1932480"/>
            <a:ext cx="836640" cy="52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6" name="Line 7"/>
          <p:cNvSpPr/>
          <p:nvPr/>
        </p:nvSpPr>
        <p:spPr>
          <a:xfrm flipH="1">
            <a:off x="6551640" y="2624040"/>
            <a:ext cx="106992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7" name="Line 8"/>
          <p:cNvSpPr/>
          <p:nvPr/>
        </p:nvSpPr>
        <p:spPr>
          <a:xfrm flipV="1">
            <a:off x="744120" y="3762000"/>
            <a:ext cx="1951920" cy="75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8" name="Line 9"/>
          <p:cNvSpPr/>
          <p:nvPr/>
        </p:nvSpPr>
        <p:spPr>
          <a:xfrm flipH="1" flipV="1">
            <a:off x="6397200" y="3782880"/>
            <a:ext cx="1970280" cy="72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9" name="Oval 10"/>
          <p:cNvSpPr/>
          <p:nvPr/>
        </p:nvSpPr>
        <p:spPr>
          <a:xfrm>
            <a:off x="2419200" y="2013120"/>
            <a:ext cx="4245120" cy="2533320"/>
          </a:xfrm>
          <a:prstGeom prst="ellipse">
            <a:avLst/>
          </a:prstGeom>
          <a:solidFill>
            <a:srgbClr val="4472c4"/>
          </a:solidFill>
          <a:ln w="0">
            <a:noFill/>
          </a:ln>
        </p:spPr>
        <p:style>
          <a:lnRef idx="0"/>
          <a:fillRef idx="0"/>
          <a:effectRef idx="0"/>
          <a:fontRef idx="minor"/>
        </p:style>
        <p:txBody>
          <a:bodyPr lIns="90000" rIns="90000" tIns="91440" bIns="914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0" name="Rectangle 11"/>
          <p:cNvSpPr/>
          <p:nvPr/>
        </p:nvSpPr>
        <p:spPr>
          <a:xfrm>
            <a:off x="4248000" y="2252520"/>
            <a:ext cx="61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Age</a:t>
            </a:r>
            <a:endParaRPr b="0" lang="en-US" sz="2000" spc="-1" strike="noStrike">
              <a:solidFill>
                <a:srgbClr val="000000"/>
              </a:solidFill>
              <a:latin typeface="Calibri"/>
            </a:endParaRPr>
          </a:p>
        </p:txBody>
      </p:sp>
      <p:sp>
        <p:nvSpPr>
          <p:cNvPr id="771" name="Rectangle 12"/>
          <p:cNvSpPr/>
          <p:nvPr/>
        </p:nvSpPr>
        <p:spPr>
          <a:xfrm>
            <a:off x="2952720" y="2546280"/>
            <a:ext cx="67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Race</a:t>
            </a:r>
            <a:endParaRPr b="0" lang="en-US" sz="2000" spc="-1" strike="noStrike">
              <a:solidFill>
                <a:srgbClr val="000000"/>
              </a:solidFill>
              <a:latin typeface="Calibri"/>
            </a:endParaRPr>
          </a:p>
        </p:txBody>
      </p:sp>
      <p:sp>
        <p:nvSpPr>
          <p:cNvPr id="772" name="Rectangle 13"/>
          <p:cNvSpPr/>
          <p:nvPr/>
        </p:nvSpPr>
        <p:spPr>
          <a:xfrm>
            <a:off x="2646360" y="3460680"/>
            <a:ext cx="106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Ethnicity</a:t>
            </a:r>
            <a:endParaRPr b="0" lang="en-US" sz="2000" spc="-1" strike="noStrike">
              <a:solidFill>
                <a:srgbClr val="000000"/>
              </a:solidFill>
              <a:latin typeface="Calibri"/>
            </a:endParaRPr>
          </a:p>
        </p:txBody>
      </p:sp>
      <p:sp>
        <p:nvSpPr>
          <p:cNvPr id="773" name="Rectangle 14"/>
          <p:cNvSpPr/>
          <p:nvPr/>
        </p:nvSpPr>
        <p:spPr>
          <a:xfrm>
            <a:off x="4005360" y="3765600"/>
            <a:ext cx="111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Physical</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 </a:t>
            </a:r>
            <a:r>
              <a:rPr b="1" lang="en-US" sz="2000" spc="-1" strike="noStrike">
                <a:solidFill>
                  <a:srgbClr val="ffffff"/>
                </a:solidFill>
                <a:latin typeface="Arial Narrow"/>
                <a:ea typeface="Arial"/>
              </a:rPr>
              <a:t>Ability</a:t>
            </a:r>
            <a:endParaRPr b="0" lang="en-US" sz="2000" spc="-1" strike="noStrike">
              <a:solidFill>
                <a:srgbClr val="000000"/>
              </a:solidFill>
              <a:latin typeface="Calibri"/>
            </a:endParaRPr>
          </a:p>
        </p:txBody>
      </p:sp>
      <p:sp>
        <p:nvSpPr>
          <p:cNvPr id="774" name="Rectangle 15"/>
          <p:cNvSpPr/>
          <p:nvPr/>
        </p:nvSpPr>
        <p:spPr>
          <a:xfrm>
            <a:off x="5105520" y="3289320"/>
            <a:ext cx="14475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 </a:t>
            </a:r>
            <a:r>
              <a:rPr b="1" lang="en-US" sz="2000" spc="-1" strike="noStrike">
                <a:solidFill>
                  <a:srgbClr val="ffffff"/>
                </a:solidFill>
                <a:latin typeface="Arial Narrow"/>
                <a:ea typeface="Arial"/>
              </a:rPr>
              <a:t>Sexual</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Orientation</a:t>
            </a:r>
            <a:endParaRPr b="0" lang="en-US" sz="2000" spc="-1" strike="noStrike">
              <a:solidFill>
                <a:srgbClr val="000000"/>
              </a:solidFill>
              <a:latin typeface="Calibri"/>
            </a:endParaRPr>
          </a:p>
        </p:txBody>
      </p:sp>
      <p:sp>
        <p:nvSpPr>
          <p:cNvPr id="775" name="Rectangle 16"/>
          <p:cNvSpPr/>
          <p:nvPr/>
        </p:nvSpPr>
        <p:spPr>
          <a:xfrm>
            <a:off x="5315040" y="2470320"/>
            <a:ext cx="55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Sex</a:t>
            </a:r>
            <a:endParaRPr b="0" lang="en-US" sz="2000" spc="-1" strike="noStrike">
              <a:solidFill>
                <a:srgbClr val="000000"/>
              </a:solidFill>
              <a:latin typeface="Calibri"/>
            </a:endParaRPr>
          </a:p>
        </p:txBody>
      </p:sp>
      <p:sp>
        <p:nvSpPr>
          <p:cNvPr id="776" name="Line 17"/>
          <p:cNvSpPr/>
          <p:nvPr/>
        </p:nvSpPr>
        <p:spPr>
          <a:xfrm>
            <a:off x="2720880" y="960480"/>
            <a:ext cx="1143000" cy="11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7" name="Line 18"/>
          <p:cNvSpPr/>
          <p:nvPr/>
        </p:nvSpPr>
        <p:spPr>
          <a:xfrm flipH="1">
            <a:off x="5262480" y="963720"/>
            <a:ext cx="1128960" cy="111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8" name="Rectangle 19"/>
          <p:cNvSpPr/>
          <p:nvPr/>
        </p:nvSpPr>
        <p:spPr>
          <a:xfrm>
            <a:off x="3537000" y="1406520"/>
            <a:ext cx="198432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30c"/>
                </a:solidFill>
                <a:latin typeface="Arial Narrow"/>
                <a:ea typeface="Arial"/>
              </a:rPr>
              <a:t>Geograp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30c"/>
                </a:solidFill>
                <a:latin typeface="Arial Narrow"/>
                <a:ea typeface="Arial"/>
              </a:rPr>
              <a:t>Location</a:t>
            </a:r>
            <a:endParaRPr b="0" lang="en-US" sz="1400" spc="-1" strike="noStrike">
              <a:solidFill>
                <a:srgbClr val="000000"/>
              </a:solidFill>
              <a:latin typeface="Calibri"/>
            </a:endParaRPr>
          </a:p>
        </p:txBody>
      </p:sp>
      <p:sp>
        <p:nvSpPr>
          <p:cNvPr id="779" name="Rectangle 20"/>
          <p:cNvSpPr/>
          <p:nvPr/>
        </p:nvSpPr>
        <p:spPr>
          <a:xfrm>
            <a:off x="1809720" y="2089080"/>
            <a:ext cx="114300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Marital Status</a:t>
            </a:r>
            <a:endParaRPr b="0" lang="en-US" sz="1600" spc="-1" strike="noStrike">
              <a:solidFill>
                <a:srgbClr val="000000"/>
              </a:solidFill>
              <a:latin typeface="Calibri"/>
            </a:endParaRPr>
          </a:p>
        </p:txBody>
      </p:sp>
      <p:sp>
        <p:nvSpPr>
          <p:cNvPr id="780" name="Rectangle 21"/>
          <p:cNvSpPr/>
          <p:nvPr/>
        </p:nvSpPr>
        <p:spPr>
          <a:xfrm>
            <a:off x="1352520" y="2698920"/>
            <a:ext cx="107460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Parental Status</a:t>
            </a:r>
            <a:endParaRPr b="0" lang="en-US" sz="1600" spc="-1" strike="noStrike">
              <a:solidFill>
                <a:srgbClr val="000000"/>
              </a:solidFill>
              <a:latin typeface="Calibri"/>
            </a:endParaRPr>
          </a:p>
        </p:txBody>
      </p:sp>
      <p:sp>
        <p:nvSpPr>
          <p:cNvPr id="781" name="Rectangle 22"/>
          <p:cNvSpPr/>
          <p:nvPr/>
        </p:nvSpPr>
        <p:spPr>
          <a:xfrm>
            <a:off x="1407240" y="3460680"/>
            <a:ext cx="1136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Appearance</a:t>
            </a:r>
            <a:endParaRPr b="0" lang="en-US" sz="1600" spc="-1" strike="noStrike">
              <a:solidFill>
                <a:srgbClr val="000000"/>
              </a:solidFill>
              <a:latin typeface="Calibri"/>
            </a:endParaRPr>
          </a:p>
        </p:txBody>
      </p:sp>
      <p:sp>
        <p:nvSpPr>
          <p:cNvPr id="782" name="Rectangle 23"/>
          <p:cNvSpPr/>
          <p:nvPr/>
        </p:nvSpPr>
        <p:spPr>
          <a:xfrm>
            <a:off x="2005920" y="4292640"/>
            <a:ext cx="1533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Work Experience</a:t>
            </a:r>
            <a:endParaRPr b="0" lang="en-US" sz="1600" spc="-1" strike="noStrike">
              <a:solidFill>
                <a:srgbClr val="000000"/>
              </a:solidFill>
              <a:latin typeface="Calibri"/>
            </a:endParaRPr>
          </a:p>
        </p:txBody>
      </p:sp>
      <p:sp>
        <p:nvSpPr>
          <p:cNvPr id="783" name="Rectangle 24"/>
          <p:cNvSpPr/>
          <p:nvPr/>
        </p:nvSpPr>
        <p:spPr>
          <a:xfrm>
            <a:off x="5618160" y="1784520"/>
            <a:ext cx="765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Income</a:t>
            </a:r>
            <a:endParaRPr b="0" lang="en-US" sz="1600" spc="-1" strike="noStrike">
              <a:solidFill>
                <a:srgbClr val="000000"/>
              </a:solidFill>
              <a:latin typeface="Calibri"/>
            </a:endParaRPr>
          </a:p>
        </p:txBody>
      </p:sp>
      <p:sp>
        <p:nvSpPr>
          <p:cNvPr id="784" name="Rectangle 25"/>
          <p:cNvSpPr/>
          <p:nvPr/>
        </p:nvSpPr>
        <p:spPr>
          <a:xfrm>
            <a:off x="6837480" y="2698920"/>
            <a:ext cx="8856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Person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Habits</a:t>
            </a:r>
            <a:endParaRPr b="0" lang="en-US" sz="1600" spc="-1" strike="noStrike">
              <a:solidFill>
                <a:srgbClr val="000000"/>
              </a:solidFill>
              <a:latin typeface="Calibri"/>
            </a:endParaRPr>
          </a:p>
        </p:txBody>
      </p:sp>
      <p:sp>
        <p:nvSpPr>
          <p:cNvPr id="785" name="Rectangle 26"/>
          <p:cNvSpPr/>
          <p:nvPr/>
        </p:nvSpPr>
        <p:spPr>
          <a:xfrm>
            <a:off x="6608880" y="3384720"/>
            <a:ext cx="11811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Recreation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Habits</a:t>
            </a:r>
            <a:endParaRPr b="0" lang="en-US" sz="1600" spc="-1" strike="noStrike">
              <a:solidFill>
                <a:srgbClr val="000000"/>
              </a:solidFill>
              <a:latin typeface="Calibri"/>
            </a:endParaRPr>
          </a:p>
        </p:txBody>
      </p:sp>
      <p:sp>
        <p:nvSpPr>
          <p:cNvPr id="786" name="Rectangle 27"/>
          <p:cNvSpPr/>
          <p:nvPr/>
        </p:nvSpPr>
        <p:spPr>
          <a:xfrm>
            <a:off x="6000120" y="4222800"/>
            <a:ext cx="838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Religion</a:t>
            </a:r>
            <a:endParaRPr b="0" lang="en-US" sz="1600" spc="-1" strike="noStrike">
              <a:solidFill>
                <a:srgbClr val="000000"/>
              </a:solidFill>
              <a:latin typeface="Calibri"/>
            </a:endParaRPr>
          </a:p>
        </p:txBody>
      </p:sp>
      <p:sp>
        <p:nvSpPr>
          <p:cNvPr id="787" name="Rectangle 28"/>
          <p:cNvSpPr/>
          <p:nvPr/>
        </p:nvSpPr>
        <p:spPr>
          <a:xfrm>
            <a:off x="4017240" y="4603680"/>
            <a:ext cx="11552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Educationa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Background</a:t>
            </a:r>
            <a:endParaRPr b="0" lang="en-US" sz="1600" spc="-1" strike="noStrike">
              <a:solidFill>
                <a:srgbClr val="000000"/>
              </a:solidFill>
              <a:latin typeface="Calibri"/>
            </a:endParaRPr>
          </a:p>
        </p:txBody>
      </p:sp>
      <p:sp>
        <p:nvSpPr>
          <p:cNvPr id="788" name="Rectangle 29"/>
          <p:cNvSpPr/>
          <p:nvPr/>
        </p:nvSpPr>
        <p:spPr>
          <a:xfrm>
            <a:off x="3409920" y="717480"/>
            <a:ext cx="23385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Arial"/>
              </a:rPr>
              <a:t>Functional Level Classification</a:t>
            </a:r>
            <a:endParaRPr b="0" lang="en-US" sz="1600" spc="-1" strike="noStrike">
              <a:solidFill>
                <a:srgbClr val="000000"/>
              </a:solidFill>
              <a:latin typeface="Calibri"/>
            </a:endParaRPr>
          </a:p>
        </p:txBody>
      </p:sp>
      <p:sp>
        <p:nvSpPr>
          <p:cNvPr id="789" name="Rectangle 30"/>
          <p:cNvSpPr/>
          <p:nvPr/>
        </p:nvSpPr>
        <p:spPr>
          <a:xfrm>
            <a:off x="7143840" y="1555920"/>
            <a:ext cx="13428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Work</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Content</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Field</a:t>
            </a:r>
            <a:endParaRPr b="0" lang="en-US" sz="2000" spc="-1" strike="noStrike">
              <a:solidFill>
                <a:srgbClr val="000000"/>
              </a:solidFill>
              <a:latin typeface="Calibri"/>
            </a:endParaRPr>
          </a:p>
        </p:txBody>
      </p:sp>
      <p:sp>
        <p:nvSpPr>
          <p:cNvPr id="790" name="Rectangle 31"/>
          <p:cNvSpPr/>
          <p:nvPr/>
        </p:nvSpPr>
        <p:spPr>
          <a:xfrm>
            <a:off x="6195960" y="4575240"/>
            <a:ext cx="2133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Arial"/>
              </a:rPr>
              <a:t>Divisio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Arial"/>
              </a:rPr>
              <a:t>   </a:t>
            </a:r>
            <a:r>
              <a:rPr b="1" lang="en-US" sz="1800" spc="-1" strike="noStrike">
                <a:solidFill>
                  <a:srgbClr val="ffffff"/>
                </a:solidFill>
                <a:latin typeface="Arial Narrow"/>
                <a:ea typeface="Arial"/>
              </a:rPr>
              <a:t>Departmen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Arial"/>
              </a:rPr>
              <a:t>Unit</a:t>
            </a:r>
            <a:endParaRPr b="0" lang="en-US" sz="1800" spc="-1" strike="noStrike">
              <a:solidFill>
                <a:srgbClr val="000000"/>
              </a:solidFill>
              <a:latin typeface="Calibri"/>
            </a:endParaRPr>
          </a:p>
        </p:txBody>
      </p:sp>
      <p:sp>
        <p:nvSpPr>
          <p:cNvPr id="791" name="Rectangle 32"/>
          <p:cNvSpPr/>
          <p:nvPr/>
        </p:nvSpPr>
        <p:spPr>
          <a:xfrm>
            <a:off x="7675560" y="3537000"/>
            <a:ext cx="1074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Seniority</a:t>
            </a:r>
            <a:endParaRPr b="0" lang="en-US" sz="2000" spc="-1" strike="noStrike">
              <a:solidFill>
                <a:srgbClr val="000000"/>
              </a:solidFill>
              <a:latin typeface="Calibri"/>
            </a:endParaRPr>
          </a:p>
        </p:txBody>
      </p:sp>
      <p:sp>
        <p:nvSpPr>
          <p:cNvPr id="792" name="Rectangle 33"/>
          <p:cNvSpPr/>
          <p:nvPr/>
        </p:nvSpPr>
        <p:spPr>
          <a:xfrm>
            <a:off x="1909800" y="5060880"/>
            <a:ext cx="20145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Arial"/>
              </a:rPr>
              <a:t>Work Location</a:t>
            </a:r>
            <a:endParaRPr b="0" lang="en-US" sz="1800" spc="-1" strike="noStrike">
              <a:solidFill>
                <a:srgbClr val="000000"/>
              </a:solidFill>
              <a:latin typeface="Calibri"/>
            </a:endParaRPr>
          </a:p>
        </p:txBody>
      </p:sp>
      <p:sp>
        <p:nvSpPr>
          <p:cNvPr id="793" name="Rectangle 34"/>
          <p:cNvSpPr/>
          <p:nvPr/>
        </p:nvSpPr>
        <p:spPr>
          <a:xfrm>
            <a:off x="28440" y="4205160"/>
            <a:ext cx="1524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Arial"/>
              </a:rPr>
              <a:t>Union </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Arial"/>
              </a:rPr>
              <a:t>Affiliation</a:t>
            </a:r>
            <a:endParaRPr b="0" lang="en-US" sz="1800" spc="-1" strike="noStrike">
              <a:solidFill>
                <a:srgbClr val="000000"/>
              </a:solidFill>
              <a:latin typeface="Calibri"/>
            </a:endParaRPr>
          </a:p>
        </p:txBody>
      </p:sp>
      <p:sp>
        <p:nvSpPr>
          <p:cNvPr id="794" name="Rectangle 35"/>
          <p:cNvSpPr/>
          <p:nvPr/>
        </p:nvSpPr>
        <p:spPr>
          <a:xfrm>
            <a:off x="1638360" y="1217520"/>
            <a:ext cx="20574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Arial"/>
              </a:rPr>
              <a:t>  </a:t>
            </a:r>
            <a:r>
              <a:rPr b="1" lang="en-US" sz="1800" spc="-1" strike="noStrike">
                <a:solidFill>
                  <a:srgbClr val="ffffff"/>
                </a:solidFill>
                <a:latin typeface="Arial Narrow"/>
                <a:ea typeface="Arial"/>
              </a:rPr>
              <a:t>Managemen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Arial"/>
              </a:rPr>
              <a:t>Status</a:t>
            </a:r>
            <a:endParaRPr b="0" lang="en-US" sz="1800" spc="-1" strike="noStrike">
              <a:solidFill>
                <a:srgbClr val="000000"/>
              </a:solidFill>
              <a:latin typeface="Calibri"/>
            </a:endParaRPr>
          </a:p>
        </p:txBody>
      </p:sp>
      <p:sp>
        <p:nvSpPr>
          <p:cNvPr id="795" name="Line 39"/>
          <p:cNvSpPr/>
          <p:nvPr/>
        </p:nvSpPr>
        <p:spPr>
          <a:xfrm flipV="1">
            <a:off x="285840" y="3271320"/>
            <a:ext cx="334800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96" name="Line 40"/>
          <p:cNvSpPr/>
          <p:nvPr/>
        </p:nvSpPr>
        <p:spPr>
          <a:xfrm flipH="1">
            <a:off x="5040360" y="2189160"/>
            <a:ext cx="614160" cy="63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7" name="Line 41"/>
          <p:cNvSpPr/>
          <p:nvPr/>
        </p:nvSpPr>
        <p:spPr>
          <a:xfrm>
            <a:off x="3408480" y="2201760"/>
            <a:ext cx="633240" cy="6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8" name="Rectangle 42"/>
          <p:cNvSpPr/>
          <p:nvPr/>
        </p:nvSpPr>
        <p:spPr>
          <a:xfrm>
            <a:off x="2495520" y="1631880"/>
            <a:ext cx="129060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Language /  Accent</a:t>
            </a:r>
            <a:endParaRPr b="0" lang="en-US" sz="1600" spc="-1" strike="noStrike">
              <a:solidFill>
                <a:srgbClr val="000000"/>
              </a:solidFill>
              <a:latin typeface="Calibri"/>
            </a:endParaRPr>
          </a:p>
        </p:txBody>
      </p:sp>
      <p:sp>
        <p:nvSpPr>
          <p:cNvPr id="799" name="Rectangle 43"/>
          <p:cNvSpPr/>
          <p:nvPr/>
        </p:nvSpPr>
        <p:spPr>
          <a:xfrm>
            <a:off x="6229080" y="2165400"/>
            <a:ext cx="12070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Comm./Work</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30c"/>
                </a:solidFill>
                <a:latin typeface="Arial Narrow"/>
                <a:ea typeface="Arial"/>
              </a:rPr>
              <a:t>Style</a:t>
            </a:r>
            <a:endParaRPr b="0" lang="en-US" sz="1600" spc="-1" strike="noStrike">
              <a:solidFill>
                <a:srgbClr val="000000"/>
              </a:solidFill>
              <a:latin typeface="Calibri"/>
            </a:endParaRPr>
          </a:p>
        </p:txBody>
      </p:sp>
      <p:sp>
        <p:nvSpPr>
          <p:cNvPr id="800" name="Line 44"/>
          <p:cNvSpPr/>
          <p:nvPr/>
        </p:nvSpPr>
        <p:spPr>
          <a:xfrm>
            <a:off x="4562640" y="5222880"/>
            <a:ext cx="0" cy="60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1" name="Line 45"/>
          <p:cNvSpPr/>
          <p:nvPr/>
        </p:nvSpPr>
        <p:spPr>
          <a:xfrm flipH="1" flipV="1">
            <a:off x="5025600" y="3727440"/>
            <a:ext cx="631800" cy="62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2" name="Line 46"/>
          <p:cNvSpPr/>
          <p:nvPr/>
        </p:nvSpPr>
        <p:spPr>
          <a:xfrm flipV="1">
            <a:off x="3421080" y="3720960"/>
            <a:ext cx="590400" cy="617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3" name="Line 47"/>
          <p:cNvSpPr/>
          <p:nvPr/>
        </p:nvSpPr>
        <p:spPr>
          <a:xfrm flipV="1">
            <a:off x="3260880" y="4471560"/>
            <a:ext cx="604800" cy="59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4" name="Line 48"/>
          <p:cNvSpPr/>
          <p:nvPr/>
        </p:nvSpPr>
        <p:spPr>
          <a:xfrm flipH="1" flipV="1">
            <a:off x="5252760" y="4460760"/>
            <a:ext cx="60012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5" name="Oval 49"/>
          <p:cNvSpPr/>
          <p:nvPr/>
        </p:nvSpPr>
        <p:spPr>
          <a:xfrm>
            <a:off x="3632040" y="2733840"/>
            <a:ext cx="1847880" cy="1073160"/>
          </a:xfrm>
          <a:prstGeom prst="ellipse">
            <a:avLst/>
          </a:prstGeom>
          <a:solidFill>
            <a:srgbClr val="00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6" name="Rectangle 50"/>
          <p:cNvSpPr/>
          <p:nvPr/>
        </p:nvSpPr>
        <p:spPr>
          <a:xfrm>
            <a:off x="3790800" y="3003480"/>
            <a:ext cx="1559160" cy="515160"/>
          </a:xfrm>
          <a:prstGeom prst="rect">
            <a:avLst/>
          </a:prstGeom>
          <a:noFill/>
          <a:ln w="0">
            <a:noFill/>
          </a:ln>
        </p:spPr>
        <p:style>
          <a:lnRef idx="0"/>
          <a:fillRef idx="0"/>
          <a:effectRef idx="0"/>
          <a:fontRef idx="minor"/>
        </p:style>
        <p:txBody>
          <a:bodyPr lIns="0" rIns="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30c"/>
                </a:solidFill>
                <a:latin typeface="Arial Narrow"/>
                <a:ea typeface="Arial"/>
              </a:rPr>
              <a:t>Core Personality and Ability — Who I Am</a:t>
            </a:r>
            <a:endParaRPr b="0" lang="en-US" sz="1400" spc="-1" strike="noStrike">
              <a:solidFill>
                <a:srgbClr val="000000"/>
              </a:solidFill>
              <a:latin typeface="Calibri"/>
            </a:endParaRPr>
          </a:p>
        </p:txBody>
      </p:sp>
      <p:sp>
        <p:nvSpPr>
          <p:cNvPr id="807" name="Line 51"/>
          <p:cNvSpPr/>
          <p:nvPr/>
        </p:nvSpPr>
        <p:spPr>
          <a:xfrm flipH="1">
            <a:off x="6123600" y="1860120"/>
            <a:ext cx="715320" cy="57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8" name="Line 52"/>
          <p:cNvSpPr/>
          <p:nvPr/>
        </p:nvSpPr>
        <p:spPr>
          <a:xfrm>
            <a:off x="5477040" y="3271680"/>
            <a:ext cx="334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9" name="PlaceHolder 1"/>
          <p:cNvSpPr>
            <a:spLocks noGrp="1"/>
          </p:cNvSpPr>
          <p:nvPr>
            <p:ph type="title"/>
          </p:nvPr>
        </p:nvSpPr>
        <p:spPr>
          <a:xfrm>
            <a:off x="0" y="115560"/>
            <a:ext cx="9144000" cy="649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3200" spc="-1" strike="noStrike">
                <a:solidFill>
                  <a:srgbClr val="000000"/>
                </a:solidFill>
                <a:latin typeface="Arial"/>
              </a:rPr>
              <a:t>Dimensions of Diversity</a:t>
            </a:r>
            <a:endParaRPr b="0" lang="en-US" sz="3200" spc="-1" strike="noStrike">
              <a:solidFill>
                <a:srgbClr val="ffffff"/>
              </a:solidFill>
              <a:latin typeface="Calibri Light"/>
            </a:endParaRPr>
          </a:p>
        </p:txBody>
      </p:sp>
      <p:sp>
        <p:nvSpPr>
          <p:cNvPr id="810" name="Rectangle 56"/>
          <p:cNvSpPr/>
          <p:nvPr/>
        </p:nvSpPr>
        <p:spPr>
          <a:xfrm>
            <a:off x="6048360" y="5857920"/>
            <a:ext cx="28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Adapted from Gardenschwartz &amp; Ro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2" descr="j0434075[1]"/>
          <p:cNvPicPr/>
          <p:nvPr/>
        </p:nvPicPr>
        <p:blipFill>
          <a:blip r:embed="rId1"/>
          <a:stretch/>
        </p:blipFill>
        <p:spPr>
          <a:xfrm>
            <a:off x="-87480" y="0"/>
            <a:ext cx="9231480" cy="6858000"/>
          </a:xfrm>
          <a:prstGeom prst="rect">
            <a:avLst/>
          </a:prstGeom>
          <a:ln w="0">
            <a:noFill/>
          </a:ln>
        </p:spPr>
      </p:pic>
      <p:sp>
        <p:nvSpPr>
          <p:cNvPr id="812" name="PlaceHolder 1"/>
          <p:cNvSpPr>
            <a:spLocks noGrp="1"/>
          </p:cNvSpPr>
          <p:nvPr>
            <p:ph type="title"/>
          </p:nvPr>
        </p:nvSpPr>
        <p:spPr>
          <a:xfrm>
            <a:off x="285840" y="285480"/>
            <a:ext cx="8572320" cy="1785960"/>
          </a:xfrm>
          <a:prstGeom prst="rect">
            <a:avLst/>
          </a:prstGeom>
          <a:noFill/>
          <a:ln w="0">
            <a:noFill/>
          </a:ln>
        </p:spPr>
        <p:txBody>
          <a:bodyPr anchor="ctr">
            <a:noAutofit/>
          </a:bodyPr>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500" spc="-1" strike="noStrike">
                <a:solidFill>
                  <a:srgbClr val="ffffff"/>
                </a:solidFill>
                <a:latin typeface="Calibri Light"/>
                <a:ea typeface="Arial"/>
              </a:rPr>
              <a:t>Only about 10% of an iceberg is generally seen   above the waterline. </a:t>
            </a:r>
            <a:br>
              <a:rPr sz="2500"/>
            </a:br>
            <a:endParaRPr b="0" lang="en-US" sz="2500" spc="-1" strike="noStrike">
              <a:solidFill>
                <a:srgbClr val="ffffff"/>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2" descr="C:\Users\Turco.A\Desktop\Iceberg-1024x576.jpg"/>
          <p:cNvPicPr/>
          <p:nvPr/>
        </p:nvPicPr>
        <p:blipFill>
          <a:blip r:embed="rId1"/>
          <a:stretch/>
        </p:blipFill>
        <p:spPr>
          <a:xfrm>
            <a:off x="0" y="0"/>
            <a:ext cx="9144000" cy="6858000"/>
          </a:xfrm>
          <a:prstGeom prst="rect">
            <a:avLst/>
          </a:prstGeom>
          <a:ln w="0">
            <a:noFill/>
          </a:ln>
        </p:spPr>
      </p:pic>
      <p:sp>
        <p:nvSpPr>
          <p:cNvPr id="814" name="PlaceHolder 1"/>
          <p:cNvSpPr>
            <a:spLocks noGrp="1"/>
          </p:cNvSpPr>
          <p:nvPr>
            <p:ph type="title"/>
          </p:nvPr>
        </p:nvSpPr>
        <p:spPr>
          <a:xfrm>
            <a:off x="285840" y="285480"/>
            <a:ext cx="8572320" cy="1785960"/>
          </a:xfrm>
          <a:prstGeom prst="rect">
            <a:avLst/>
          </a:prstGeom>
          <a:noFill/>
          <a:ln w="0">
            <a:noFill/>
          </a:ln>
        </p:spPr>
        <p:txBody>
          <a:bodyPr anchor="ctr">
            <a:noAutofit/>
          </a:bodyPr>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500" spc="-1" strike="noStrike">
                <a:solidFill>
                  <a:srgbClr val="ffffff"/>
                </a:solidFill>
                <a:latin typeface="Calibri Light"/>
                <a:ea typeface="Arial"/>
              </a:rPr>
              <a:t>Only about 10% of an iceberg is generally seen   above the waterline. </a:t>
            </a:r>
            <a:br>
              <a:rPr sz="2500"/>
            </a:br>
            <a:endParaRPr b="0" lang="en-US" sz="2500" spc="-1" strike="noStrike">
              <a:solidFill>
                <a:srgbClr val="ffffff"/>
              </a:solidFill>
              <a:latin typeface="Calibri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18"/>
          <p:cNvSpPr/>
          <p:nvPr/>
        </p:nvSpPr>
        <p:spPr>
          <a:xfrm>
            <a:off x="0" y="2714760"/>
            <a:ext cx="9144000" cy="435744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Freeform 19"/>
          <p:cNvSpPr/>
          <p:nvPr/>
        </p:nvSpPr>
        <p:spPr>
          <a:xfrm>
            <a:off x="1428840" y="6870600"/>
            <a:ext cx="360" cy="360"/>
          </a:xfrm>
          <a:custGeom>
            <a:avLst/>
            <a:gdLst/>
            <a:ahLst/>
            <a:rect l="l" t="t" r="r" b="b"/>
            <a:pathLst>
              <a:path w="0" h="0">
                <a:moveTo>
                  <a:pt x="0" y="0"/>
                </a:moveTo>
                <a:lnTo>
                  <a:pt x="0" y="0"/>
                </a:lnTo>
              </a:path>
            </a:pathLst>
          </a:custGeom>
          <a:noFill/>
          <a:ln w="6480">
            <a:solidFill>
              <a:srgbClr val="4472c4"/>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grpSp>
        <p:nvGrpSpPr>
          <p:cNvPr id="817" name="Group 47"/>
          <p:cNvGrpSpPr/>
          <p:nvPr/>
        </p:nvGrpSpPr>
        <p:grpSpPr>
          <a:xfrm>
            <a:off x="0" y="2643120"/>
            <a:ext cx="9144000" cy="142920"/>
            <a:chOff x="0" y="2643120"/>
            <a:chExt cx="9144000" cy="142920"/>
          </a:xfrm>
        </p:grpSpPr>
        <p:grpSp>
          <p:nvGrpSpPr>
            <p:cNvPr id="818" name="Group 48"/>
            <p:cNvGrpSpPr/>
            <p:nvPr/>
          </p:nvGrpSpPr>
          <p:grpSpPr>
            <a:xfrm>
              <a:off x="0" y="2643120"/>
              <a:ext cx="4245120" cy="142920"/>
              <a:chOff x="0" y="2643120"/>
              <a:chExt cx="4245120" cy="142920"/>
            </a:xfrm>
          </p:grpSpPr>
          <p:grpSp>
            <p:nvGrpSpPr>
              <p:cNvPr id="819" name="Group 49"/>
              <p:cNvGrpSpPr/>
              <p:nvPr/>
            </p:nvGrpSpPr>
            <p:grpSpPr>
              <a:xfrm>
                <a:off x="0" y="2643120"/>
                <a:ext cx="978840" cy="142920"/>
                <a:chOff x="0" y="2643120"/>
                <a:chExt cx="978840" cy="142920"/>
              </a:xfrm>
            </p:grpSpPr>
            <p:sp>
              <p:nvSpPr>
                <p:cNvPr id="820" name="Freeform 50"/>
                <p:cNvSpPr/>
                <p:nvPr/>
              </p:nvSpPr>
              <p:spPr>
                <a:xfrm>
                  <a:off x="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1" name="Freeform 51"/>
                <p:cNvSpPr/>
                <p:nvPr/>
              </p:nvSpPr>
              <p:spPr>
                <a:xfrm flipH="1">
                  <a:off x="48996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2" name="Group 52"/>
              <p:cNvGrpSpPr/>
              <p:nvPr/>
            </p:nvGrpSpPr>
            <p:grpSpPr>
              <a:xfrm>
                <a:off x="816480" y="2643120"/>
                <a:ext cx="978840" cy="142920"/>
                <a:chOff x="816480" y="2643120"/>
                <a:chExt cx="978840" cy="142920"/>
              </a:xfrm>
            </p:grpSpPr>
            <p:sp>
              <p:nvSpPr>
                <p:cNvPr id="823" name="Freeform 53"/>
                <p:cNvSpPr/>
                <p:nvPr/>
              </p:nvSpPr>
              <p:spPr>
                <a:xfrm>
                  <a:off x="8164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4" name="Freeform 54"/>
                <p:cNvSpPr/>
                <p:nvPr/>
              </p:nvSpPr>
              <p:spPr>
                <a:xfrm flipH="1">
                  <a:off x="13064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5" name="Group 55"/>
              <p:cNvGrpSpPr/>
              <p:nvPr/>
            </p:nvGrpSpPr>
            <p:grpSpPr>
              <a:xfrm>
                <a:off x="1632960" y="2643120"/>
                <a:ext cx="978840" cy="142920"/>
                <a:chOff x="1632960" y="2643120"/>
                <a:chExt cx="978840" cy="142920"/>
              </a:xfrm>
            </p:grpSpPr>
            <p:sp>
              <p:nvSpPr>
                <p:cNvPr id="826" name="Freeform 56"/>
                <p:cNvSpPr/>
                <p:nvPr/>
              </p:nvSpPr>
              <p:spPr>
                <a:xfrm>
                  <a:off x="163296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7" name="Freeform 57"/>
                <p:cNvSpPr/>
                <p:nvPr/>
              </p:nvSpPr>
              <p:spPr>
                <a:xfrm flipH="1">
                  <a:off x="212292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8" name="Group 58"/>
              <p:cNvGrpSpPr/>
              <p:nvPr/>
            </p:nvGrpSpPr>
            <p:grpSpPr>
              <a:xfrm>
                <a:off x="2449440" y="2643120"/>
                <a:ext cx="978840" cy="142920"/>
                <a:chOff x="2449440" y="2643120"/>
                <a:chExt cx="978840" cy="142920"/>
              </a:xfrm>
            </p:grpSpPr>
            <p:sp>
              <p:nvSpPr>
                <p:cNvPr id="829" name="Freeform 59"/>
                <p:cNvSpPr/>
                <p:nvPr/>
              </p:nvSpPr>
              <p:spPr>
                <a:xfrm>
                  <a:off x="244944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0" name="Freeform 60"/>
                <p:cNvSpPr/>
                <p:nvPr/>
              </p:nvSpPr>
              <p:spPr>
                <a:xfrm flipH="1">
                  <a:off x="293940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1" name="Group 61"/>
              <p:cNvGrpSpPr/>
              <p:nvPr/>
            </p:nvGrpSpPr>
            <p:grpSpPr>
              <a:xfrm>
                <a:off x="3266280" y="2643120"/>
                <a:ext cx="978840" cy="142920"/>
                <a:chOff x="3266280" y="2643120"/>
                <a:chExt cx="978840" cy="142920"/>
              </a:xfrm>
            </p:grpSpPr>
            <p:sp>
              <p:nvSpPr>
                <p:cNvPr id="832" name="Freeform 62"/>
                <p:cNvSpPr/>
                <p:nvPr/>
              </p:nvSpPr>
              <p:spPr>
                <a:xfrm>
                  <a:off x="32662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3" name="Freeform 63"/>
                <p:cNvSpPr/>
                <p:nvPr/>
              </p:nvSpPr>
              <p:spPr>
                <a:xfrm flipH="1">
                  <a:off x="37562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834" name="Group 64"/>
            <p:cNvGrpSpPr/>
            <p:nvPr/>
          </p:nvGrpSpPr>
          <p:grpSpPr>
            <a:xfrm>
              <a:off x="4082400" y="2643120"/>
              <a:ext cx="978840" cy="142920"/>
              <a:chOff x="4082400" y="2643120"/>
              <a:chExt cx="978840" cy="142920"/>
            </a:xfrm>
          </p:grpSpPr>
          <p:sp>
            <p:nvSpPr>
              <p:cNvPr id="835" name="Freeform 65"/>
              <p:cNvSpPr/>
              <p:nvPr/>
            </p:nvSpPr>
            <p:spPr>
              <a:xfrm>
                <a:off x="408240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Freeform 66"/>
              <p:cNvSpPr/>
              <p:nvPr/>
            </p:nvSpPr>
            <p:spPr>
              <a:xfrm flipH="1">
                <a:off x="457236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7" name="Group 67"/>
            <p:cNvGrpSpPr/>
            <p:nvPr/>
          </p:nvGrpSpPr>
          <p:grpSpPr>
            <a:xfrm>
              <a:off x="4898880" y="2643120"/>
              <a:ext cx="978840" cy="142920"/>
              <a:chOff x="4898880" y="2643120"/>
              <a:chExt cx="978840" cy="142920"/>
            </a:xfrm>
          </p:grpSpPr>
          <p:sp>
            <p:nvSpPr>
              <p:cNvPr id="838" name="Freeform 68"/>
              <p:cNvSpPr/>
              <p:nvPr/>
            </p:nvSpPr>
            <p:spPr>
              <a:xfrm>
                <a:off x="48988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9" name="Freeform 69"/>
              <p:cNvSpPr/>
              <p:nvPr/>
            </p:nvSpPr>
            <p:spPr>
              <a:xfrm flipH="1">
                <a:off x="53888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0" name="Group 70"/>
            <p:cNvGrpSpPr/>
            <p:nvPr/>
          </p:nvGrpSpPr>
          <p:grpSpPr>
            <a:xfrm>
              <a:off x="5715720" y="2643120"/>
              <a:ext cx="978840" cy="142920"/>
              <a:chOff x="5715720" y="2643120"/>
              <a:chExt cx="978840" cy="142920"/>
            </a:xfrm>
          </p:grpSpPr>
          <p:sp>
            <p:nvSpPr>
              <p:cNvPr id="841" name="Freeform 71"/>
              <p:cNvSpPr/>
              <p:nvPr/>
            </p:nvSpPr>
            <p:spPr>
              <a:xfrm>
                <a:off x="571572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2" name="Freeform 72"/>
              <p:cNvSpPr/>
              <p:nvPr/>
            </p:nvSpPr>
            <p:spPr>
              <a:xfrm flipH="1">
                <a:off x="620568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3" name="Group 73"/>
            <p:cNvGrpSpPr/>
            <p:nvPr/>
          </p:nvGrpSpPr>
          <p:grpSpPr>
            <a:xfrm>
              <a:off x="6532200" y="2643120"/>
              <a:ext cx="978840" cy="142920"/>
              <a:chOff x="6532200" y="2643120"/>
              <a:chExt cx="978840" cy="142920"/>
            </a:xfrm>
          </p:grpSpPr>
          <p:sp>
            <p:nvSpPr>
              <p:cNvPr id="844" name="Freeform 74"/>
              <p:cNvSpPr/>
              <p:nvPr/>
            </p:nvSpPr>
            <p:spPr>
              <a:xfrm>
                <a:off x="653220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Freeform 75"/>
              <p:cNvSpPr/>
              <p:nvPr/>
            </p:nvSpPr>
            <p:spPr>
              <a:xfrm flipH="1">
                <a:off x="702216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6" name="Group 76"/>
            <p:cNvGrpSpPr/>
            <p:nvPr/>
          </p:nvGrpSpPr>
          <p:grpSpPr>
            <a:xfrm>
              <a:off x="7348680" y="2643120"/>
              <a:ext cx="978840" cy="142920"/>
              <a:chOff x="7348680" y="2643120"/>
              <a:chExt cx="978840" cy="142920"/>
            </a:xfrm>
          </p:grpSpPr>
          <p:sp>
            <p:nvSpPr>
              <p:cNvPr id="847" name="Freeform 77"/>
              <p:cNvSpPr/>
              <p:nvPr/>
            </p:nvSpPr>
            <p:spPr>
              <a:xfrm>
                <a:off x="73486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Freeform 78"/>
              <p:cNvSpPr/>
              <p:nvPr/>
            </p:nvSpPr>
            <p:spPr>
              <a:xfrm flipH="1">
                <a:off x="78386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9" name="Group 79"/>
            <p:cNvGrpSpPr/>
            <p:nvPr/>
          </p:nvGrpSpPr>
          <p:grpSpPr>
            <a:xfrm>
              <a:off x="8165160" y="2643120"/>
              <a:ext cx="978840" cy="142920"/>
              <a:chOff x="8165160" y="2643120"/>
              <a:chExt cx="978840" cy="142920"/>
            </a:xfrm>
          </p:grpSpPr>
          <p:sp>
            <p:nvSpPr>
              <p:cNvPr id="850" name="Freeform 80"/>
              <p:cNvSpPr/>
              <p:nvPr/>
            </p:nvSpPr>
            <p:spPr>
              <a:xfrm>
                <a:off x="816516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Freeform 81"/>
              <p:cNvSpPr/>
              <p:nvPr/>
            </p:nvSpPr>
            <p:spPr>
              <a:xfrm flipH="1">
                <a:off x="865512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52" name="Text Box 4"/>
          <p:cNvSpPr/>
          <p:nvPr/>
        </p:nvSpPr>
        <p:spPr>
          <a:xfrm>
            <a:off x="7020000" y="2889360"/>
            <a:ext cx="20160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Beliefs, values, </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attitudes, storie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thought patterns, </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icit &amp;      unconscious)</a:t>
            </a:r>
            <a:endParaRPr b="0" lang="en-US" sz="2400" spc="-1" strike="noStrike">
              <a:solidFill>
                <a:srgbClr val="000000"/>
              </a:solidFill>
              <a:latin typeface="Calibri"/>
            </a:endParaRPr>
          </a:p>
        </p:txBody>
      </p:sp>
      <p:sp>
        <p:nvSpPr>
          <p:cNvPr id="853" name="Freeform 50"/>
          <p:cNvSpPr/>
          <p:nvPr/>
        </p:nvSpPr>
        <p:spPr>
          <a:xfrm>
            <a:off x="-571680" y="142920"/>
            <a:ext cx="9929880" cy="6932520"/>
          </a:xfrm>
          <a:custGeom>
            <a:avLst/>
            <a:gdLst>
              <a:gd name="textAreaLeft" fmla="*/ 0 w 9929880"/>
              <a:gd name="textAreaRight" fmla="*/ 9930240 w 9929880"/>
              <a:gd name="textAreaTop" fmla="*/ 0 h 6932520"/>
              <a:gd name="textAreaBottom" fmla="*/ 6932880 h 6932520"/>
            </a:gdLst>
            <a:ahLst/>
            <a:rect l="textAreaLeft" t="textAreaTop" r="textAreaRight" b="textAreaBottom"/>
            <a:pathLst>
              <a:path w="9010835" h="6773662">
                <a:moveTo>
                  <a:pt x="0" y="6631619"/>
                </a:moveTo>
                <a:cubicBezTo>
                  <a:pt x="8878" y="6637538"/>
                  <a:pt x="16413" y="6646309"/>
                  <a:pt x="26633" y="6649375"/>
                </a:cubicBezTo>
                <a:cubicBezTo>
                  <a:pt x="83142" y="6666328"/>
                  <a:pt x="127283" y="6654752"/>
                  <a:pt x="186431" y="6649375"/>
                </a:cubicBezTo>
                <a:cubicBezTo>
                  <a:pt x="204186" y="6637538"/>
                  <a:pt x="232949" y="6634108"/>
                  <a:pt x="239697" y="6613864"/>
                </a:cubicBezTo>
                <a:cubicBezTo>
                  <a:pt x="245615" y="6596109"/>
                  <a:pt x="244218" y="6573832"/>
                  <a:pt x="257452" y="6560598"/>
                </a:cubicBezTo>
                <a:cubicBezTo>
                  <a:pt x="294204" y="6523846"/>
                  <a:pt x="291070" y="6530328"/>
                  <a:pt x="319596" y="6489576"/>
                </a:cubicBezTo>
                <a:cubicBezTo>
                  <a:pt x="331833" y="6472094"/>
                  <a:pt x="340017" y="6451399"/>
                  <a:pt x="355106" y="6436310"/>
                </a:cubicBezTo>
                <a:cubicBezTo>
                  <a:pt x="401226" y="6390193"/>
                  <a:pt x="336196" y="6456894"/>
                  <a:pt x="399495" y="6383044"/>
                </a:cubicBezTo>
                <a:cubicBezTo>
                  <a:pt x="407666" y="6373512"/>
                  <a:pt x="417957" y="6365943"/>
                  <a:pt x="426128" y="6356411"/>
                </a:cubicBezTo>
                <a:cubicBezTo>
                  <a:pt x="435757" y="6345177"/>
                  <a:pt x="442931" y="6331960"/>
                  <a:pt x="452761" y="6320901"/>
                </a:cubicBezTo>
                <a:cubicBezTo>
                  <a:pt x="466663" y="6305261"/>
                  <a:pt x="479738" y="6288119"/>
                  <a:pt x="497149" y="6276512"/>
                </a:cubicBezTo>
                <a:cubicBezTo>
                  <a:pt x="514904" y="6264675"/>
                  <a:pt x="535326" y="6256091"/>
                  <a:pt x="550415" y="6241002"/>
                </a:cubicBezTo>
                <a:cubicBezTo>
                  <a:pt x="657298" y="6134119"/>
                  <a:pt x="504813" y="6283122"/>
                  <a:pt x="603681" y="6196613"/>
                </a:cubicBezTo>
                <a:cubicBezTo>
                  <a:pt x="645230" y="6160258"/>
                  <a:pt x="641758" y="6161693"/>
                  <a:pt x="665825" y="6125592"/>
                </a:cubicBezTo>
                <a:cubicBezTo>
                  <a:pt x="662866" y="6087122"/>
                  <a:pt x="656947" y="6048766"/>
                  <a:pt x="656947" y="6010182"/>
                </a:cubicBezTo>
                <a:cubicBezTo>
                  <a:pt x="656947" y="5933185"/>
                  <a:pt x="660527" y="5856177"/>
                  <a:pt x="665825" y="5779363"/>
                </a:cubicBezTo>
                <a:cubicBezTo>
                  <a:pt x="666469" y="5770027"/>
                  <a:pt x="670158" y="5760910"/>
                  <a:pt x="674703" y="5752730"/>
                </a:cubicBezTo>
                <a:cubicBezTo>
                  <a:pt x="686068" y="5732273"/>
                  <a:pt x="706415" y="5698952"/>
                  <a:pt x="727969" y="5681709"/>
                </a:cubicBezTo>
                <a:cubicBezTo>
                  <a:pt x="736301" y="5675044"/>
                  <a:pt x="746627" y="5671042"/>
                  <a:pt x="754602" y="5663953"/>
                </a:cubicBezTo>
                <a:cubicBezTo>
                  <a:pt x="845813" y="5582876"/>
                  <a:pt x="774058" y="5633227"/>
                  <a:pt x="834501" y="5592932"/>
                </a:cubicBezTo>
                <a:cubicBezTo>
                  <a:pt x="847683" y="5573159"/>
                  <a:pt x="851941" y="5562999"/>
                  <a:pt x="870011" y="5548543"/>
                </a:cubicBezTo>
                <a:cubicBezTo>
                  <a:pt x="878342" y="5541878"/>
                  <a:pt x="887766" y="5536706"/>
                  <a:pt x="896644" y="5530788"/>
                </a:cubicBezTo>
                <a:cubicBezTo>
                  <a:pt x="902563" y="5521910"/>
                  <a:pt x="906855" y="5511700"/>
                  <a:pt x="914400" y="5504155"/>
                </a:cubicBezTo>
                <a:cubicBezTo>
                  <a:pt x="921945" y="5496611"/>
                  <a:pt x="932702" y="5493065"/>
                  <a:pt x="941033" y="5486400"/>
                </a:cubicBezTo>
                <a:cubicBezTo>
                  <a:pt x="947569" y="5481171"/>
                  <a:pt x="952870" y="5474563"/>
                  <a:pt x="958788" y="5468644"/>
                </a:cubicBezTo>
                <a:cubicBezTo>
                  <a:pt x="977388" y="5394248"/>
                  <a:pt x="953762" y="5462867"/>
                  <a:pt x="985421" y="5415378"/>
                </a:cubicBezTo>
                <a:cubicBezTo>
                  <a:pt x="992762" y="5404367"/>
                  <a:pt x="997963" y="5392032"/>
                  <a:pt x="1003176" y="5379868"/>
                </a:cubicBezTo>
                <a:cubicBezTo>
                  <a:pt x="1006862" y="5371267"/>
                  <a:pt x="1007239" y="5361259"/>
                  <a:pt x="1012054" y="5353235"/>
                </a:cubicBezTo>
                <a:cubicBezTo>
                  <a:pt x="1016360" y="5346058"/>
                  <a:pt x="1023891" y="5341398"/>
                  <a:pt x="1029809" y="5335479"/>
                </a:cubicBezTo>
                <a:cubicBezTo>
                  <a:pt x="1032768" y="5326601"/>
                  <a:pt x="1032841" y="5316153"/>
                  <a:pt x="1038687" y="5308846"/>
                </a:cubicBezTo>
                <a:cubicBezTo>
                  <a:pt x="1045352" y="5300515"/>
                  <a:pt x="1056056" y="5296384"/>
                  <a:pt x="1065320" y="5291091"/>
                </a:cubicBezTo>
                <a:cubicBezTo>
                  <a:pt x="1076810" y="5284525"/>
                  <a:pt x="1088543" y="5278251"/>
                  <a:pt x="1100831" y="5273336"/>
                </a:cubicBezTo>
                <a:cubicBezTo>
                  <a:pt x="1118208" y="5266385"/>
                  <a:pt x="1137357" y="5263950"/>
                  <a:pt x="1154097" y="5255580"/>
                </a:cubicBezTo>
                <a:cubicBezTo>
                  <a:pt x="1197977" y="5233640"/>
                  <a:pt x="1177052" y="5242010"/>
                  <a:pt x="1216240" y="5228947"/>
                </a:cubicBezTo>
                <a:cubicBezTo>
                  <a:pt x="1237274" y="5207914"/>
                  <a:pt x="1259466" y="5188045"/>
                  <a:pt x="1269506" y="5157926"/>
                </a:cubicBezTo>
                <a:cubicBezTo>
                  <a:pt x="1272465" y="5149048"/>
                  <a:pt x="1275813" y="5140291"/>
                  <a:pt x="1278384" y="5131293"/>
                </a:cubicBezTo>
                <a:cubicBezTo>
                  <a:pt x="1281736" y="5119561"/>
                  <a:pt x="1282456" y="5106997"/>
                  <a:pt x="1287262" y="5095782"/>
                </a:cubicBezTo>
                <a:cubicBezTo>
                  <a:pt x="1291465" y="5085975"/>
                  <a:pt x="1300245" y="5078692"/>
                  <a:pt x="1305017" y="5069149"/>
                </a:cubicBezTo>
                <a:cubicBezTo>
                  <a:pt x="1309202" y="5060779"/>
                  <a:pt x="1309710" y="5050886"/>
                  <a:pt x="1313895" y="5042516"/>
                </a:cubicBezTo>
                <a:cubicBezTo>
                  <a:pt x="1318667" y="5032973"/>
                  <a:pt x="1326878" y="5025426"/>
                  <a:pt x="1331650" y="5015883"/>
                </a:cubicBezTo>
                <a:cubicBezTo>
                  <a:pt x="1353527" y="4972130"/>
                  <a:pt x="1324364" y="5005015"/>
                  <a:pt x="1358283" y="4962617"/>
                </a:cubicBezTo>
                <a:cubicBezTo>
                  <a:pt x="1380306" y="4935089"/>
                  <a:pt x="1375575" y="4954667"/>
                  <a:pt x="1393794" y="4918229"/>
                </a:cubicBezTo>
                <a:cubicBezTo>
                  <a:pt x="1397979" y="4909859"/>
                  <a:pt x="1398487" y="4899966"/>
                  <a:pt x="1402672" y="4891596"/>
                </a:cubicBezTo>
                <a:cubicBezTo>
                  <a:pt x="1407444" y="4882053"/>
                  <a:pt x="1415655" y="4874506"/>
                  <a:pt x="1420427" y="4864963"/>
                </a:cubicBezTo>
                <a:cubicBezTo>
                  <a:pt x="1424612" y="4856593"/>
                  <a:pt x="1425619" y="4846931"/>
                  <a:pt x="1429305" y="4838330"/>
                </a:cubicBezTo>
                <a:cubicBezTo>
                  <a:pt x="1434518" y="4826166"/>
                  <a:pt x="1441847" y="4814983"/>
                  <a:pt x="1447060" y="4802819"/>
                </a:cubicBezTo>
                <a:cubicBezTo>
                  <a:pt x="1450746" y="4794218"/>
                  <a:pt x="1451753" y="4784556"/>
                  <a:pt x="1455938" y="4776186"/>
                </a:cubicBezTo>
                <a:cubicBezTo>
                  <a:pt x="1460710" y="4766643"/>
                  <a:pt x="1468921" y="4759096"/>
                  <a:pt x="1473693" y="4749553"/>
                </a:cubicBezTo>
                <a:cubicBezTo>
                  <a:pt x="1477878" y="4741183"/>
                  <a:pt x="1480000" y="4731918"/>
                  <a:pt x="1482571" y="4722920"/>
                </a:cubicBezTo>
                <a:cubicBezTo>
                  <a:pt x="1485923" y="4711188"/>
                  <a:pt x="1485991" y="4698322"/>
                  <a:pt x="1491448" y="4687409"/>
                </a:cubicBezTo>
                <a:cubicBezTo>
                  <a:pt x="1495191" y="4679923"/>
                  <a:pt x="1503975" y="4676190"/>
                  <a:pt x="1509204" y="4669654"/>
                </a:cubicBezTo>
                <a:cubicBezTo>
                  <a:pt x="1565165" y="4599705"/>
                  <a:pt x="1485794" y="4683378"/>
                  <a:pt x="1553592" y="4625266"/>
                </a:cubicBezTo>
                <a:cubicBezTo>
                  <a:pt x="1566302" y="4614372"/>
                  <a:pt x="1577266" y="4601592"/>
                  <a:pt x="1589103" y="4589755"/>
                </a:cubicBezTo>
                <a:lnTo>
                  <a:pt x="1642369" y="4536489"/>
                </a:lnTo>
                <a:cubicBezTo>
                  <a:pt x="1651247" y="4527611"/>
                  <a:pt x="1658556" y="4516820"/>
                  <a:pt x="1669002" y="4509856"/>
                </a:cubicBezTo>
                <a:cubicBezTo>
                  <a:pt x="1677880" y="4503938"/>
                  <a:pt x="1687605" y="4499127"/>
                  <a:pt x="1695635" y="4492101"/>
                </a:cubicBezTo>
                <a:cubicBezTo>
                  <a:pt x="1711383" y="4478322"/>
                  <a:pt x="1740023" y="4447712"/>
                  <a:pt x="1740023" y="4447712"/>
                </a:cubicBezTo>
                <a:cubicBezTo>
                  <a:pt x="1742982" y="4438834"/>
                  <a:pt x="1748901" y="4430437"/>
                  <a:pt x="1748901" y="4421079"/>
                </a:cubicBezTo>
                <a:cubicBezTo>
                  <a:pt x="1748901" y="4417209"/>
                  <a:pt x="1735331" y="4365913"/>
                  <a:pt x="1731145" y="4358936"/>
                </a:cubicBezTo>
                <a:cubicBezTo>
                  <a:pt x="1726839" y="4351759"/>
                  <a:pt x="1719308" y="4347099"/>
                  <a:pt x="1713390" y="4341180"/>
                </a:cubicBezTo>
                <a:cubicBezTo>
                  <a:pt x="1679704" y="4240120"/>
                  <a:pt x="1689016" y="4289697"/>
                  <a:pt x="1704512" y="4119239"/>
                </a:cubicBezTo>
                <a:cubicBezTo>
                  <a:pt x="1705958" y="4103331"/>
                  <a:pt x="1715788" y="4082529"/>
                  <a:pt x="1731145" y="4074850"/>
                </a:cubicBezTo>
                <a:cubicBezTo>
                  <a:pt x="1770138" y="4055353"/>
                  <a:pt x="1804035" y="4054291"/>
                  <a:pt x="1846555" y="4048217"/>
                </a:cubicBezTo>
                <a:cubicBezTo>
                  <a:pt x="1855433" y="4045258"/>
                  <a:pt x="1865008" y="4043885"/>
                  <a:pt x="1873188" y="4039340"/>
                </a:cubicBezTo>
                <a:cubicBezTo>
                  <a:pt x="1891842" y="4028977"/>
                  <a:pt x="1908699" y="4015666"/>
                  <a:pt x="1926454" y="4003829"/>
                </a:cubicBezTo>
                <a:lnTo>
                  <a:pt x="1953087" y="3986074"/>
                </a:lnTo>
                <a:cubicBezTo>
                  <a:pt x="1961965" y="3980155"/>
                  <a:pt x="1969598" y="3971692"/>
                  <a:pt x="1979720" y="3968318"/>
                </a:cubicBezTo>
                <a:lnTo>
                  <a:pt x="2006353" y="3959441"/>
                </a:lnTo>
                <a:cubicBezTo>
                  <a:pt x="2041363" y="3924429"/>
                  <a:pt x="2022078" y="3949805"/>
                  <a:pt x="2041864" y="3870664"/>
                </a:cubicBezTo>
                <a:cubicBezTo>
                  <a:pt x="2047782" y="3861786"/>
                  <a:pt x="2054847" y="3853574"/>
                  <a:pt x="2059619" y="3844031"/>
                </a:cubicBezTo>
                <a:cubicBezTo>
                  <a:pt x="2078937" y="3805395"/>
                  <a:pt x="2055467" y="3824987"/>
                  <a:pt x="2086252" y="3781887"/>
                </a:cubicBezTo>
                <a:cubicBezTo>
                  <a:pt x="2118978" y="3736071"/>
                  <a:pt x="2107155" y="3775592"/>
                  <a:pt x="2130640" y="3728621"/>
                </a:cubicBezTo>
                <a:cubicBezTo>
                  <a:pt x="2134825" y="3720251"/>
                  <a:pt x="2133672" y="3709295"/>
                  <a:pt x="2139518" y="3701988"/>
                </a:cubicBezTo>
                <a:cubicBezTo>
                  <a:pt x="2158435" y="3678342"/>
                  <a:pt x="2169626" y="3688221"/>
                  <a:pt x="2192784" y="3675355"/>
                </a:cubicBezTo>
                <a:cubicBezTo>
                  <a:pt x="2211438" y="3664992"/>
                  <a:pt x="2230961" y="3654933"/>
                  <a:pt x="2246050" y="3639844"/>
                </a:cubicBezTo>
                <a:lnTo>
                  <a:pt x="2317072" y="3568823"/>
                </a:lnTo>
                <a:lnTo>
                  <a:pt x="2343705" y="3542190"/>
                </a:lnTo>
                <a:cubicBezTo>
                  <a:pt x="2352583" y="3533312"/>
                  <a:pt x="2359892" y="3522521"/>
                  <a:pt x="2370338" y="3515557"/>
                </a:cubicBezTo>
                <a:lnTo>
                  <a:pt x="2396971" y="3497802"/>
                </a:lnTo>
                <a:cubicBezTo>
                  <a:pt x="2405431" y="3472421"/>
                  <a:pt x="2409153" y="3463522"/>
                  <a:pt x="2414726" y="3435658"/>
                </a:cubicBezTo>
                <a:cubicBezTo>
                  <a:pt x="2418256" y="3418007"/>
                  <a:pt x="2419699" y="3399964"/>
                  <a:pt x="2423604" y="3382392"/>
                </a:cubicBezTo>
                <a:cubicBezTo>
                  <a:pt x="2425634" y="3373257"/>
                  <a:pt x="2430019" y="3364787"/>
                  <a:pt x="2432481" y="3355759"/>
                </a:cubicBezTo>
                <a:cubicBezTo>
                  <a:pt x="2438902" y="3332217"/>
                  <a:pt x="2442521" y="3307888"/>
                  <a:pt x="2450237" y="3284738"/>
                </a:cubicBezTo>
                <a:cubicBezTo>
                  <a:pt x="2471528" y="3220861"/>
                  <a:pt x="2445689" y="3300652"/>
                  <a:pt x="2467992" y="3222594"/>
                </a:cubicBezTo>
                <a:cubicBezTo>
                  <a:pt x="2486190" y="3158902"/>
                  <a:pt x="2467701" y="3241811"/>
                  <a:pt x="2485747" y="3151573"/>
                </a:cubicBezTo>
                <a:cubicBezTo>
                  <a:pt x="2482788" y="3139736"/>
                  <a:pt x="2480222" y="3127794"/>
                  <a:pt x="2476870" y="3116062"/>
                </a:cubicBezTo>
                <a:cubicBezTo>
                  <a:pt x="2474299" y="3107064"/>
                  <a:pt x="2467992" y="3098787"/>
                  <a:pt x="2467992" y="3089429"/>
                </a:cubicBezTo>
                <a:cubicBezTo>
                  <a:pt x="2467992" y="3073077"/>
                  <a:pt x="2474816" y="3022515"/>
                  <a:pt x="2485747" y="3000652"/>
                </a:cubicBezTo>
                <a:cubicBezTo>
                  <a:pt x="2517779" y="2936588"/>
                  <a:pt x="2490130" y="3016331"/>
                  <a:pt x="2521258" y="2938509"/>
                </a:cubicBezTo>
                <a:cubicBezTo>
                  <a:pt x="2528209" y="2921132"/>
                  <a:pt x="2533095" y="2902998"/>
                  <a:pt x="2539013" y="2885242"/>
                </a:cubicBezTo>
                <a:cubicBezTo>
                  <a:pt x="2541972" y="2876364"/>
                  <a:pt x="2545621" y="2867687"/>
                  <a:pt x="2547891" y="2858609"/>
                </a:cubicBezTo>
                <a:cubicBezTo>
                  <a:pt x="2550850" y="2846772"/>
                  <a:pt x="2551963" y="2834313"/>
                  <a:pt x="2556769" y="2823099"/>
                </a:cubicBezTo>
                <a:cubicBezTo>
                  <a:pt x="2560972" y="2813292"/>
                  <a:pt x="2569752" y="2806009"/>
                  <a:pt x="2574524" y="2796466"/>
                </a:cubicBezTo>
                <a:cubicBezTo>
                  <a:pt x="2578709" y="2788096"/>
                  <a:pt x="2579217" y="2778203"/>
                  <a:pt x="2583402" y="2769833"/>
                </a:cubicBezTo>
                <a:cubicBezTo>
                  <a:pt x="2588174" y="2760290"/>
                  <a:pt x="2596824" y="2752950"/>
                  <a:pt x="2601157" y="2743200"/>
                </a:cubicBezTo>
                <a:cubicBezTo>
                  <a:pt x="2643413" y="2648123"/>
                  <a:pt x="2596486" y="2723572"/>
                  <a:pt x="2636668" y="2663301"/>
                </a:cubicBezTo>
                <a:cubicBezTo>
                  <a:pt x="2650085" y="2609627"/>
                  <a:pt x="2641684" y="2639375"/>
                  <a:pt x="2663301" y="2574524"/>
                </a:cubicBezTo>
                <a:lnTo>
                  <a:pt x="2672178" y="2547891"/>
                </a:lnTo>
                <a:cubicBezTo>
                  <a:pt x="2669219" y="2497584"/>
                  <a:pt x="2668315" y="2447115"/>
                  <a:pt x="2663301" y="2396971"/>
                </a:cubicBezTo>
                <a:cubicBezTo>
                  <a:pt x="2662370" y="2387660"/>
                  <a:pt x="2654423" y="2379696"/>
                  <a:pt x="2654423" y="2370338"/>
                </a:cubicBezTo>
                <a:cubicBezTo>
                  <a:pt x="2654423" y="2337065"/>
                  <a:pt x="2662735" y="2274945"/>
                  <a:pt x="2672178" y="2237173"/>
                </a:cubicBezTo>
                <a:cubicBezTo>
                  <a:pt x="2674448" y="2228094"/>
                  <a:pt x="2678786" y="2219618"/>
                  <a:pt x="2681056" y="2210540"/>
                </a:cubicBezTo>
                <a:cubicBezTo>
                  <a:pt x="2695142" y="2154199"/>
                  <a:pt x="2685592" y="2161422"/>
                  <a:pt x="2707689" y="2095130"/>
                </a:cubicBezTo>
                <a:lnTo>
                  <a:pt x="2725444" y="2041864"/>
                </a:lnTo>
                <a:cubicBezTo>
                  <a:pt x="2728403" y="2032986"/>
                  <a:pt x="2730137" y="2023601"/>
                  <a:pt x="2734322" y="2015231"/>
                </a:cubicBezTo>
                <a:cubicBezTo>
                  <a:pt x="2740240" y="2003394"/>
                  <a:pt x="2747162" y="1992008"/>
                  <a:pt x="2752077" y="1979720"/>
                </a:cubicBezTo>
                <a:cubicBezTo>
                  <a:pt x="2759028" y="1962343"/>
                  <a:pt x="2763915" y="1944209"/>
                  <a:pt x="2769833" y="1926454"/>
                </a:cubicBezTo>
                <a:cubicBezTo>
                  <a:pt x="2772792" y="1917576"/>
                  <a:pt x="2774525" y="1908191"/>
                  <a:pt x="2778710" y="1899821"/>
                </a:cubicBezTo>
                <a:cubicBezTo>
                  <a:pt x="2784629" y="1887984"/>
                  <a:pt x="2791551" y="1876598"/>
                  <a:pt x="2796466" y="1864310"/>
                </a:cubicBezTo>
                <a:cubicBezTo>
                  <a:pt x="2803417" y="1846933"/>
                  <a:pt x="2808303" y="1828799"/>
                  <a:pt x="2814221" y="1811044"/>
                </a:cubicBezTo>
                <a:cubicBezTo>
                  <a:pt x="2817180" y="1802166"/>
                  <a:pt x="2820829" y="1793490"/>
                  <a:pt x="2823099" y="1784411"/>
                </a:cubicBezTo>
                <a:cubicBezTo>
                  <a:pt x="2826058" y="1772574"/>
                  <a:pt x="2827170" y="1760115"/>
                  <a:pt x="2831976" y="1748901"/>
                </a:cubicBezTo>
                <a:cubicBezTo>
                  <a:pt x="2836179" y="1739094"/>
                  <a:pt x="2843813" y="1731146"/>
                  <a:pt x="2849732" y="1722268"/>
                </a:cubicBezTo>
                <a:cubicBezTo>
                  <a:pt x="2870134" y="1661061"/>
                  <a:pt x="2854253" y="1682236"/>
                  <a:pt x="2885242" y="1651246"/>
                </a:cubicBezTo>
                <a:cubicBezTo>
                  <a:pt x="2891854" y="1631410"/>
                  <a:pt x="2900893" y="1588725"/>
                  <a:pt x="2920753" y="1571347"/>
                </a:cubicBezTo>
                <a:cubicBezTo>
                  <a:pt x="2936812" y="1557295"/>
                  <a:pt x="2958930" y="1550926"/>
                  <a:pt x="2974019" y="1535837"/>
                </a:cubicBezTo>
                <a:cubicBezTo>
                  <a:pt x="3002933" y="1506923"/>
                  <a:pt x="3009258" y="1505241"/>
                  <a:pt x="3027285" y="1473693"/>
                </a:cubicBezTo>
                <a:cubicBezTo>
                  <a:pt x="3081879" y="1378150"/>
                  <a:pt x="2993685" y="1515215"/>
                  <a:pt x="3080551" y="1384916"/>
                </a:cubicBezTo>
                <a:cubicBezTo>
                  <a:pt x="3086469" y="1376038"/>
                  <a:pt x="3094932" y="1368405"/>
                  <a:pt x="3098306" y="1358283"/>
                </a:cubicBezTo>
                <a:cubicBezTo>
                  <a:pt x="3104225" y="1340528"/>
                  <a:pt x="3105680" y="1320590"/>
                  <a:pt x="3116062" y="1305017"/>
                </a:cubicBezTo>
                <a:cubicBezTo>
                  <a:pt x="3121980" y="1296139"/>
                  <a:pt x="3129484" y="1288134"/>
                  <a:pt x="3133817" y="1278384"/>
                </a:cubicBezTo>
                <a:cubicBezTo>
                  <a:pt x="3141418" y="1261281"/>
                  <a:pt x="3147034" y="1243275"/>
                  <a:pt x="3151573" y="1225118"/>
                </a:cubicBezTo>
                <a:cubicBezTo>
                  <a:pt x="3154532" y="1213281"/>
                  <a:pt x="3155644" y="1200822"/>
                  <a:pt x="3160450" y="1189608"/>
                </a:cubicBezTo>
                <a:cubicBezTo>
                  <a:pt x="3164653" y="1179801"/>
                  <a:pt x="3172287" y="1171853"/>
                  <a:pt x="3178206" y="1162975"/>
                </a:cubicBezTo>
                <a:cubicBezTo>
                  <a:pt x="3181165" y="1151138"/>
                  <a:pt x="3183577" y="1139151"/>
                  <a:pt x="3187083" y="1127464"/>
                </a:cubicBezTo>
                <a:cubicBezTo>
                  <a:pt x="3192461" y="1109537"/>
                  <a:pt x="3200300" y="1092355"/>
                  <a:pt x="3204839" y="1074198"/>
                </a:cubicBezTo>
                <a:cubicBezTo>
                  <a:pt x="3207798" y="1062361"/>
                  <a:pt x="3208910" y="1049902"/>
                  <a:pt x="3213716" y="1038687"/>
                </a:cubicBezTo>
                <a:cubicBezTo>
                  <a:pt x="3217919" y="1028880"/>
                  <a:pt x="3225553" y="1020932"/>
                  <a:pt x="3231472" y="1012054"/>
                </a:cubicBezTo>
                <a:cubicBezTo>
                  <a:pt x="3253784" y="945112"/>
                  <a:pt x="3223686" y="1027626"/>
                  <a:pt x="3258105" y="958788"/>
                </a:cubicBezTo>
                <a:cubicBezTo>
                  <a:pt x="3262290" y="950418"/>
                  <a:pt x="3264411" y="941153"/>
                  <a:pt x="3266982" y="932155"/>
                </a:cubicBezTo>
                <a:cubicBezTo>
                  <a:pt x="3270334" y="920423"/>
                  <a:pt x="3270403" y="907557"/>
                  <a:pt x="3275860" y="896644"/>
                </a:cubicBezTo>
                <a:cubicBezTo>
                  <a:pt x="3285403" y="877558"/>
                  <a:pt x="3311371" y="843378"/>
                  <a:pt x="3311371" y="843378"/>
                </a:cubicBezTo>
                <a:cubicBezTo>
                  <a:pt x="3317289" y="825623"/>
                  <a:pt x="3320756" y="806852"/>
                  <a:pt x="3329126" y="790112"/>
                </a:cubicBezTo>
                <a:cubicBezTo>
                  <a:pt x="3373009" y="702347"/>
                  <a:pt x="3356266" y="744204"/>
                  <a:pt x="3382392" y="665825"/>
                </a:cubicBezTo>
                <a:cubicBezTo>
                  <a:pt x="3385351" y="656947"/>
                  <a:pt x="3389435" y="648368"/>
                  <a:pt x="3391270" y="639192"/>
                </a:cubicBezTo>
                <a:cubicBezTo>
                  <a:pt x="3409316" y="548954"/>
                  <a:pt x="3390827" y="631863"/>
                  <a:pt x="3409025" y="568171"/>
                </a:cubicBezTo>
                <a:cubicBezTo>
                  <a:pt x="3412377" y="556439"/>
                  <a:pt x="3413619" y="544084"/>
                  <a:pt x="3417903" y="532660"/>
                </a:cubicBezTo>
                <a:cubicBezTo>
                  <a:pt x="3422550" y="520269"/>
                  <a:pt x="3430743" y="509437"/>
                  <a:pt x="3435658" y="497149"/>
                </a:cubicBezTo>
                <a:cubicBezTo>
                  <a:pt x="3442609" y="479772"/>
                  <a:pt x="3447495" y="461638"/>
                  <a:pt x="3453413" y="443883"/>
                </a:cubicBezTo>
                <a:lnTo>
                  <a:pt x="3462291" y="417250"/>
                </a:lnTo>
                <a:cubicBezTo>
                  <a:pt x="3465250" y="408372"/>
                  <a:pt x="3465978" y="398403"/>
                  <a:pt x="3471169" y="390617"/>
                </a:cubicBezTo>
                <a:cubicBezTo>
                  <a:pt x="3486951" y="366943"/>
                  <a:pt x="3491896" y="355754"/>
                  <a:pt x="3515557" y="337351"/>
                </a:cubicBezTo>
                <a:cubicBezTo>
                  <a:pt x="3532401" y="324250"/>
                  <a:pt x="3551068" y="313678"/>
                  <a:pt x="3568823" y="301841"/>
                </a:cubicBezTo>
                <a:cubicBezTo>
                  <a:pt x="3577701" y="295922"/>
                  <a:pt x="3585105" y="286673"/>
                  <a:pt x="3595456" y="284085"/>
                </a:cubicBezTo>
                <a:lnTo>
                  <a:pt x="3666477" y="266330"/>
                </a:lnTo>
                <a:lnTo>
                  <a:pt x="3719743" y="230819"/>
                </a:lnTo>
                <a:cubicBezTo>
                  <a:pt x="3728621" y="224901"/>
                  <a:pt x="3736254" y="216438"/>
                  <a:pt x="3746376" y="213064"/>
                </a:cubicBezTo>
                <a:lnTo>
                  <a:pt x="3799642" y="195309"/>
                </a:lnTo>
                <a:cubicBezTo>
                  <a:pt x="3857220" y="118537"/>
                  <a:pt x="3796265" y="191604"/>
                  <a:pt x="3852908" y="142042"/>
                </a:cubicBezTo>
                <a:cubicBezTo>
                  <a:pt x="3883763" y="115044"/>
                  <a:pt x="3890634" y="96547"/>
                  <a:pt x="3923930" y="79899"/>
                </a:cubicBezTo>
                <a:cubicBezTo>
                  <a:pt x="3932300" y="75714"/>
                  <a:pt x="3942044" y="74893"/>
                  <a:pt x="3950563" y="71021"/>
                </a:cubicBezTo>
                <a:cubicBezTo>
                  <a:pt x="3974659" y="60068"/>
                  <a:pt x="3995225" y="37906"/>
                  <a:pt x="4021584" y="35510"/>
                </a:cubicBezTo>
                <a:lnTo>
                  <a:pt x="4119239" y="26633"/>
                </a:lnTo>
                <a:cubicBezTo>
                  <a:pt x="4134035" y="23674"/>
                  <a:pt x="4148743" y="20236"/>
                  <a:pt x="4163627" y="17755"/>
                </a:cubicBezTo>
                <a:cubicBezTo>
                  <a:pt x="4184267" y="14315"/>
                  <a:pt x="4205252" y="12981"/>
                  <a:pt x="4225771" y="8877"/>
                </a:cubicBezTo>
                <a:cubicBezTo>
                  <a:pt x="4234947" y="7042"/>
                  <a:pt x="4243526" y="2959"/>
                  <a:pt x="4252404" y="0"/>
                </a:cubicBezTo>
                <a:cubicBezTo>
                  <a:pt x="4267200" y="2959"/>
                  <a:pt x="4282062" y="5604"/>
                  <a:pt x="4296792" y="8877"/>
                </a:cubicBezTo>
                <a:cubicBezTo>
                  <a:pt x="4308703" y="11524"/>
                  <a:pt x="4320209" y="16142"/>
                  <a:pt x="4332303" y="17755"/>
                </a:cubicBezTo>
                <a:cubicBezTo>
                  <a:pt x="4364702" y="22075"/>
                  <a:pt x="4397406" y="23674"/>
                  <a:pt x="4429957" y="26633"/>
                </a:cubicBezTo>
                <a:cubicBezTo>
                  <a:pt x="4437649" y="28556"/>
                  <a:pt x="4482192" y="38726"/>
                  <a:pt x="4492101" y="44388"/>
                </a:cubicBezTo>
                <a:cubicBezTo>
                  <a:pt x="4504947" y="51729"/>
                  <a:pt x="4515571" y="62421"/>
                  <a:pt x="4527611" y="71021"/>
                </a:cubicBezTo>
                <a:cubicBezTo>
                  <a:pt x="4536293" y="77223"/>
                  <a:pt x="4545912" y="82111"/>
                  <a:pt x="4554244" y="88776"/>
                </a:cubicBezTo>
                <a:cubicBezTo>
                  <a:pt x="4560780" y="94005"/>
                  <a:pt x="4564823" y="102226"/>
                  <a:pt x="4572000" y="106532"/>
                </a:cubicBezTo>
                <a:cubicBezTo>
                  <a:pt x="4580024" y="111347"/>
                  <a:pt x="4589635" y="112838"/>
                  <a:pt x="4598633" y="115409"/>
                </a:cubicBezTo>
                <a:cubicBezTo>
                  <a:pt x="4676637" y="137696"/>
                  <a:pt x="4596939" y="111885"/>
                  <a:pt x="4660776" y="133165"/>
                </a:cubicBezTo>
                <a:cubicBezTo>
                  <a:pt x="4744172" y="129194"/>
                  <a:pt x="4864610" y="115339"/>
                  <a:pt x="4953740" y="133165"/>
                </a:cubicBezTo>
                <a:cubicBezTo>
                  <a:pt x="4964202" y="135257"/>
                  <a:pt x="4971495" y="145002"/>
                  <a:pt x="4980373" y="150920"/>
                </a:cubicBezTo>
                <a:cubicBezTo>
                  <a:pt x="4986291" y="159798"/>
                  <a:pt x="4991853" y="168924"/>
                  <a:pt x="4998128" y="177553"/>
                </a:cubicBezTo>
                <a:cubicBezTo>
                  <a:pt x="5015533" y="201486"/>
                  <a:pt x="5038160" y="222107"/>
                  <a:pt x="5051394" y="248575"/>
                </a:cubicBezTo>
                <a:cubicBezTo>
                  <a:pt x="5057312" y="260412"/>
                  <a:pt x="5061808" y="273074"/>
                  <a:pt x="5069149" y="284085"/>
                </a:cubicBezTo>
                <a:cubicBezTo>
                  <a:pt x="5083755" y="305994"/>
                  <a:pt x="5099194" y="306327"/>
                  <a:pt x="5122415" y="319596"/>
                </a:cubicBezTo>
                <a:cubicBezTo>
                  <a:pt x="5131679" y="324890"/>
                  <a:pt x="5140716" y="330686"/>
                  <a:pt x="5149048" y="337351"/>
                </a:cubicBezTo>
                <a:cubicBezTo>
                  <a:pt x="5155584" y="342580"/>
                  <a:pt x="5159627" y="350801"/>
                  <a:pt x="5166804" y="355107"/>
                </a:cubicBezTo>
                <a:cubicBezTo>
                  <a:pt x="5174828" y="359922"/>
                  <a:pt x="5184559" y="361025"/>
                  <a:pt x="5193437" y="363984"/>
                </a:cubicBezTo>
                <a:cubicBezTo>
                  <a:pt x="5199355" y="369903"/>
                  <a:pt x="5204656" y="376511"/>
                  <a:pt x="5211192" y="381740"/>
                </a:cubicBezTo>
                <a:cubicBezTo>
                  <a:pt x="5219523" y="388405"/>
                  <a:pt x="5230280" y="391950"/>
                  <a:pt x="5237825" y="399495"/>
                </a:cubicBezTo>
                <a:cubicBezTo>
                  <a:pt x="5245370" y="407040"/>
                  <a:pt x="5248035" y="418583"/>
                  <a:pt x="5255580" y="426128"/>
                </a:cubicBezTo>
                <a:cubicBezTo>
                  <a:pt x="5266042" y="436590"/>
                  <a:pt x="5279254" y="443883"/>
                  <a:pt x="5291091" y="452761"/>
                </a:cubicBezTo>
                <a:cubicBezTo>
                  <a:pt x="5304411" y="472741"/>
                  <a:pt x="5322829" y="504141"/>
                  <a:pt x="5344357" y="514905"/>
                </a:cubicBezTo>
                <a:cubicBezTo>
                  <a:pt x="5423748" y="554600"/>
                  <a:pt x="5390268" y="542045"/>
                  <a:pt x="5442011" y="559293"/>
                </a:cubicBezTo>
                <a:cubicBezTo>
                  <a:pt x="5466983" y="584264"/>
                  <a:pt x="5475197" y="590156"/>
                  <a:pt x="5495277" y="630314"/>
                </a:cubicBezTo>
                <a:cubicBezTo>
                  <a:pt x="5501196" y="642151"/>
                  <a:pt x="5506224" y="654477"/>
                  <a:pt x="5513033" y="665825"/>
                </a:cubicBezTo>
                <a:cubicBezTo>
                  <a:pt x="5524012" y="684123"/>
                  <a:pt x="5536706" y="701336"/>
                  <a:pt x="5548543" y="719091"/>
                </a:cubicBezTo>
                <a:lnTo>
                  <a:pt x="5584054" y="772357"/>
                </a:lnTo>
                <a:cubicBezTo>
                  <a:pt x="5589972" y="781235"/>
                  <a:pt x="5598435" y="788868"/>
                  <a:pt x="5601809" y="798990"/>
                </a:cubicBezTo>
                <a:lnTo>
                  <a:pt x="5619565" y="852256"/>
                </a:lnTo>
                <a:cubicBezTo>
                  <a:pt x="5622524" y="861134"/>
                  <a:pt x="5623251" y="871103"/>
                  <a:pt x="5628442" y="878889"/>
                </a:cubicBezTo>
                <a:lnTo>
                  <a:pt x="5646198" y="905522"/>
                </a:lnTo>
                <a:cubicBezTo>
                  <a:pt x="5652989" y="932690"/>
                  <a:pt x="5652393" y="947229"/>
                  <a:pt x="5672831" y="967666"/>
                </a:cubicBezTo>
                <a:cubicBezTo>
                  <a:pt x="5680376" y="975210"/>
                  <a:pt x="5690586" y="979503"/>
                  <a:pt x="5699464" y="985421"/>
                </a:cubicBezTo>
                <a:cubicBezTo>
                  <a:pt x="5733659" y="1036714"/>
                  <a:pt x="5697820" y="990353"/>
                  <a:pt x="5743852" y="1029809"/>
                </a:cubicBezTo>
                <a:cubicBezTo>
                  <a:pt x="5756562" y="1040703"/>
                  <a:pt x="5779363" y="1065320"/>
                  <a:pt x="5779363" y="1065320"/>
                </a:cubicBezTo>
                <a:cubicBezTo>
                  <a:pt x="5782322" y="1074198"/>
                  <a:pt x="5785669" y="1082955"/>
                  <a:pt x="5788240" y="1091953"/>
                </a:cubicBezTo>
                <a:cubicBezTo>
                  <a:pt x="5791592" y="1103685"/>
                  <a:pt x="5792312" y="1116249"/>
                  <a:pt x="5797118" y="1127464"/>
                </a:cubicBezTo>
                <a:cubicBezTo>
                  <a:pt x="5801321" y="1137271"/>
                  <a:pt x="5810101" y="1144554"/>
                  <a:pt x="5814873" y="1154097"/>
                </a:cubicBezTo>
                <a:cubicBezTo>
                  <a:pt x="5819058" y="1162467"/>
                  <a:pt x="5819566" y="1172360"/>
                  <a:pt x="5823751" y="1180730"/>
                </a:cubicBezTo>
                <a:cubicBezTo>
                  <a:pt x="5828523" y="1190273"/>
                  <a:pt x="5836734" y="1197820"/>
                  <a:pt x="5841506" y="1207363"/>
                </a:cubicBezTo>
                <a:cubicBezTo>
                  <a:pt x="5845691" y="1215733"/>
                  <a:pt x="5846698" y="1225395"/>
                  <a:pt x="5850384" y="1233996"/>
                </a:cubicBezTo>
                <a:cubicBezTo>
                  <a:pt x="5855597" y="1246160"/>
                  <a:pt x="5862221" y="1257670"/>
                  <a:pt x="5868140" y="1269507"/>
                </a:cubicBezTo>
                <a:cubicBezTo>
                  <a:pt x="5869325" y="1274246"/>
                  <a:pt x="5880799" y="1324006"/>
                  <a:pt x="5885895" y="1331650"/>
                </a:cubicBezTo>
                <a:cubicBezTo>
                  <a:pt x="5892859" y="1342096"/>
                  <a:pt x="5903650" y="1349405"/>
                  <a:pt x="5912528" y="1358283"/>
                </a:cubicBezTo>
                <a:cubicBezTo>
                  <a:pt x="5917737" y="1384328"/>
                  <a:pt x="5920048" y="1405424"/>
                  <a:pt x="5930283" y="1429305"/>
                </a:cubicBezTo>
                <a:cubicBezTo>
                  <a:pt x="5935496" y="1441469"/>
                  <a:pt x="5942120" y="1452978"/>
                  <a:pt x="5948039" y="1464815"/>
                </a:cubicBezTo>
                <a:cubicBezTo>
                  <a:pt x="5950998" y="1479611"/>
                  <a:pt x="5953256" y="1494565"/>
                  <a:pt x="5956916" y="1509204"/>
                </a:cubicBezTo>
                <a:cubicBezTo>
                  <a:pt x="5959186" y="1518283"/>
                  <a:pt x="5963223" y="1526839"/>
                  <a:pt x="5965794" y="1535837"/>
                </a:cubicBezTo>
                <a:cubicBezTo>
                  <a:pt x="5969146" y="1547569"/>
                  <a:pt x="5971713" y="1559510"/>
                  <a:pt x="5974672" y="1571347"/>
                </a:cubicBezTo>
                <a:cubicBezTo>
                  <a:pt x="5976834" y="1588646"/>
                  <a:pt x="5988340" y="1684078"/>
                  <a:pt x="5992427" y="1704512"/>
                </a:cubicBezTo>
                <a:cubicBezTo>
                  <a:pt x="5994262" y="1713688"/>
                  <a:pt x="5998734" y="1722147"/>
                  <a:pt x="6001305" y="1731145"/>
                </a:cubicBezTo>
                <a:cubicBezTo>
                  <a:pt x="6004657" y="1742877"/>
                  <a:pt x="6006830" y="1754924"/>
                  <a:pt x="6010182" y="1766656"/>
                </a:cubicBezTo>
                <a:cubicBezTo>
                  <a:pt x="6012753" y="1775654"/>
                  <a:pt x="6016790" y="1784211"/>
                  <a:pt x="6019060" y="1793289"/>
                </a:cubicBezTo>
                <a:cubicBezTo>
                  <a:pt x="6022720" y="1807927"/>
                  <a:pt x="6023968" y="1823120"/>
                  <a:pt x="6027938" y="1837677"/>
                </a:cubicBezTo>
                <a:cubicBezTo>
                  <a:pt x="6032862" y="1855733"/>
                  <a:pt x="6042022" y="1872591"/>
                  <a:pt x="6045693" y="1890943"/>
                </a:cubicBezTo>
                <a:cubicBezTo>
                  <a:pt x="6047272" y="1898837"/>
                  <a:pt x="6058748" y="1959876"/>
                  <a:pt x="6063448" y="1970842"/>
                </a:cubicBezTo>
                <a:cubicBezTo>
                  <a:pt x="6082916" y="2016266"/>
                  <a:pt x="6079840" y="1980113"/>
                  <a:pt x="6107837" y="2024109"/>
                </a:cubicBezTo>
                <a:cubicBezTo>
                  <a:pt x="6176528" y="2132052"/>
                  <a:pt x="6115322" y="2067106"/>
                  <a:pt x="6161103" y="2112885"/>
                </a:cubicBezTo>
                <a:cubicBezTo>
                  <a:pt x="6176519" y="2159136"/>
                  <a:pt x="6159882" y="2122456"/>
                  <a:pt x="6187736" y="2157274"/>
                </a:cubicBezTo>
                <a:cubicBezTo>
                  <a:pt x="6194401" y="2165606"/>
                  <a:pt x="6198403" y="2175932"/>
                  <a:pt x="6205491" y="2183907"/>
                </a:cubicBezTo>
                <a:cubicBezTo>
                  <a:pt x="6222173" y="2202674"/>
                  <a:pt x="6247528" y="2214714"/>
                  <a:pt x="6258757" y="2237173"/>
                </a:cubicBezTo>
                <a:cubicBezTo>
                  <a:pt x="6264675" y="2249010"/>
                  <a:pt x="6269171" y="2261672"/>
                  <a:pt x="6276512" y="2272683"/>
                </a:cubicBezTo>
                <a:cubicBezTo>
                  <a:pt x="6281155" y="2279647"/>
                  <a:pt x="6289625" y="2283475"/>
                  <a:pt x="6294268" y="2290439"/>
                </a:cubicBezTo>
                <a:cubicBezTo>
                  <a:pt x="6317820" y="2325766"/>
                  <a:pt x="6306698" y="2319442"/>
                  <a:pt x="6320901" y="2352582"/>
                </a:cubicBezTo>
                <a:cubicBezTo>
                  <a:pt x="6326114" y="2364746"/>
                  <a:pt x="6334009" y="2375702"/>
                  <a:pt x="6338656" y="2388093"/>
                </a:cubicBezTo>
                <a:cubicBezTo>
                  <a:pt x="6342940" y="2399517"/>
                  <a:pt x="6342728" y="2412389"/>
                  <a:pt x="6347534" y="2423604"/>
                </a:cubicBezTo>
                <a:cubicBezTo>
                  <a:pt x="6351737" y="2433411"/>
                  <a:pt x="6359371" y="2441359"/>
                  <a:pt x="6365289" y="2450237"/>
                </a:cubicBezTo>
                <a:cubicBezTo>
                  <a:pt x="6374051" y="2511568"/>
                  <a:pt x="6379893" y="2503219"/>
                  <a:pt x="6365289" y="2556769"/>
                </a:cubicBezTo>
                <a:cubicBezTo>
                  <a:pt x="6360365" y="2574825"/>
                  <a:pt x="6347534" y="2610035"/>
                  <a:pt x="6347534" y="2610035"/>
                </a:cubicBezTo>
                <a:cubicBezTo>
                  <a:pt x="6350493" y="2663301"/>
                  <a:pt x="6353607" y="2716559"/>
                  <a:pt x="6356411" y="2769833"/>
                </a:cubicBezTo>
                <a:cubicBezTo>
                  <a:pt x="6372002" y="3066071"/>
                  <a:pt x="6345563" y="2873902"/>
                  <a:pt x="6374167" y="2974019"/>
                </a:cubicBezTo>
                <a:cubicBezTo>
                  <a:pt x="6377519" y="2985751"/>
                  <a:pt x="6377587" y="2998617"/>
                  <a:pt x="6383044" y="3009530"/>
                </a:cubicBezTo>
                <a:cubicBezTo>
                  <a:pt x="6386787" y="3017016"/>
                  <a:pt x="6394881" y="3021367"/>
                  <a:pt x="6400800" y="3027285"/>
                </a:cubicBezTo>
                <a:cubicBezTo>
                  <a:pt x="6417773" y="3078208"/>
                  <a:pt x="6398186" y="3032677"/>
                  <a:pt x="6427433" y="3071674"/>
                </a:cubicBezTo>
                <a:cubicBezTo>
                  <a:pt x="6440236" y="3088745"/>
                  <a:pt x="6451106" y="3107185"/>
                  <a:pt x="6462943" y="3124940"/>
                </a:cubicBezTo>
                <a:lnTo>
                  <a:pt x="6480699" y="3151573"/>
                </a:lnTo>
                <a:cubicBezTo>
                  <a:pt x="6486617" y="3160451"/>
                  <a:pt x="6490909" y="3170661"/>
                  <a:pt x="6498454" y="3178206"/>
                </a:cubicBezTo>
                <a:cubicBezTo>
                  <a:pt x="6507332" y="3187084"/>
                  <a:pt x="6517050" y="3195194"/>
                  <a:pt x="6525087" y="3204839"/>
                </a:cubicBezTo>
                <a:cubicBezTo>
                  <a:pt x="6531917" y="3213036"/>
                  <a:pt x="6538070" y="3221929"/>
                  <a:pt x="6542842" y="3231472"/>
                </a:cubicBezTo>
                <a:cubicBezTo>
                  <a:pt x="6547027" y="3239842"/>
                  <a:pt x="6545874" y="3250798"/>
                  <a:pt x="6551720" y="3258105"/>
                </a:cubicBezTo>
                <a:cubicBezTo>
                  <a:pt x="6558385" y="3266436"/>
                  <a:pt x="6569475" y="3269942"/>
                  <a:pt x="6578353" y="3275860"/>
                </a:cubicBezTo>
                <a:cubicBezTo>
                  <a:pt x="6584271" y="3284738"/>
                  <a:pt x="6589082" y="3294463"/>
                  <a:pt x="6596108" y="3302493"/>
                </a:cubicBezTo>
                <a:cubicBezTo>
                  <a:pt x="6609887" y="3318241"/>
                  <a:pt x="6625701" y="3332085"/>
                  <a:pt x="6640497" y="3346881"/>
                </a:cubicBezTo>
                <a:cubicBezTo>
                  <a:pt x="6646416" y="3352800"/>
                  <a:pt x="6653230" y="3357941"/>
                  <a:pt x="6658252" y="3364637"/>
                </a:cubicBezTo>
                <a:cubicBezTo>
                  <a:pt x="6667130" y="3376474"/>
                  <a:pt x="6675256" y="3388913"/>
                  <a:pt x="6684885" y="3400147"/>
                </a:cubicBezTo>
                <a:cubicBezTo>
                  <a:pt x="6693056" y="3409679"/>
                  <a:pt x="6703481" y="3417135"/>
                  <a:pt x="6711518" y="3426780"/>
                </a:cubicBezTo>
                <a:cubicBezTo>
                  <a:pt x="6718348" y="3434977"/>
                  <a:pt x="6722608" y="3445081"/>
                  <a:pt x="6729273" y="3453413"/>
                </a:cubicBezTo>
                <a:cubicBezTo>
                  <a:pt x="6734502" y="3459949"/>
                  <a:pt x="6742007" y="3464473"/>
                  <a:pt x="6747029" y="3471169"/>
                </a:cubicBezTo>
                <a:cubicBezTo>
                  <a:pt x="6759833" y="3488240"/>
                  <a:pt x="6782540" y="3524435"/>
                  <a:pt x="6782540" y="3524435"/>
                </a:cubicBezTo>
                <a:cubicBezTo>
                  <a:pt x="6810825" y="3609292"/>
                  <a:pt x="6796644" y="3553711"/>
                  <a:pt x="6809173" y="3666477"/>
                </a:cubicBezTo>
                <a:cubicBezTo>
                  <a:pt x="6810838" y="3681459"/>
                  <a:pt x="6816725" y="3749203"/>
                  <a:pt x="6826928" y="3773009"/>
                </a:cubicBezTo>
                <a:cubicBezTo>
                  <a:pt x="6836198" y="3794639"/>
                  <a:pt x="6855318" y="3810278"/>
                  <a:pt x="6871316" y="3826276"/>
                </a:cubicBezTo>
                <a:cubicBezTo>
                  <a:pt x="6874275" y="3835154"/>
                  <a:pt x="6872807" y="3847164"/>
                  <a:pt x="6880194" y="3852909"/>
                </a:cubicBezTo>
                <a:cubicBezTo>
                  <a:pt x="6901087" y="3869159"/>
                  <a:pt x="6929193" y="3873737"/>
                  <a:pt x="6951215" y="3888419"/>
                </a:cubicBezTo>
                <a:cubicBezTo>
                  <a:pt x="6960093" y="3894338"/>
                  <a:pt x="6969818" y="3899149"/>
                  <a:pt x="6977848" y="3906175"/>
                </a:cubicBezTo>
                <a:cubicBezTo>
                  <a:pt x="6993596" y="3919954"/>
                  <a:pt x="7001937" y="3945488"/>
                  <a:pt x="7022237" y="3950563"/>
                </a:cubicBezTo>
                <a:lnTo>
                  <a:pt x="7057747" y="3959441"/>
                </a:lnTo>
                <a:cubicBezTo>
                  <a:pt x="7105099" y="4030467"/>
                  <a:pt x="7042948" y="3944641"/>
                  <a:pt x="7102136" y="4003829"/>
                </a:cubicBezTo>
                <a:cubicBezTo>
                  <a:pt x="7172313" y="4074006"/>
                  <a:pt x="7087750" y="4007985"/>
                  <a:pt x="7155402" y="4065973"/>
                </a:cubicBezTo>
                <a:cubicBezTo>
                  <a:pt x="7192255" y="4097562"/>
                  <a:pt x="7202224" y="4092891"/>
                  <a:pt x="7235301" y="4136994"/>
                </a:cubicBezTo>
                <a:cubicBezTo>
                  <a:pt x="7244179" y="4148831"/>
                  <a:pt x="7253449" y="4160383"/>
                  <a:pt x="7261934" y="4172505"/>
                </a:cubicBezTo>
                <a:cubicBezTo>
                  <a:pt x="7274171" y="4189987"/>
                  <a:pt x="7297444" y="4225771"/>
                  <a:pt x="7297444" y="4225771"/>
                </a:cubicBezTo>
                <a:cubicBezTo>
                  <a:pt x="7300403" y="4237608"/>
                  <a:pt x="7302970" y="4249549"/>
                  <a:pt x="7306322" y="4261281"/>
                </a:cubicBezTo>
                <a:cubicBezTo>
                  <a:pt x="7308893" y="4270279"/>
                  <a:pt x="7312930" y="4278835"/>
                  <a:pt x="7315200" y="4287914"/>
                </a:cubicBezTo>
                <a:cubicBezTo>
                  <a:pt x="7318860" y="4302553"/>
                  <a:pt x="7321596" y="4317419"/>
                  <a:pt x="7324077" y="4332303"/>
                </a:cubicBezTo>
                <a:cubicBezTo>
                  <a:pt x="7327517" y="4352943"/>
                  <a:pt x="7324296" y="4375397"/>
                  <a:pt x="7332955" y="4394446"/>
                </a:cubicBezTo>
                <a:cubicBezTo>
                  <a:pt x="7339882" y="4409686"/>
                  <a:pt x="7368466" y="4429957"/>
                  <a:pt x="7368466" y="4429957"/>
                </a:cubicBezTo>
                <a:cubicBezTo>
                  <a:pt x="7371425" y="4438835"/>
                  <a:pt x="7372528" y="4448566"/>
                  <a:pt x="7377343" y="4456590"/>
                </a:cubicBezTo>
                <a:cubicBezTo>
                  <a:pt x="7381649" y="4463767"/>
                  <a:pt x="7389870" y="4467809"/>
                  <a:pt x="7395099" y="4474345"/>
                </a:cubicBezTo>
                <a:cubicBezTo>
                  <a:pt x="7439906" y="4530353"/>
                  <a:pt x="7387730" y="4475853"/>
                  <a:pt x="7430609" y="4518734"/>
                </a:cubicBezTo>
                <a:cubicBezTo>
                  <a:pt x="7433568" y="4530571"/>
                  <a:pt x="7433020" y="4543898"/>
                  <a:pt x="7439487" y="4554244"/>
                </a:cubicBezTo>
                <a:cubicBezTo>
                  <a:pt x="7448359" y="4568439"/>
                  <a:pt x="7474998" y="4589755"/>
                  <a:pt x="7474998" y="4589755"/>
                </a:cubicBezTo>
                <a:cubicBezTo>
                  <a:pt x="7479504" y="4607781"/>
                  <a:pt x="7485109" y="4634064"/>
                  <a:pt x="7492753" y="4651899"/>
                </a:cubicBezTo>
                <a:cubicBezTo>
                  <a:pt x="7497966" y="4664063"/>
                  <a:pt x="7505295" y="4675245"/>
                  <a:pt x="7510508" y="4687409"/>
                </a:cubicBezTo>
                <a:cubicBezTo>
                  <a:pt x="7524711" y="4720549"/>
                  <a:pt x="7513589" y="4714224"/>
                  <a:pt x="7537141" y="4749553"/>
                </a:cubicBezTo>
                <a:cubicBezTo>
                  <a:pt x="7541784" y="4756517"/>
                  <a:pt x="7548978" y="4761390"/>
                  <a:pt x="7554897" y="4767309"/>
                </a:cubicBezTo>
                <a:cubicBezTo>
                  <a:pt x="7583226" y="4852296"/>
                  <a:pt x="7554988" y="4794051"/>
                  <a:pt x="7599285" y="4847208"/>
                </a:cubicBezTo>
                <a:cubicBezTo>
                  <a:pt x="7669130" y="4931022"/>
                  <a:pt x="7572532" y="4820396"/>
                  <a:pt x="7625918" y="4900474"/>
                </a:cubicBezTo>
                <a:cubicBezTo>
                  <a:pt x="7632882" y="4910920"/>
                  <a:pt x="7644514" y="4917462"/>
                  <a:pt x="7652551" y="4927107"/>
                </a:cubicBezTo>
                <a:cubicBezTo>
                  <a:pt x="7700661" y="4984840"/>
                  <a:pt x="7644861" y="4923171"/>
                  <a:pt x="7679184" y="4980373"/>
                </a:cubicBezTo>
                <a:cubicBezTo>
                  <a:pt x="7683490" y="4987550"/>
                  <a:pt x="7691918" y="4991432"/>
                  <a:pt x="7696940" y="4998128"/>
                </a:cubicBezTo>
                <a:cubicBezTo>
                  <a:pt x="7757170" y="5078435"/>
                  <a:pt x="7709485" y="5028431"/>
                  <a:pt x="7750206" y="5069149"/>
                </a:cubicBezTo>
                <a:cubicBezTo>
                  <a:pt x="7775606" y="5145356"/>
                  <a:pt x="7736709" y="5024041"/>
                  <a:pt x="7767961" y="5149048"/>
                </a:cubicBezTo>
                <a:cubicBezTo>
                  <a:pt x="7772500" y="5167205"/>
                  <a:pt x="7775334" y="5186742"/>
                  <a:pt x="7785716" y="5202314"/>
                </a:cubicBezTo>
                <a:lnTo>
                  <a:pt x="7803472" y="5228947"/>
                </a:lnTo>
                <a:cubicBezTo>
                  <a:pt x="7824763" y="5292824"/>
                  <a:pt x="7798924" y="5213033"/>
                  <a:pt x="7821227" y="5291091"/>
                </a:cubicBezTo>
                <a:cubicBezTo>
                  <a:pt x="7823798" y="5300089"/>
                  <a:pt x="7827146" y="5308846"/>
                  <a:pt x="7830105" y="5317724"/>
                </a:cubicBezTo>
                <a:cubicBezTo>
                  <a:pt x="7833064" y="5335479"/>
                  <a:pt x="7824774" y="5359939"/>
                  <a:pt x="7838982" y="5370990"/>
                </a:cubicBezTo>
                <a:cubicBezTo>
                  <a:pt x="7857815" y="5385638"/>
                  <a:pt x="7886531" y="5375600"/>
                  <a:pt x="7910004" y="5379868"/>
                </a:cubicBezTo>
                <a:cubicBezTo>
                  <a:pt x="7923728" y="5382363"/>
                  <a:pt x="7975678" y="5404719"/>
                  <a:pt x="7981025" y="5406501"/>
                </a:cubicBezTo>
                <a:cubicBezTo>
                  <a:pt x="7992600" y="5410359"/>
                  <a:pt x="8004849" y="5411872"/>
                  <a:pt x="8016536" y="5415378"/>
                </a:cubicBezTo>
                <a:cubicBezTo>
                  <a:pt x="8034463" y="5420756"/>
                  <a:pt x="8069802" y="5433134"/>
                  <a:pt x="8069802" y="5433134"/>
                </a:cubicBezTo>
                <a:cubicBezTo>
                  <a:pt x="8097939" y="5475340"/>
                  <a:pt x="8084182" y="5449644"/>
                  <a:pt x="8105312" y="5513033"/>
                </a:cubicBezTo>
                <a:lnTo>
                  <a:pt x="8114190" y="5539666"/>
                </a:lnTo>
                <a:cubicBezTo>
                  <a:pt x="8117149" y="5560380"/>
                  <a:pt x="8123068" y="5580884"/>
                  <a:pt x="8123068" y="5601809"/>
                </a:cubicBezTo>
                <a:cubicBezTo>
                  <a:pt x="8123068" y="5655157"/>
                  <a:pt x="8114190" y="5708260"/>
                  <a:pt x="8114190" y="5761608"/>
                </a:cubicBezTo>
                <a:cubicBezTo>
                  <a:pt x="8114190" y="5770966"/>
                  <a:pt x="8116451" y="5781624"/>
                  <a:pt x="8123068" y="5788241"/>
                </a:cubicBezTo>
                <a:cubicBezTo>
                  <a:pt x="8129685" y="5794858"/>
                  <a:pt x="8140823" y="5794159"/>
                  <a:pt x="8149701" y="5797118"/>
                </a:cubicBezTo>
                <a:cubicBezTo>
                  <a:pt x="8155619" y="5803037"/>
                  <a:pt x="8160760" y="5809852"/>
                  <a:pt x="8167456" y="5814874"/>
                </a:cubicBezTo>
                <a:cubicBezTo>
                  <a:pt x="8184527" y="5827678"/>
                  <a:pt x="8205633" y="5835295"/>
                  <a:pt x="8220722" y="5850384"/>
                </a:cubicBezTo>
                <a:cubicBezTo>
                  <a:pt x="8229600" y="5859262"/>
                  <a:pt x="8237445" y="5869309"/>
                  <a:pt x="8247355" y="5877017"/>
                </a:cubicBezTo>
                <a:cubicBezTo>
                  <a:pt x="8264199" y="5890118"/>
                  <a:pt x="8282866" y="5900691"/>
                  <a:pt x="8300621" y="5912528"/>
                </a:cubicBezTo>
                <a:cubicBezTo>
                  <a:pt x="8309499" y="5918446"/>
                  <a:pt x="8319710" y="5922738"/>
                  <a:pt x="8327254" y="5930283"/>
                </a:cubicBezTo>
                <a:cubicBezTo>
                  <a:pt x="8333172" y="5936202"/>
                  <a:pt x="8338313" y="5943017"/>
                  <a:pt x="8345009" y="5948039"/>
                </a:cubicBezTo>
                <a:cubicBezTo>
                  <a:pt x="8425321" y="6008273"/>
                  <a:pt x="8375309" y="5960583"/>
                  <a:pt x="8416031" y="6001305"/>
                </a:cubicBezTo>
                <a:cubicBezTo>
                  <a:pt x="8430327" y="6044195"/>
                  <a:pt x="8425535" y="6056287"/>
                  <a:pt x="8460419" y="6081204"/>
                </a:cubicBezTo>
                <a:cubicBezTo>
                  <a:pt x="8471188" y="6088896"/>
                  <a:pt x="8484093" y="6093041"/>
                  <a:pt x="8495930" y="6098959"/>
                </a:cubicBezTo>
                <a:cubicBezTo>
                  <a:pt x="8522564" y="6138910"/>
                  <a:pt x="8521082" y="6151484"/>
                  <a:pt x="8558073" y="6169980"/>
                </a:cubicBezTo>
                <a:cubicBezTo>
                  <a:pt x="8566443" y="6174165"/>
                  <a:pt x="8575828" y="6175899"/>
                  <a:pt x="8584706" y="6178858"/>
                </a:cubicBezTo>
                <a:cubicBezTo>
                  <a:pt x="8629691" y="6223841"/>
                  <a:pt x="8576770" y="6165629"/>
                  <a:pt x="8611340" y="6223246"/>
                </a:cubicBezTo>
                <a:cubicBezTo>
                  <a:pt x="8621673" y="6240468"/>
                  <a:pt x="8641209" y="6246658"/>
                  <a:pt x="8655728" y="6258757"/>
                </a:cubicBezTo>
                <a:cubicBezTo>
                  <a:pt x="8693690" y="6290392"/>
                  <a:pt x="8672181" y="6277105"/>
                  <a:pt x="8700116" y="6312023"/>
                </a:cubicBezTo>
                <a:cubicBezTo>
                  <a:pt x="8705345" y="6318559"/>
                  <a:pt x="8711953" y="6323860"/>
                  <a:pt x="8717872" y="6329778"/>
                </a:cubicBezTo>
                <a:cubicBezTo>
                  <a:pt x="8723790" y="6341615"/>
                  <a:pt x="8730980" y="6352898"/>
                  <a:pt x="8735627" y="6365289"/>
                </a:cubicBezTo>
                <a:cubicBezTo>
                  <a:pt x="8749101" y="6401219"/>
                  <a:pt x="8737545" y="6403357"/>
                  <a:pt x="8762260" y="6436310"/>
                </a:cubicBezTo>
                <a:cubicBezTo>
                  <a:pt x="8772304" y="6449702"/>
                  <a:pt x="8788485" y="6457892"/>
                  <a:pt x="8797771" y="6471821"/>
                </a:cubicBezTo>
                <a:cubicBezTo>
                  <a:pt x="8822519" y="6508943"/>
                  <a:pt x="8828621" y="6525642"/>
                  <a:pt x="8859914" y="6551720"/>
                </a:cubicBezTo>
                <a:cubicBezTo>
                  <a:pt x="8887594" y="6574787"/>
                  <a:pt x="8883644" y="6561407"/>
                  <a:pt x="8904303" y="6587231"/>
                </a:cubicBezTo>
                <a:cubicBezTo>
                  <a:pt x="8953748" y="6649036"/>
                  <a:pt x="8885418" y="6577224"/>
                  <a:pt x="8948691" y="6640497"/>
                </a:cubicBezTo>
                <a:cubicBezTo>
                  <a:pt x="8954609" y="6652334"/>
                  <a:pt x="8959880" y="6664518"/>
                  <a:pt x="8966446" y="6676008"/>
                </a:cubicBezTo>
                <a:cubicBezTo>
                  <a:pt x="8971740" y="6685272"/>
                  <a:pt x="8979999" y="6692834"/>
                  <a:pt x="8984202" y="6702641"/>
                </a:cubicBezTo>
                <a:cubicBezTo>
                  <a:pt x="9001274" y="6742476"/>
                  <a:pt x="8984676" y="6730222"/>
                  <a:pt x="9001957" y="6764784"/>
                </a:cubicBezTo>
                <a:cubicBezTo>
                  <a:pt x="9003829" y="6768527"/>
                  <a:pt x="9007876" y="6770703"/>
                  <a:pt x="9010835" y="6773662"/>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4" name="Text Box 4"/>
          <p:cNvSpPr/>
          <p:nvPr/>
        </p:nvSpPr>
        <p:spPr>
          <a:xfrm>
            <a:off x="357120" y="1357200"/>
            <a:ext cx="140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Obvious</a:t>
            </a:r>
            <a:endParaRPr b="0" lang="en-US" sz="2400" spc="-1" strike="noStrike">
              <a:solidFill>
                <a:srgbClr val="000000"/>
              </a:solidFill>
              <a:latin typeface="Calibri"/>
            </a:endParaRPr>
          </a:p>
        </p:txBody>
      </p:sp>
      <p:sp>
        <p:nvSpPr>
          <p:cNvPr id="855" name="Text Box 13"/>
          <p:cNvSpPr/>
          <p:nvPr/>
        </p:nvSpPr>
        <p:spPr>
          <a:xfrm>
            <a:off x="357120" y="3186000"/>
            <a:ext cx="147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Les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Obvious</a:t>
            </a:r>
            <a:endParaRPr b="0" lang="en-US" sz="2400" spc="-1" strike="noStrike">
              <a:solidFill>
                <a:srgbClr val="000000"/>
              </a:solidFill>
              <a:latin typeface="Calibri"/>
            </a:endParaRPr>
          </a:p>
        </p:txBody>
      </p:sp>
      <p:sp>
        <p:nvSpPr>
          <p:cNvPr id="856" name="Text Box 4"/>
          <p:cNvSpPr/>
          <p:nvPr/>
        </p:nvSpPr>
        <p:spPr>
          <a:xfrm>
            <a:off x="6072120" y="476280"/>
            <a:ext cx="3071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see, hear, smell &amp; touch</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licit &amp; conscious)</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18"/>
          <p:cNvSpPr/>
          <p:nvPr/>
        </p:nvSpPr>
        <p:spPr>
          <a:xfrm>
            <a:off x="0" y="2714760"/>
            <a:ext cx="9144000" cy="435744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8" name="Freeform 19"/>
          <p:cNvSpPr/>
          <p:nvPr/>
        </p:nvSpPr>
        <p:spPr>
          <a:xfrm>
            <a:off x="1428840" y="6870600"/>
            <a:ext cx="360" cy="360"/>
          </a:xfrm>
          <a:custGeom>
            <a:avLst/>
            <a:gdLst/>
            <a:ahLst/>
            <a:rect l="l" t="t" r="r" b="b"/>
            <a:pathLst>
              <a:path w="0" h="0">
                <a:moveTo>
                  <a:pt x="0" y="0"/>
                </a:moveTo>
                <a:lnTo>
                  <a:pt x="0" y="0"/>
                </a:lnTo>
              </a:path>
            </a:pathLst>
          </a:custGeom>
          <a:noFill/>
          <a:ln w="6480">
            <a:solidFill>
              <a:srgbClr val="4472c4"/>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grpSp>
        <p:nvGrpSpPr>
          <p:cNvPr id="859" name="Group 47"/>
          <p:cNvGrpSpPr/>
          <p:nvPr/>
        </p:nvGrpSpPr>
        <p:grpSpPr>
          <a:xfrm>
            <a:off x="0" y="2643120"/>
            <a:ext cx="9144000" cy="142920"/>
            <a:chOff x="0" y="2643120"/>
            <a:chExt cx="9144000" cy="142920"/>
          </a:xfrm>
        </p:grpSpPr>
        <p:grpSp>
          <p:nvGrpSpPr>
            <p:cNvPr id="860" name="Group 48"/>
            <p:cNvGrpSpPr/>
            <p:nvPr/>
          </p:nvGrpSpPr>
          <p:grpSpPr>
            <a:xfrm>
              <a:off x="0" y="2643120"/>
              <a:ext cx="4245120" cy="142920"/>
              <a:chOff x="0" y="2643120"/>
              <a:chExt cx="4245120" cy="142920"/>
            </a:xfrm>
          </p:grpSpPr>
          <p:grpSp>
            <p:nvGrpSpPr>
              <p:cNvPr id="861" name="Group 49"/>
              <p:cNvGrpSpPr/>
              <p:nvPr/>
            </p:nvGrpSpPr>
            <p:grpSpPr>
              <a:xfrm>
                <a:off x="0" y="2643120"/>
                <a:ext cx="978840" cy="142920"/>
                <a:chOff x="0" y="2643120"/>
                <a:chExt cx="978840" cy="142920"/>
              </a:xfrm>
            </p:grpSpPr>
            <p:sp>
              <p:nvSpPr>
                <p:cNvPr id="862" name="Freeform 50"/>
                <p:cNvSpPr/>
                <p:nvPr/>
              </p:nvSpPr>
              <p:spPr>
                <a:xfrm>
                  <a:off x="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3" name="Freeform 51"/>
                <p:cNvSpPr/>
                <p:nvPr/>
              </p:nvSpPr>
              <p:spPr>
                <a:xfrm flipH="1">
                  <a:off x="48996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4" name="Group 52"/>
              <p:cNvGrpSpPr/>
              <p:nvPr/>
            </p:nvGrpSpPr>
            <p:grpSpPr>
              <a:xfrm>
                <a:off x="816480" y="2643120"/>
                <a:ext cx="978840" cy="142920"/>
                <a:chOff x="816480" y="2643120"/>
                <a:chExt cx="978840" cy="142920"/>
              </a:xfrm>
            </p:grpSpPr>
            <p:sp>
              <p:nvSpPr>
                <p:cNvPr id="865" name="Freeform 53"/>
                <p:cNvSpPr/>
                <p:nvPr/>
              </p:nvSpPr>
              <p:spPr>
                <a:xfrm>
                  <a:off x="8164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Freeform 54"/>
                <p:cNvSpPr/>
                <p:nvPr/>
              </p:nvSpPr>
              <p:spPr>
                <a:xfrm flipH="1">
                  <a:off x="13064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7" name="Group 55"/>
              <p:cNvGrpSpPr/>
              <p:nvPr/>
            </p:nvGrpSpPr>
            <p:grpSpPr>
              <a:xfrm>
                <a:off x="1632960" y="2643120"/>
                <a:ext cx="978840" cy="142920"/>
                <a:chOff x="1632960" y="2643120"/>
                <a:chExt cx="978840" cy="142920"/>
              </a:xfrm>
            </p:grpSpPr>
            <p:sp>
              <p:nvSpPr>
                <p:cNvPr id="868" name="Freeform 56"/>
                <p:cNvSpPr/>
                <p:nvPr/>
              </p:nvSpPr>
              <p:spPr>
                <a:xfrm>
                  <a:off x="163296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9" name="Freeform 57"/>
                <p:cNvSpPr/>
                <p:nvPr/>
              </p:nvSpPr>
              <p:spPr>
                <a:xfrm flipH="1">
                  <a:off x="212292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0" name="Group 58"/>
              <p:cNvGrpSpPr/>
              <p:nvPr/>
            </p:nvGrpSpPr>
            <p:grpSpPr>
              <a:xfrm>
                <a:off x="2449440" y="2643120"/>
                <a:ext cx="978840" cy="142920"/>
                <a:chOff x="2449440" y="2643120"/>
                <a:chExt cx="978840" cy="142920"/>
              </a:xfrm>
            </p:grpSpPr>
            <p:sp>
              <p:nvSpPr>
                <p:cNvPr id="871" name="Freeform 59"/>
                <p:cNvSpPr/>
                <p:nvPr/>
              </p:nvSpPr>
              <p:spPr>
                <a:xfrm>
                  <a:off x="244944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2" name="Freeform 60"/>
                <p:cNvSpPr/>
                <p:nvPr/>
              </p:nvSpPr>
              <p:spPr>
                <a:xfrm flipH="1">
                  <a:off x="293940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3" name="Group 61"/>
              <p:cNvGrpSpPr/>
              <p:nvPr/>
            </p:nvGrpSpPr>
            <p:grpSpPr>
              <a:xfrm>
                <a:off x="3266280" y="2643120"/>
                <a:ext cx="978840" cy="142920"/>
                <a:chOff x="3266280" y="2643120"/>
                <a:chExt cx="978840" cy="142920"/>
              </a:xfrm>
            </p:grpSpPr>
            <p:sp>
              <p:nvSpPr>
                <p:cNvPr id="874" name="Freeform 62"/>
                <p:cNvSpPr/>
                <p:nvPr/>
              </p:nvSpPr>
              <p:spPr>
                <a:xfrm>
                  <a:off x="32662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Freeform 63"/>
                <p:cNvSpPr/>
                <p:nvPr/>
              </p:nvSpPr>
              <p:spPr>
                <a:xfrm flipH="1">
                  <a:off x="37562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876" name="Group 64"/>
            <p:cNvGrpSpPr/>
            <p:nvPr/>
          </p:nvGrpSpPr>
          <p:grpSpPr>
            <a:xfrm>
              <a:off x="4082400" y="2643120"/>
              <a:ext cx="978840" cy="142920"/>
              <a:chOff x="4082400" y="2643120"/>
              <a:chExt cx="978840" cy="142920"/>
            </a:xfrm>
          </p:grpSpPr>
          <p:sp>
            <p:nvSpPr>
              <p:cNvPr id="877" name="Freeform 65"/>
              <p:cNvSpPr/>
              <p:nvPr/>
            </p:nvSpPr>
            <p:spPr>
              <a:xfrm>
                <a:off x="408240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8" name="Freeform 66"/>
              <p:cNvSpPr/>
              <p:nvPr/>
            </p:nvSpPr>
            <p:spPr>
              <a:xfrm flipH="1">
                <a:off x="457236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9" name="Group 67"/>
            <p:cNvGrpSpPr/>
            <p:nvPr/>
          </p:nvGrpSpPr>
          <p:grpSpPr>
            <a:xfrm>
              <a:off x="4898880" y="2643120"/>
              <a:ext cx="978840" cy="142920"/>
              <a:chOff x="4898880" y="2643120"/>
              <a:chExt cx="978840" cy="142920"/>
            </a:xfrm>
          </p:grpSpPr>
          <p:sp>
            <p:nvSpPr>
              <p:cNvPr id="880" name="Freeform 68"/>
              <p:cNvSpPr/>
              <p:nvPr/>
            </p:nvSpPr>
            <p:spPr>
              <a:xfrm>
                <a:off x="48988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Freeform 69"/>
              <p:cNvSpPr/>
              <p:nvPr/>
            </p:nvSpPr>
            <p:spPr>
              <a:xfrm flipH="1">
                <a:off x="53888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82" name="Group 70"/>
            <p:cNvGrpSpPr/>
            <p:nvPr/>
          </p:nvGrpSpPr>
          <p:grpSpPr>
            <a:xfrm>
              <a:off x="5715720" y="2643120"/>
              <a:ext cx="978840" cy="142920"/>
              <a:chOff x="5715720" y="2643120"/>
              <a:chExt cx="978840" cy="142920"/>
            </a:xfrm>
          </p:grpSpPr>
          <p:sp>
            <p:nvSpPr>
              <p:cNvPr id="883" name="Freeform 71"/>
              <p:cNvSpPr/>
              <p:nvPr/>
            </p:nvSpPr>
            <p:spPr>
              <a:xfrm>
                <a:off x="571572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4" name="Freeform 72"/>
              <p:cNvSpPr/>
              <p:nvPr/>
            </p:nvSpPr>
            <p:spPr>
              <a:xfrm flipH="1">
                <a:off x="620568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85" name="Group 73"/>
            <p:cNvGrpSpPr/>
            <p:nvPr/>
          </p:nvGrpSpPr>
          <p:grpSpPr>
            <a:xfrm>
              <a:off x="6532200" y="2643120"/>
              <a:ext cx="978840" cy="142920"/>
              <a:chOff x="6532200" y="2643120"/>
              <a:chExt cx="978840" cy="142920"/>
            </a:xfrm>
          </p:grpSpPr>
          <p:sp>
            <p:nvSpPr>
              <p:cNvPr id="886" name="Freeform 74"/>
              <p:cNvSpPr/>
              <p:nvPr/>
            </p:nvSpPr>
            <p:spPr>
              <a:xfrm>
                <a:off x="653220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7" name="Freeform 75"/>
              <p:cNvSpPr/>
              <p:nvPr/>
            </p:nvSpPr>
            <p:spPr>
              <a:xfrm flipH="1">
                <a:off x="702216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88" name="Group 76"/>
            <p:cNvGrpSpPr/>
            <p:nvPr/>
          </p:nvGrpSpPr>
          <p:grpSpPr>
            <a:xfrm>
              <a:off x="7348680" y="2643120"/>
              <a:ext cx="978840" cy="142920"/>
              <a:chOff x="7348680" y="2643120"/>
              <a:chExt cx="978840" cy="142920"/>
            </a:xfrm>
          </p:grpSpPr>
          <p:sp>
            <p:nvSpPr>
              <p:cNvPr id="889" name="Freeform 77"/>
              <p:cNvSpPr/>
              <p:nvPr/>
            </p:nvSpPr>
            <p:spPr>
              <a:xfrm>
                <a:off x="73486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Freeform 78"/>
              <p:cNvSpPr/>
              <p:nvPr/>
            </p:nvSpPr>
            <p:spPr>
              <a:xfrm flipH="1">
                <a:off x="78386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1" name="Group 79"/>
            <p:cNvGrpSpPr/>
            <p:nvPr/>
          </p:nvGrpSpPr>
          <p:grpSpPr>
            <a:xfrm>
              <a:off x="8165160" y="2643120"/>
              <a:ext cx="978840" cy="142920"/>
              <a:chOff x="8165160" y="2643120"/>
              <a:chExt cx="978840" cy="142920"/>
            </a:xfrm>
          </p:grpSpPr>
          <p:sp>
            <p:nvSpPr>
              <p:cNvPr id="892" name="Freeform 80"/>
              <p:cNvSpPr/>
              <p:nvPr/>
            </p:nvSpPr>
            <p:spPr>
              <a:xfrm>
                <a:off x="816516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Freeform 81"/>
              <p:cNvSpPr/>
              <p:nvPr/>
            </p:nvSpPr>
            <p:spPr>
              <a:xfrm flipH="1">
                <a:off x="865512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94" name="Text Box 7"/>
          <p:cNvSpPr/>
          <p:nvPr/>
        </p:nvSpPr>
        <p:spPr>
          <a:xfrm>
            <a:off x="2428920" y="365040"/>
            <a:ext cx="37861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ea typeface="Arial"/>
              </a:rPr>
              <a:t>Race, Ethnicity</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ea typeface="Arial"/>
              </a:rPr>
              <a:t>Language, Dialect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ea typeface="Arial"/>
              </a:rPr>
              <a:t>Hair, Skin &amp; Eye Colour</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ea typeface="Arial"/>
              </a:rPr>
              <a:t>Sex, Age, Size, Physical Ability</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ea typeface="Arial"/>
              </a:rPr>
              <a:t>Clothing, Uniforms, Job Title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ea typeface="Arial"/>
              </a:rPr>
              <a:t>Food, Art, Dance, Music, Stories</a:t>
            </a:r>
            <a:endParaRPr b="0" lang="en-US" sz="1600" spc="-1" strike="noStrike">
              <a:solidFill>
                <a:srgbClr val="000000"/>
              </a:solidFill>
              <a:latin typeface="Calibri"/>
            </a:endParaRPr>
          </a:p>
        </p:txBody>
      </p:sp>
      <p:sp>
        <p:nvSpPr>
          <p:cNvPr id="895" name="Freeform 50"/>
          <p:cNvSpPr/>
          <p:nvPr/>
        </p:nvSpPr>
        <p:spPr>
          <a:xfrm>
            <a:off x="-571680" y="142920"/>
            <a:ext cx="9929880" cy="6932520"/>
          </a:xfrm>
          <a:custGeom>
            <a:avLst/>
            <a:gdLst>
              <a:gd name="textAreaLeft" fmla="*/ 0 w 9929880"/>
              <a:gd name="textAreaRight" fmla="*/ 9930240 w 9929880"/>
              <a:gd name="textAreaTop" fmla="*/ 0 h 6932520"/>
              <a:gd name="textAreaBottom" fmla="*/ 6932880 h 6932520"/>
            </a:gdLst>
            <a:ahLst/>
            <a:rect l="textAreaLeft" t="textAreaTop" r="textAreaRight" b="textAreaBottom"/>
            <a:pathLst>
              <a:path w="9010835" h="6773662">
                <a:moveTo>
                  <a:pt x="0" y="6631619"/>
                </a:moveTo>
                <a:cubicBezTo>
                  <a:pt x="8878" y="6637538"/>
                  <a:pt x="16413" y="6646309"/>
                  <a:pt x="26633" y="6649375"/>
                </a:cubicBezTo>
                <a:cubicBezTo>
                  <a:pt x="83142" y="6666328"/>
                  <a:pt x="127283" y="6654752"/>
                  <a:pt x="186431" y="6649375"/>
                </a:cubicBezTo>
                <a:cubicBezTo>
                  <a:pt x="204186" y="6637538"/>
                  <a:pt x="232949" y="6634108"/>
                  <a:pt x="239697" y="6613864"/>
                </a:cubicBezTo>
                <a:cubicBezTo>
                  <a:pt x="245615" y="6596109"/>
                  <a:pt x="244218" y="6573832"/>
                  <a:pt x="257452" y="6560598"/>
                </a:cubicBezTo>
                <a:cubicBezTo>
                  <a:pt x="294204" y="6523846"/>
                  <a:pt x="291070" y="6530328"/>
                  <a:pt x="319596" y="6489576"/>
                </a:cubicBezTo>
                <a:cubicBezTo>
                  <a:pt x="331833" y="6472094"/>
                  <a:pt x="340017" y="6451399"/>
                  <a:pt x="355106" y="6436310"/>
                </a:cubicBezTo>
                <a:cubicBezTo>
                  <a:pt x="401226" y="6390193"/>
                  <a:pt x="336196" y="6456894"/>
                  <a:pt x="399495" y="6383044"/>
                </a:cubicBezTo>
                <a:cubicBezTo>
                  <a:pt x="407666" y="6373512"/>
                  <a:pt x="417957" y="6365943"/>
                  <a:pt x="426128" y="6356411"/>
                </a:cubicBezTo>
                <a:cubicBezTo>
                  <a:pt x="435757" y="6345177"/>
                  <a:pt x="442931" y="6331960"/>
                  <a:pt x="452761" y="6320901"/>
                </a:cubicBezTo>
                <a:cubicBezTo>
                  <a:pt x="466663" y="6305261"/>
                  <a:pt x="479738" y="6288119"/>
                  <a:pt x="497149" y="6276512"/>
                </a:cubicBezTo>
                <a:cubicBezTo>
                  <a:pt x="514904" y="6264675"/>
                  <a:pt x="535326" y="6256091"/>
                  <a:pt x="550415" y="6241002"/>
                </a:cubicBezTo>
                <a:cubicBezTo>
                  <a:pt x="657298" y="6134119"/>
                  <a:pt x="504813" y="6283122"/>
                  <a:pt x="603681" y="6196613"/>
                </a:cubicBezTo>
                <a:cubicBezTo>
                  <a:pt x="645230" y="6160258"/>
                  <a:pt x="641758" y="6161693"/>
                  <a:pt x="665825" y="6125592"/>
                </a:cubicBezTo>
                <a:cubicBezTo>
                  <a:pt x="662866" y="6087122"/>
                  <a:pt x="656947" y="6048766"/>
                  <a:pt x="656947" y="6010182"/>
                </a:cubicBezTo>
                <a:cubicBezTo>
                  <a:pt x="656947" y="5933185"/>
                  <a:pt x="660527" y="5856177"/>
                  <a:pt x="665825" y="5779363"/>
                </a:cubicBezTo>
                <a:cubicBezTo>
                  <a:pt x="666469" y="5770027"/>
                  <a:pt x="670158" y="5760910"/>
                  <a:pt x="674703" y="5752730"/>
                </a:cubicBezTo>
                <a:cubicBezTo>
                  <a:pt x="686068" y="5732273"/>
                  <a:pt x="706415" y="5698952"/>
                  <a:pt x="727969" y="5681709"/>
                </a:cubicBezTo>
                <a:cubicBezTo>
                  <a:pt x="736301" y="5675044"/>
                  <a:pt x="746627" y="5671042"/>
                  <a:pt x="754602" y="5663953"/>
                </a:cubicBezTo>
                <a:cubicBezTo>
                  <a:pt x="845813" y="5582876"/>
                  <a:pt x="774058" y="5633227"/>
                  <a:pt x="834501" y="5592932"/>
                </a:cubicBezTo>
                <a:cubicBezTo>
                  <a:pt x="847683" y="5573159"/>
                  <a:pt x="851941" y="5562999"/>
                  <a:pt x="870011" y="5548543"/>
                </a:cubicBezTo>
                <a:cubicBezTo>
                  <a:pt x="878342" y="5541878"/>
                  <a:pt x="887766" y="5536706"/>
                  <a:pt x="896644" y="5530788"/>
                </a:cubicBezTo>
                <a:cubicBezTo>
                  <a:pt x="902563" y="5521910"/>
                  <a:pt x="906855" y="5511700"/>
                  <a:pt x="914400" y="5504155"/>
                </a:cubicBezTo>
                <a:cubicBezTo>
                  <a:pt x="921945" y="5496611"/>
                  <a:pt x="932702" y="5493065"/>
                  <a:pt x="941033" y="5486400"/>
                </a:cubicBezTo>
                <a:cubicBezTo>
                  <a:pt x="947569" y="5481171"/>
                  <a:pt x="952870" y="5474563"/>
                  <a:pt x="958788" y="5468644"/>
                </a:cubicBezTo>
                <a:cubicBezTo>
                  <a:pt x="977388" y="5394248"/>
                  <a:pt x="953762" y="5462867"/>
                  <a:pt x="985421" y="5415378"/>
                </a:cubicBezTo>
                <a:cubicBezTo>
                  <a:pt x="992762" y="5404367"/>
                  <a:pt x="997963" y="5392032"/>
                  <a:pt x="1003176" y="5379868"/>
                </a:cubicBezTo>
                <a:cubicBezTo>
                  <a:pt x="1006862" y="5371267"/>
                  <a:pt x="1007239" y="5361259"/>
                  <a:pt x="1012054" y="5353235"/>
                </a:cubicBezTo>
                <a:cubicBezTo>
                  <a:pt x="1016360" y="5346058"/>
                  <a:pt x="1023891" y="5341398"/>
                  <a:pt x="1029809" y="5335479"/>
                </a:cubicBezTo>
                <a:cubicBezTo>
                  <a:pt x="1032768" y="5326601"/>
                  <a:pt x="1032841" y="5316153"/>
                  <a:pt x="1038687" y="5308846"/>
                </a:cubicBezTo>
                <a:cubicBezTo>
                  <a:pt x="1045352" y="5300515"/>
                  <a:pt x="1056056" y="5296384"/>
                  <a:pt x="1065320" y="5291091"/>
                </a:cubicBezTo>
                <a:cubicBezTo>
                  <a:pt x="1076810" y="5284525"/>
                  <a:pt x="1088543" y="5278251"/>
                  <a:pt x="1100831" y="5273336"/>
                </a:cubicBezTo>
                <a:cubicBezTo>
                  <a:pt x="1118208" y="5266385"/>
                  <a:pt x="1137357" y="5263950"/>
                  <a:pt x="1154097" y="5255580"/>
                </a:cubicBezTo>
                <a:cubicBezTo>
                  <a:pt x="1197977" y="5233640"/>
                  <a:pt x="1177052" y="5242010"/>
                  <a:pt x="1216240" y="5228947"/>
                </a:cubicBezTo>
                <a:cubicBezTo>
                  <a:pt x="1237274" y="5207914"/>
                  <a:pt x="1259466" y="5188045"/>
                  <a:pt x="1269506" y="5157926"/>
                </a:cubicBezTo>
                <a:cubicBezTo>
                  <a:pt x="1272465" y="5149048"/>
                  <a:pt x="1275813" y="5140291"/>
                  <a:pt x="1278384" y="5131293"/>
                </a:cubicBezTo>
                <a:cubicBezTo>
                  <a:pt x="1281736" y="5119561"/>
                  <a:pt x="1282456" y="5106997"/>
                  <a:pt x="1287262" y="5095782"/>
                </a:cubicBezTo>
                <a:cubicBezTo>
                  <a:pt x="1291465" y="5085975"/>
                  <a:pt x="1300245" y="5078692"/>
                  <a:pt x="1305017" y="5069149"/>
                </a:cubicBezTo>
                <a:cubicBezTo>
                  <a:pt x="1309202" y="5060779"/>
                  <a:pt x="1309710" y="5050886"/>
                  <a:pt x="1313895" y="5042516"/>
                </a:cubicBezTo>
                <a:cubicBezTo>
                  <a:pt x="1318667" y="5032973"/>
                  <a:pt x="1326878" y="5025426"/>
                  <a:pt x="1331650" y="5015883"/>
                </a:cubicBezTo>
                <a:cubicBezTo>
                  <a:pt x="1353527" y="4972130"/>
                  <a:pt x="1324364" y="5005015"/>
                  <a:pt x="1358283" y="4962617"/>
                </a:cubicBezTo>
                <a:cubicBezTo>
                  <a:pt x="1380306" y="4935089"/>
                  <a:pt x="1375575" y="4954667"/>
                  <a:pt x="1393794" y="4918229"/>
                </a:cubicBezTo>
                <a:cubicBezTo>
                  <a:pt x="1397979" y="4909859"/>
                  <a:pt x="1398487" y="4899966"/>
                  <a:pt x="1402672" y="4891596"/>
                </a:cubicBezTo>
                <a:cubicBezTo>
                  <a:pt x="1407444" y="4882053"/>
                  <a:pt x="1415655" y="4874506"/>
                  <a:pt x="1420427" y="4864963"/>
                </a:cubicBezTo>
                <a:cubicBezTo>
                  <a:pt x="1424612" y="4856593"/>
                  <a:pt x="1425619" y="4846931"/>
                  <a:pt x="1429305" y="4838330"/>
                </a:cubicBezTo>
                <a:cubicBezTo>
                  <a:pt x="1434518" y="4826166"/>
                  <a:pt x="1441847" y="4814983"/>
                  <a:pt x="1447060" y="4802819"/>
                </a:cubicBezTo>
                <a:cubicBezTo>
                  <a:pt x="1450746" y="4794218"/>
                  <a:pt x="1451753" y="4784556"/>
                  <a:pt x="1455938" y="4776186"/>
                </a:cubicBezTo>
                <a:cubicBezTo>
                  <a:pt x="1460710" y="4766643"/>
                  <a:pt x="1468921" y="4759096"/>
                  <a:pt x="1473693" y="4749553"/>
                </a:cubicBezTo>
                <a:cubicBezTo>
                  <a:pt x="1477878" y="4741183"/>
                  <a:pt x="1480000" y="4731918"/>
                  <a:pt x="1482571" y="4722920"/>
                </a:cubicBezTo>
                <a:cubicBezTo>
                  <a:pt x="1485923" y="4711188"/>
                  <a:pt x="1485991" y="4698322"/>
                  <a:pt x="1491448" y="4687409"/>
                </a:cubicBezTo>
                <a:cubicBezTo>
                  <a:pt x="1495191" y="4679923"/>
                  <a:pt x="1503975" y="4676190"/>
                  <a:pt x="1509204" y="4669654"/>
                </a:cubicBezTo>
                <a:cubicBezTo>
                  <a:pt x="1565165" y="4599705"/>
                  <a:pt x="1485794" y="4683378"/>
                  <a:pt x="1553592" y="4625266"/>
                </a:cubicBezTo>
                <a:cubicBezTo>
                  <a:pt x="1566302" y="4614372"/>
                  <a:pt x="1577266" y="4601592"/>
                  <a:pt x="1589103" y="4589755"/>
                </a:cubicBezTo>
                <a:lnTo>
                  <a:pt x="1642369" y="4536489"/>
                </a:lnTo>
                <a:cubicBezTo>
                  <a:pt x="1651247" y="4527611"/>
                  <a:pt x="1658556" y="4516820"/>
                  <a:pt x="1669002" y="4509856"/>
                </a:cubicBezTo>
                <a:cubicBezTo>
                  <a:pt x="1677880" y="4503938"/>
                  <a:pt x="1687605" y="4499127"/>
                  <a:pt x="1695635" y="4492101"/>
                </a:cubicBezTo>
                <a:cubicBezTo>
                  <a:pt x="1711383" y="4478322"/>
                  <a:pt x="1740023" y="4447712"/>
                  <a:pt x="1740023" y="4447712"/>
                </a:cubicBezTo>
                <a:cubicBezTo>
                  <a:pt x="1742982" y="4438834"/>
                  <a:pt x="1748901" y="4430437"/>
                  <a:pt x="1748901" y="4421079"/>
                </a:cubicBezTo>
                <a:cubicBezTo>
                  <a:pt x="1748901" y="4417209"/>
                  <a:pt x="1735331" y="4365913"/>
                  <a:pt x="1731145" y="4358936"/>
                </a:cubicBezTo>
                <a:cubicBezTo>
                  <a:pt x="1726839" y="4351759"/>
                  <a:pt x="1719308" y="4347099"/>
                  <a:pt x="1713390" y="4341180"/>
                </a:cubicBezTo>
                <a:cubicBezTo>
                  <a:pt x="1679704" y="4240120"/>
                  <a:pt x="1689016" y="4289697"/>
                  <a:pt x="1704512" y="4119239"/>
                </a:cubicBezTo>
                <a:cubicBezTo>
                  <a:pt x="1705958" y="4103331"/>
                  <a:pt x="1715788" y="4082529"/>
                  <a:pt x="1731145" y="4074850"/>
                </a:cubicBezTo>
                <a:cubicBezTo>
                  <a:pt x="1770138" y="4055353"/>
                  <a:pt x="1804035" y="4054291"/>
                  <a:pt x="1846555" y="4048217"/>
                </a:cubicBezTo>
                <a:cubicBezTo>
                  <a:pt x="1855433" y="4045258"/>
                  <a:pt x="1865008" y="4043885"/>
                  <a:pt x="1873188" y="4039340"/>
                </a:cubicBezTo>
                <a:cubicBezTo>
                  <a:pt x="1891842" y="4028977"/>
                  <a:pt x="1908699" y="4015666"/>
                  <a:pt x="1926454" y="4003829"/>
                </a:cubicBezTo>
                <a:lnTo>
                  <a:pt x="1953087" y="3986074"/>
                </a:lnTo>
                <a:cubicBezTo>
                  <a:pt x="1961965" y="3980155"/>
                  <a:pt x="1969598" y="3971692"/>
                  <a:pt x="1979720" y="3968318"/>
                </a:cubicBezTo>
                <a:lnTo>
                  <a:pt x="2006353" y="3959441"/>
                </a:lnTo>
                <a:cubicBezTo>
                  <a:pt x="2041363" y="3924429"/>
                  <a:pt x="2022078" y="3949805"/>
                  <a:pt x="2041864" y="3870664"/>
                </a:cubicBezTo>
                <a:cubicBezTo>
                  <a:pt x="2047782" y="3861786"/>
                  <a:pt x="2054847" y="3853574"/>
                  <a:pt x="2059619" y="3844031"/>
                </a:cubicBezTo>
                <a:cubicBezTo>
                  <a:pt x="2078937" y="3805395"/>
                  <a:pt x="2055467" y="3824987"/>
                  <a:pt x="2086252" y="3781887"/>
                </a:cubicBezTo>
                <a:cubicBezTo>
                  <a:pt x="2118978" y="3736071"/>
                  <a:pt x="2107155" y="3775592"/>
                  <a:pt x="2130640" y="3728621"/>
                </a:cubicBezTo>
                <a:cubicBezTo>
                  <a:pt x="2134825" y="3720251"/>
                  <a:pt x="2133672" y="3709295"/>
                  <a:pt x="2139518" y="3701988"/>
                </a:cubicBezTo>
                <a:cubicBezTo>
                  <a:pt x="2158435" y="3678342"/>
                  <a:pt x="2169626" y="3688221"/>
                  <a:pt x="2192784" y="3675355"/>
                </a:cubicBezTo>
                <a:cubicBezTo>
                  <a:pt x="2211438" y="3664992"/>
                  <a:pt x="2230961" y="3654933"/>
                  <a:pt x="2246050" y="3639844"/>
                </a:cubicBezTo>
                <a:lnTo>
                  <a:pt x="2317072" y="3568823"/>
                </a:lnTo>
                <a:lnTo>
                  <a:pt x="2343705" y="3542190"/>
                </a:lnTo>
                <a:cubicBezTo>
                  <a:pt x="2352583" y="3533312"/>
                  <a:pt x="2359892" y="3522521"/>
                  <a:pt x="2370338" y="3515557"/>
                </a:cubicBezTo>
                <a:lnTo>
                  <a:pt x="2396971" y="3497802"/>
                </a:lnTo>
                <a:cubicBezTo>
                  <a:pt x="2405431" y="3472421"/>
                  <a:pt x="2409153" y="3463522"/>
                  <a:pt x="2414726" y="3435658"/>
                </a:cubicBezTo>
                <a:cubicBezTo>
                  <a:pt x="2418256" y="3418007"/>
                  <a:pt x="2419699" y="3399964"/>
                  <a:pt x="2423604" y="3382392"/>
                </a:cubicBezTo>
                <a:cubicBezTo>
                  <a:pt x="2425634" y="3373257"/>
                  <a:pt x="2430019" y="3364787"/>
                  <a:pt x="2432481" y="3355759"/>
                </a:cubicBezTo>
                <a:cubicBezTo>
                  <a:pt x="2438902" y="3332217"/>
                  <a:pt x="2442521" y="3307888"/>
                  <a:pt x="2450237" y="3284738"/>
                </a:cubicBezTo>
                <a:cubicBezTo>
                  <a:pt x="2471528" y="3220861"/>
                  <a:pt x="2445689" y="3300652"/>
                  <a:pt x="2467992" y="3222594"/>
                </a:cubicBezTo>
                <a:cubicBezTo>
                  <a:pt x="2486190" y="3158902"/>
                  <a:pt x="2467701" y="3241811"/>
                  <a:pt x="2485747" y="3151573"/>
                </a:cubicBezTo>
                <a:cubicBezTo>
                  <a:pt x="2482788" y="3139736"/>
                  <a:pt x="2480222" y="3127794"/>
                  <a:pt x="2476870" y="3116062"/>
                </a:cubicBezTo>
                <a:cubicBezTo>
                  <a:pt x="2474299" y="3107064"/>
                  <a:pt x="2467992" y="3098787"/>
                  <a:pt x="2467992" y="3089429"/>
                </a:cubicBezTo>
                <a:cubicBezTo>
                  <a:pt x="2467992" y="3073077"/>
                  <a:pt x="2474816" y="3022515"/>
                  <a:pt x="2485747" y="3000652"/>
                </a:cubicBezTo>
                <a:cubicBezTo>
                  <a:pt x="2517779" y="2936588"/>
                  <a:pt x="2490130" y="3016331"/>
                  <a:pt x="2521258" y="2938509"/>
                </a:cubicBezTo>
                <a:cubicBezTo>
                  <a:pt x="2528209" y="2921132"/>
                  <a:pt x="2533095" y="2902998"/>
                  <a:pt x="2539013" y="2885242"/>
                </a:cubicBezTo>
                <a:cubicBezTo>
                  <a:pt x="2541972" y="2876364"/>
                  <a:pt x="2545621" y="2867687"/>
                  <a:pt x="2547891" y="2858609"/>
                </a:cubicBezTo>
                <a:cubicBezTo>
                  <a:pt x="2550850" y="2846772"/>
                  <a:pt x="2551963" y="2834313"/>
                  <a:pt x="2556769" y="2823099"/>
                </a:cubicBezTo>
                <a:cubicBezTo>
                  <a:pt x="2560972" y="2813292"/>
                  <a:pt x="2569752" y="2806009"/>
                  <a:pt x="2574524" y="2796466"/>
                </a:cubicBezTo>
                <a:cubicBezTo>
                  <a:pt x="2578709" y="2788096"/>
                  <a:pt x="2579217" y="2778203"/>
                  <a:pt x="2583402" y="2769833"/>
                </a:cubicBezTo>
                <a:cubicBezTo>
                  <a:pt x="2588174" y="2760290"/>
                  <a:pt x="2596824" y="2752950"/>
                  <a:pt x="2601157" y="2743200"/>
                </a:cubicBezTo>
                <a:cubicBezTo>
                  <a:pt x="2643413" y="2648123"/>
                  <a:pt x="2596486" y="2723572"/>
                  <a:pt x="2636668" y="2663301"/>
                </a:cubicBezTo>
                <a:cubicBezTo>
                  <a:pt x="2650085" y="2609627"/>
                  <a:pt x="2641684" y="2639375"/>
                  <a:pt x="2663301" y="2574524"/>
                </a:cubicBezTo>
                <a:lnTo>
                  <a:pt x="2672178" y="2547891"/>
                </a:lnTo>
                <a:cubicBezTo>
                  <a:pt x="2669219" y="2497584"/>
                  <a:pt x="2668315" y="2447115"/>
                  <a:pt x="2663301" y="2396971"/>
                </a:cubicBezTo>
                <a:cubicBezTo>
                  <a:pt x="2662370" y="2387660"/>
                  <a:pt x="2654423" y="2379696"/>
                  <a:pt x="2654423" y="2370338"/>
                </a:cubicBezTo>
                <a:cubicBezTo>
                  <a:pt x="2654423" y="2337065"/>
                  <a:pt x="2662735" y="2274945"/>
                  <a:pt x="2672178" y="2237173"/>
                </a:cubicBezTo>
                <a:cubicBezTo>
                  <a:pt x="2674448" y="2228094"/>
                  <a:pt x="2678786" y="2219618"/>
                  <a:pt x="2681056" y="2210540"/>
                </a:cubicBezTo>
                <a:cubicBezTo>
                  <a:pt x="2695142" y="2154199"/>
                  <a:pt x="2685592" y="2161422"/>
                  <a:pt x="2707689" y="2095130"/>
                </a:cubicBezTo>
                <a:lnTo>
                  <a:pt x="2725444" y="2041864"/>
                </a:lnTo>
                <a:cubicBezTo>
                  <a:pt x="2728403" y="2032986"/>
                  <a:pt x="2730137" y="2023601"/>
                  <a:pt x="2734322" y="2015231"/>
                </a:cubicBezTo>
                <a:cubicBezTo>
                  <a:pt x="2740240" y="2003394"/>
                  <a:pt x="2747162" y="1992008"/>
                  <a:pt x="2752077" y="1979720"/>
                </a:cubicBezTo>
                <a:cubicBezTo>
                  <a:pt x="2759028" y="1962343"/>
                  <a:pt x="2763915" y="1944209"/>
                  <a:pt x="2769833" y="1926454"/>
                </a:cubicBezTo>
                <a:cubicBezTo>
                  <a:pt x="2772792" y="1917576"/>
                  <a:pt x="2774525" y="1908191"/>
                  <a:pt x="2778710" y="1899821"/>
                </a:cubicBezTo>
                <a:cubicBezTo>
                  <a:pt x="2784629" y="1887984"/>
                  <a:pt x="2791551" y="1876598"/>
                  <a:pt x="2796466" y="1864310"/>
                </a:cubicBezTo>
                <a:cubicBezTo>
                  <a:pt x="2803417" y="1846933"/>
                  <a:pt x="2808303" y="1828799"/>
                  <a:pt x="2814221" y="1811044"/>
                </a:cubicBezTo>
                <a:cubicBezTo>
                  <a:pt x="2817180" y="1802166"/>
                  <a:pt x="2820829" y="1793490"/>
                  <a:pt x="2823099" y="1784411"/>
                </a:cubicBezTo>
                <a:cubicBezTo>
                  <a:pt x="2826058" y="1772574"/>
                  <a:pt x="2827170" y="1760115"/>
                  <a:pt x="2831976" y="1748901"/>
                </a:cubicBezTo>
                <a:cubicBezTo>
                  <a:pt x="2836179" y="1739094"/>
                  <a:pt x="2843813" y="1731146"/>
                  <a:pt x="2849732" y="1722268"/>
                </a:cubicBezTo>
                <a:cubicBezTo>
                  <a:pt x="2870134" y="1661061"/>
                  <a:pt x="2854253" y="1682236"/>
                  <a:pt x="2885242" y="1651246"/>
                </a:cubicBezTo>
                <a:cubicBezTo>
                  <a:pt x="2891854" y="1631410"/>
                  <a:pt x="2900893" y="1588725"/>
                  <a:pt x="2920753" y="1571347"/>
                </a:cubicBezTo>
                <a:cubicBezTo>
                  <a:pt x="2936812" y="1557295"/>
                  <a:pt x="2958930" y="1550926"/>
                  <a:pt x="2974019" y="1535837"/>
                </a:cubicBezTo>
                <a:cubicBezTo>
                  <a:pt x="3002933" y="1506923"/>
                  <a:pt x="3009258" y="1505241"/>
                  <a:pt x="3027285" y="1473693"/>
                </a:cubicBezTo>
                <a:cubicBezTo>
                  <a:pt x="3081879" y="1378150"/>
                  <a:pt x="2993685" y="1515215"/>
                  <a:pt x="3080551" y="1384916"/>
                </a:cubicBezTo>
                <a:cubicBezTo>
                  <a:pt x="3086469" y="1376038"/>
                  <a:pt x="3094932" y="1368405"/>
                  <a:pt x="3098306" y="1358283"/>
                </a:cubicBezTo>
                <a:cubicBezTo>
                  <a:pt x="3104225" y="1340528"/>
                  <a:pt x="3105680" y="1320590"/>
                  <a:pt x="3116062" y="1305017"/>
                </a:cubicBezTo>
                <a:cubicBezTo>
                  <a:pt x="3121980" y="1296139"/>
                  <a:pt x="3129484" y="1288134"/>
                  <a:pt x="3133817" y="1278384"/>
                </a:cubicBezTo>
                <a:cubicBezTo>
                  <a:pt x="3141418" y="1261281"/>
                  <a:pt x="3147034" y="1243275"/>
                  <a:pt x="3151573" y="1225118"/>
                </a:cubicBezTo>
                <a:cubicBezTo>
                  <a:pt x="3154532" y="1213281"/>
                  <a:pt x="3155644" y="1200822"/>
                  <a:pt x="3160450" y="1189608"/>
                </a:cubicBezTo>
                <a:cubicBezTo>
                  <a:pt x="3164653" y="1179801"/>
                  <a:pt x="3172287" y="1171853"/>
                  <a:pt x="3178206" y="1162975"/>
                </a:cubicBezTo>
                <a:cubicBezTo>
                  <a:pt x="3181165" y="1151138"/>
                  <a:pt x="3183577" y="1139151"/>
                  <a:pt x="3187083" y="1127464"/>
                </a:cubicBezTo>
                <a:cubicBezTo>
                  <a:pt x="3192461" y="1109537"/>
                  <a:pt x="3200300" y="1092355"/>
                  <a:pt x="3204839" y="1074198"/>
                </a:cubicBezTo>
                <a:cubicBezTo>
                  <a:pt x="3207798" y="1062361"/>
                  <a:pt x="3208910" y="1049902"/>
                  <a:pt x="3213716" y="1038687"/>
                </a:cubicBezTo>
                <a:cubicBezTo>
                  <a:pt x="3217919" y="1028880"/>
                  <a:pt x="3225553" y="1020932"/>
                  <a:pt x="3231472" y="1012054"/>
                </a:cubicBezTo>
                <a:cubicBezTo>
                  <a:pt x="3253784" y="945112"/>
                  <a:pt x="3223686" y="1027626"/>
                  <a:pt x="3258105" y="958788"/>
                </a:cubicBezTo>
                <a:cubicBezTo>
                  <a:pt x="3262290" y="950418"/>
                  <a:pt x="3264411" y="941153"/>
                  <a:pt x="3266982" y="932155"/>
                </a:cubicBezTo>
                <a:cubicBezTo>
                  <a:pt x="3270334" y="920423"/>
                  <a:pt x="3270403" y="907557"/>
                  <a:pt x="3275860" y="896644"/>
                </a:cubicBezTo>
                <a:cubicBezTo>
                  <a:pt x="3285403" y="877558"/>
                  <a:pt x="3311371" y="843378"/>
                  <a:pt x="3311371" y="843378"/>
                </a:cubicBezTo>
                <a:cubicBezTo>
                  <a:pt x="3317289" y="825623"/>
                  <a:pt x="3320756" y="806852"/>
                  <a:pt x="3329126" y="790112"/>
                </a:cubicBezTo>
                <a:cubicBezTo>
                  <a:pt x="3373009" y="702347"/>
                  <a:pt x="3356266" y="744204"/>
                  <a:pt x="3382392" y="665825"/>
                </a:cubicBezTo>
                <a:cubicBezTo>
                  <a:pt x="3385351" y="656947"/>
                  <a:pt x="3389435" y="648368"/>
                  <a:pt x="3391270" y="639192"/>
                </a:cubicBezTo>
                <a:cubicBezTo>
                  <a:pt x="3409316" y="548954"/>
                  <a:pt x="3390827" y="631863"/>
                  <a:pt x="3409025" y="568171"/>
                </a:cubicBezTo>
                <a:cubicBezTo>
                  <a:pt x="3412377" y="556439"/>
                  <a:pt x="3413619" y="544084"/>
                  <a:pt x="3417903" y="532660"/>
                </a:cubicBezTo>
                <a:cubicBezTo>
                  <a:pt x="3422550" y="520269"/>
                  <a:pt x="3430743" y="509437"/>
                  <a:pt x="3435658" y="497149"/>
                </a:cubicBezTo>
                <a:cubicBezTo>
                  <a:pt x="3442609" y="479772"/>
                  <a:pt x="3447495" y="461638"/>
                  <a:pt x="3453413" y="443883"/>
                </a:cubicBezTo>
                <a:lnTo>
                  <a:pt x="3462291" y="417250"/>
                </a:lnTo>
                <a:cubicBezTo>
                  <a:pt x="3465250" y="408372"/>
                  <a:pt x="3465978" y="398403"/>
                  <a:pt x="3471169" y="390617"/>
                </a:cubicBezTo>
                <a:cubicBezTo>
                  <a:pt x="3486951" y="366943"/>
                  <a:pt x="3491896" y="355754"/>
                  <a:pt x="3515557" y="337351"/>
                </a:cubicBezTo>
                <a:cubicBezTo>
                  <a:pt x="3532401" y="324250"/>
                  <a:pt x="3551068" y="313678"/>
                  <a:pt x="3568823" y="301841"/>
                </a:cubicBezTo>
                <a:cubicBezTo>
                  <a:pt x="3577701" y="295922"/>
                  <a:pt x="3585105" y="286673"/>
                  <a:pt x="3595456" y="284085"/>
                </a:cubicBezTo>
                <a:lnTo>
                  <a:pt x="3666477" y="266330"/>
                </a:lnTo>
                <a:lnTo>
                  <a:pt x="3719743" y="230819"/>
                </a:lnTo>
                <a:cubicBezTo>
                  <a:pt x="3728621" y="224901"/>
                  <a:pt x="3736254" y="216438"/>
                  <a:pt x="3746376" y="213064"/>
                </a:cubicBezTo>
                <a:lnTo>
                  <a:pt x="3799642" y="195309"/>
                </a:lnTo>
                <a:cubicBezTo>
                  <a:pt x="3857220" y="118537"/>
                  <a:pt x="3796265" y="191604"/>
                  <a:pt x="3852908" y="142042"/>
                </a:cubicBezTo>
                <a:cubicBezTo>
                  <a:pt x="3883763" y="115044"/>
                  <a:pt x="3890634" y="96547"/>
                  <a:pt x="3923930" y="79899"/>
                </a:cubicBezTo>
                <a:cubicBezTo>
                  <a:pt x="3932300" y="75714"/>
                  <a:pt x="3942044" y="74893"/>
                  <a:pt x="3950563" y="71021"/>
                </a:cubicBezTo>
                <a:cubicBezTo>
                  <a:pt x="3974659" y="60068"/>
                  <a:pt x="3995225" y="37906"/>
                  <a:pt x="4021584" y="35510"/>
                </a:cubicBezTo>
                <a:lnTo>
                  <a:pt x="4119239" y="26633"/>
                </a:lnTo>
                <a:cubicBezTo>
                  <a:pt x="4134035" y="23674"/>
                  <a:pt x="4148743" y="20236"/>
                  <a:pt x="4163627" y="17755"/>
                </a:cubicBezTo>
                <a:cubicBezTo>
                  <a:pt x="4184267" y="14315"/>
                  <a:pt x="4205252" y="12981"/>
                  <a:pt x="4225771" y="8877"/>
                </a:cubicBezTo>
                <a:cubicBezTo>
                  <a:pt x="4234947" y="7042"/>
                  <a:pt x="4243526" y="2959"/>
                  <a:pt x="4252404" y="0"/>
                </a:cubicBezTo>
                <a:cubicBezTo>
                  <a:pt x="4267200" y="2959"/>
                  <a:pt x="4282062" y="5604"/>
                  <a:pt x="4296792" y="8877"/>
                </a:cubicBezTo>
                <a:cubicBezTo>
                  <a:pt x="4308703" y="11524"/>
                  <a:pt x="4320209" y="16142"/>
                  <a:pt x="4332303" y="17755"/>
                </a:cubicBezTo>
                <a:cubicBezTo>
                  <a:pt x="4364702" y="22075"/>
                  <a:pt x="4397406" y="23674"/>
                  <a:pt x="4429957" y="26633"/>
                </a:cubicBezTo>
                <a:cubicBezTo>
                  <a:pt x="4437649" y="28556"/>
                  <a:pt x="4482192" y="38726"/>
                  <a:pt x="4492101" y="44388"/>
                </a:cubicBezTo>
                <a:cubicBezTo>
                  <a:pt x="4504947" y="51729"/>
                  <a:pt x="4515571" y="62421"/>
                  <a:pt x="4527611" y="71021"/>
                </a:cubicBezTo>
                <a:cubicBezTo>
                  <a:pt x="4536293" y="77223"/>
                  <a:pt x="4545912" y="82111"/>
                  <a:pt x="4554244" y="88776"/>
                </a:cubicBezTo>
                <a:cubicBezTo>
                  <a:pt x="4560780" y="94005"/>
                  <a:pt x="4564823" y="102226"/>
                  <a:pt x="4572000" y="106532"/>
                </a:cubicBezTo>
                <a:cubicBezTo>
                  <a:pt x="4580024" y="111347"/>
                  <a:pt x="4589635" y="112838"/>
                  <a:pt x="4598633" y="115409"/>
                </a:cubicBezTo>
                <a:cubicBezTo>
                  <a:pt x="4676637" y="137696"/>
                  <a:pt x="4596939" y="111885"/>
                  <a:pt x="4660776" y="133165"/>
                </a:cubicBezTo>
                <a:cubicBezTo>
                  <a:pt x="4744172" y="129194"/>
                  <a:pt x="4864610" y="115339"/>
                  <a:pt x="4953740" y="133165"/>
                </a:cubicBezTo>
                <a:cubicBezTo>
                  <a:pt x="4964202" y="135257"/>
                  <a:pt x="4971495" y="145002"/>
                  <a:pt x="4980373" y="150920"/>
                </a:cubicBezTo>
                <a:cubicBezTo>
                  <a:pt x="4986291" y="159798"/>
                  <a:pt x="4991853" y="168924"/>
                  <a:pt x="4998128" y="177553"/>
                </a:cubicBezTo>
                <a:cubicBezTo>
                  <a:pt x="5015533" y="201486"/>
                  <a:pt x="5038160" y="222107"/>
                  <a:pt x="5051394" y="248575"/>
                </a:cubicBezTo>
                <a:cubicBezTo>
                  <a:pt x="5057312" y="260412"/>
                  <a:pt x="5061808" y="273074"/>
                  <a:pt x="5069149" y="284085"/>
                </a:cubicBezTo>
                <a:cubicBezTo>
                  <a:pt x="5083755" y="305994"/>
                  <a:pt x="5099194" y="306327"/>
                  <a:pt x="5122415" y="319596"/>
                </a:cubicBezTo>
                <a:cubicBezTo>
                  <a:pt x="5131679" y="324890"/>
                  <a:pt x="5140716" y="330686"/>
                  <a:pt x="5149048" y="337351"/>
                </a:cubicBezTo>
                <a:cubicBezTo>
                  <a:pt x="5155584" y="342580"/>
                  <a:pt x="5159627" y="350801"/>
                  <a:pt x="5166804" y="355107"/>
                </a:cubicBezTo>
                <a:cubicBezTo>
                  <a:pt x="5174828" y="359922"/>
                  <a:pt x="5184559" y="361025"/>
                  <a:pt x="5193437" y="363984"/>
                </a:cubicBezTo>
                <a:cubicBezTo>
                  <a:pt x="5199355" y="369903"/>
                  <a:pt x="5204656" y="376511"/>
                  <a:pt x="5211192" y="381740"/>
                </a:cubicBezTo>
                <a:cubicBezTo>
                  <a:pt x="5219523" y="388405"/>
                  <a:pt x="5230280" y="391950"/>
                  <a:pt x="5237825" y="399495"/>
                </a:cubicBezTo>
                <a:cubicBezTo>
                  <a:pt x="5245370" y="407040"/>
                  <a:pt x="5248035" y="418583"/>
                  <a:pt x="5255580" y="426128"/>
                </a:cubicBezTo>
                <a:cubicBezTo>
                  <a:pt x="5266042" y="436590"/>
                  <a:pt x="5279254" y="443883"/>
                  <a:pt x="5291091" y="452761"/>
                </a:cubicBezTo>
                <a:cubicBezTo>
                  <a:pt x="5304411" y="472741"/>
                  <a:pt x="5322829" y="504141"/>
                  <a:pt x="5344357" y="514905"/>
                </a:cubicBezTo>
                <a:cubicBezTo>
                  <a:pt x="5423748" y="554600"/>
                  <a:pt x="5390268" y="542045"/>
                  <a:pt x="5442011" y="559293"/>
                </a:cubicBezTo>
                <a:cubicBezTo>
                  <a:pt x="5466983" y="584264"/>
                  <a:pt x="5475197" y="590156"/>
                  <a:pt x="5495277" y="630314"/>
                </a:cubicBezTo>
                <a:cubicBezTo>
                  <a:pt x="5501196" y="642151"/>
                  <a:pt x="5506224" y="654477"/>
                  <a:pt x="5513033" y="665825"/>
                </a:cubicBezTo>
                <a:cubicBezTo>
                  <a:pt x="5524012" y="684123"/>
                  <a:pt x="5536706" y="701336"/>
                  <a:pt x="5548543" y="719091"/>
                </a:cubicBezTo>
                <a:lnTo>
                  <a:pt x="5584054" y="772357"/>
                </a:lnTo>
                <a:cubicBezTo>
                  <a:pt x="5589972" y="781235"/>
                  <a:pt x="5598435" y="788868"/>
                  <a:pt x="5601809" y="798990"/>
                </a:cubicBezTo>
                <a:lnTo>
                  <a:pt x="5619565" y="852256"/>
                </a:lnTo>
                <a:cubicBezTo>
                  <a:pt x="5622524" y="861134"/>
                  <a:pt x="5623251" y="871103"/>
                  <a:pt x="5628442" y="878889"/>
                </a:cubicBezTo>
                <a:lnTo>
                  <a:pt x="5646198" y="905522"/>
                </a:lnTo>
                <a:cubicBezTo>
                  <a:pt x="5652989" y="932690"/>
                  <a:pt x="5652393" y="947229"/>
                  <a:pt x="5672831" y="967666"/>
                </a:cubicBezTo>
                <a:cubicBezTo>
                  <a:pt x="5680376" y="975210"/>
                  <a:pt x="5690586" y="979503"/>
                  <a:pt x="5699464" y="985421"/>
                </a:cubicBezTo>
                <a:cubicBezTo>
                  <a:pt x="5733659" y="1036714"/>
                  <a:pt x="5697820" y="990353"/>
                  <a:pt x="5743852" y="1029809"/>
                </a:cubicBezTo>
                <a:cubicBezTo>
                  <a:pt x="5756562" y="1040703"/>
                  <a:pt x="5779363" y="1065320"/>
                  <a:pt x="5779363" y="1065320"/>
                </a:cubicBezTo>
                <a:cubicBezTo>
                  <a:pt x="5782322" y="1074198"/>
                  <a:pt x="5785669" y="1082955"/>
                  <a:pt x="5788240" y="1091953"/>
                </a:cubicBezTo>
                <a:cubicBezTo>
                  <a:pt x="5791592" y="1103685"/>
                  <a:pt x="5792312" y="1116249"/>
                  <a:pt x="5797118" y="1127464"/>
                </a:cubicBezTo>
                <a:cubicBezTo>
                  <a:pt x="5801321" y="1137271"/>
                  <a:pt x="5810101" y="1144554"/>
                  <a:pt x="5814873" y="1154097"/>
                </a:cubicBezTo>
                <a:cubicBezTo>
                  <a:pt x="5819058" y="1162467"/>
                  <a:pt x="5819566" y="1172360"/>
                  <a:pt x="5823751" y="1180730"/>
                </a:cubicBezTo>
                <a:cubicBezTo>
                  <a:pt x="5828523" y="1190273"/>
                  <a:pt x="5836734" y="1197820"/>
                  <a:pt x="5841506" y="1207363"/>
                </a:cubicBezTo>
                <a:cubicBezTo>
                  <a:pt x="5845691" y="1215733"/>
                  <a:pt x="5846698" y="1225395"/>
                  <a:pt x="5850384" y="1233996"/>
                </a:cubicBezTo>
                <a:cubicBezTo>
                  <a:pt x="5855597" y="1246160"/>
                  <a:pt x="5862221" y="1257670"/>
                  <a:pt x="5868140" y="1269507"/>
                </a:cubicBezTo>
                <a:cubicBezTo>
                  <a:pt x="5869325" y="1274246"/>
                  <a:pt x="5880799" y="1324006"/>
                  <a:pt x="5885895" y="1331650"/>
                </a:cubicBezTo>
                <a:cubicBezTo>
                  <a:pt x="5892859" y="1342096"/>
                  <a:pt x="5903650" y="1349405"/>
                  <a:pt x="5912528" y="1358283"/>
                </a:cubicBezTo>
                <a:cubicBezTo>
                  <a:pt x="5917737" y="1384328"/>
                  <a:pt x="5920048" y="1405424"/>
                  <a:pt x="5930283" y="1429305"/>
                </a:cubicBezTo>
                <a:cubicBezTo>
                  <a:pt x="5935496" y="1441469"/>
                  <a:pt x="5942120" y="1452978"/>
                  <a:pt x="5948039" y="1464815"/>
                </a:cubicBezTo>
                <a:cubicBezTo>
                  <a:pt x="5950998" y="1479611"/>
                  <a:pt x="5953256" y="1494565"/>
                  <a:pt x="5956916" y="1509204"/>
                </a:cubicBezTo>
                <a:cubicBezTo>
                  <a:pt x="5959186" y="1518283"/>
                  <a:pt x="5963223" y="1526839"/>
                  <a:pt x="5965794" y="1535837"/>
                </a:cubicBezTo>
                <a:cubicBezTo>
                  <a:pt x="5969146" y="1547569"/>
                  <a:pt x="5971713" y="1559510"/>
                  <a:pt x="5974672" y="1571347"/>
                </a:cubicBezTo>
                <a:cubicBezTo>
                  <a:pt x="5976834" y="1588646"/>
                  <a:pt x="5988340" y="1684078"/>
                  <a:pt x="5992427" y="1704512"/>
                </a:cubicBezTo>
                <a:cubicBezTo>
                  <a:pt x="5994262" y="1713688"/>
                  <a:pt x="5998734" y="1722147"/>
                  <a:pt x="6001305" y="1731145"/>
                </a:cubicBezTo>
                <a:cubicBezTo>
                  <a:pt x="6004657" y="1742877"/>
                  <a:pt x="6006830" y="1754924"/>
                  <a:pt x="6010182" y="1766656"/>
                </a:cubicBezTo>
                <a:cubicBezTo>
                  <a:pt x="6012753" y="1775654"/>
                  <a:pt x="6016790" y="1784211"/>
                  <a:pt x="6019060" y="1793289"/>
                </a:cubicBezTo>
                <a:cubicBezTo>
                  <a:pt x="6022720" y="1807927"/>
                  <a:pt x="6023968" y="1823120"/>
                  <a:pt x="6027938" y="1837677"/>
                </a:cubicBezTo>
                <a:cubicBezTo>
                  <a:pt x="6032862" y="1855733"/>
                  <a:pt x="6042022" y="1872591"/>
                  <a:pt x="6045693" y="1890943"/>
                </a:cubicBezTo>
                <a:cubicBezTo>
                  <a:pt x="6047272" y="1898837"/>
                  <a:pt x="6058748" y="1959876"/>
                  <a:pt x="6063448" y="1970842"/>
                </a:cubicBezTo>
                <a:cubicBezTo>
                  <a:pt x="6082916" y="2016266"/>
                  <a:pt x="6079840" y="1980113"/>
                  <a:pt x="6107837" y="2024109"/>
                </a:cubicBezTo>
                <a:cubicBezTo>
                  <a:pt x="6176528" y="2132052"/>
                  <a:pt x="6115322" y="2067106"/>
                  <a:pt x="6161103" y="2112885"/>
                </a:cubicBezTo>
                <a:cubicBezTo>
                  <a:pt x="6176519" y="2159136"/>
                  <a:pt x="6159882" y="2122456"/>
                  <a:pt x="6187736" y="2157274"/>
                </a:cubicBezTo>
                <a:cubicBezTo>
                  <a:pt x="6194401" y="2165606"/>
                  <a:pt x="6198403" y="2175932"/>
                  <a:pt x="6205491" y="2183907"/>
                </a:cubicBezTo>
                <a:cubicBezTo>
                  <a:pt x="6222173" y="2202674"/>
                  <a:pt x="6247528" y="2214714"/>
                  <a:pt x="6258757" y="2237173"/>
                </a:cubicBezTo>
                <a:cubicBezTo>
                  <a:pt x="6264675" y="2249010"/>
                  <a:pt x="6269171" y="2261672"/>
                  <a:pt x="6276512" y="2272683"/>
                </a:cubicBezTo>
                <a:cubicBezTo>
                  <a:pt x="6281155" y="2279647"/>
                  <a:pt x="6289625" y="2283475"/>
                  <a:pt x="6294268" y="2290439"/>
                </a:cubicBezTo>
                <a:cubicBezTo>
                  <a:pt x="6317820" y="2325766"/>
                  <a:pt x="6306698" y="2319442"/>
                  <a:pt x="6320901" y="2352582"/>
                </a:cubicBezTo>
                <a:cubicBezTo>
                  <a:pt x="6326114" y="2364746"/>
                  <a:pt x="6334009" y="2375702"/>
                  <a:pt x="6338656" y="2388093"/>
                </a:cubicBezTo>
                <a:cubicBezTo>
                  <a:pt x="6342940" y="2399517"/>
                  <a:pt x="6342728" y="2412389"/>
                  <a:pt x="6347534" y="2423604"/>
                </a:cubicBezTo>
                <a:cubicBezTo>
                  <a:pt x="6351737" y="2433411"/>
                  <a:pt x="6359371" y="2441359"/>
                  <a:pt x="6365289" y="2450237"/>
                </a:cubicBezTo>
                <a:cubicBezTo>
                  <a:pt x="6374051" y="2511568"/>
                  <a:pt x="6379893" y="2503219"/>
                  <a:pt x="6365289" y="2556769"/>
                </a:cubicBezTo>
                <a:cubicBezTo>
                  <a:pt x="6360365" y="2574825"/>
                  <a:pt x="6347534" y="2610035"/>
                  <a:pt x="6347534" y="2610035"/>
                </a:cubicBezTo>
                <a:cubicBezTo>
                  <a:pt x="6350493" y="2663301"/>
                  <a:pt x="6353607" y="2716559"/>
                  <a:pt x="6356411" y="2769833"/>
                </a:cubicBezTo>
                <a:cubicBezTo>
                  <a:pt x="6372002" y="3066071"/>
                  <a:pt x="6345563" y="2873902"/>
                  <a:pt x="6374167" y="2974019"/>
                </a:cubicBezTo>
                <a:cubicBezTo>
                  <a:pt x="6377519" y="2985751"/>
                  <a:pt x="6377587" y="2998617"/>
                  <a:pt x="6383044" y="3009530"/>
                </a:cubicBezTo>
                <a:cubicBezTo>
                  <a:pt x="6386787" y="3017016"/>
                  <a:pt x="6394881" y="3021367"/>
                  <a:pt x="6400800" y="3027285"/>
                </a:cubicBezTo>
                <a:cubicBezTo>
                  <a:pt x="6417773" y="3078208"/>
                  <a:pt x="6398186" y="3032677"/>
                  <a:pt x="6427433" y="3071674"/>
                </a:cubicBezTo>
                <a:cubicBezTo>
                  <a:pt x="6440236" y="3088745"/>
                  <a:pt x="6451106" y="3107185"/>
                  <a:pt x="6462943" y="3124940"/>
                </a:cubicBezTo>
                <a:lnTo>
                  <a:pt x="6480699" y="3151573"/>
                </a:lnTo>
                <a:cubicBezTo>
                  <a:pt x="6486617" y="3160451"/>
                  <a:pt x="6490909" y="3170661"/>
                  <a:pt x="6498454" y="3178206"/>
                </a:cubicBezTo>
                <a:cubicBezTo>
                  <a:pt x="6507332" y="3187084"/>
                  <a:pt x="6517050" y="3195194"/>
                  <a:pt x="6525087" y="3204839"/>
                </a:cubicBezTo>
                <a:cubicBezTo>
                  <a:pt x="6531917" y="3213036"/>
                  <a:pt x="6538070" y="3221929"/>
                  <a:pt x="6542842" y="3231472"/>
                </a:cubicBezTo>
                <a:cubicBezTo>
                  <a:pt x="6547027" y="3239842"/>
                  <a:pt x="6545874" y="3250798"/>
                  <a:pt x="6551720" y="3258105"/>
                </a:cubicBezTo>
                <a:cubicBezTo>
                  <a:pt x="6558385" y="3266436"/>
                  <a:pt x="6569475" y="3269942"/>
                  <a:pt x="6578353" y="3275860"/>
                </a:cubicBezTo>
                <a:cubicBezTo>
                  <a:pt x="6584271" y="3284738"/>
                  <a:pt x="6589082" y="3294463"/>
                  <a:pt x="6596108" y="3302493"/>
                </a:cubicBezTo>
                <a:cubicBezTo>
                  <a:pt x="6609887" y="3318241"/>
                  <a:pt x="6625701" y="3332085"/>
                  <a:pt x="6640497" y="3346881"/>
                </a:cubicBezTo>
                <a:cubicBezTo>
                  <a:pt x="6646416" y="3352800"/>
                  <a:pt x="6653230" y="3357941"/>
                  <a:pt x="6658252" y="3364637"/>
                </a:cubicBezTo>
                <a:cubicBezTo>
                  <a:pt x="6667130" y="3376474"/>
                  <a:pt x="6675256" y="3388913"/>
                  <a:pt x="6684885" y="3400147"/>
                </a:cubicBezTo>
                <a:cubicBezTo>
                  <a:pt x="6693056" y="3409679"/>
                  <a:pt x="6703481" y="3417135"/>
                  <a:pt x="6711518" y="3426780"/>
                </a:cubicBezTo>
                <a:cubicBezTo>
                  <a:pt x="6718348" y="3434977"/>
                  <a:pt x="6722608" y="3445081"/>
                  <a:pt x="6729273" y="3453413"/>
                </a:cubicBezTo>
                <a:cubicBezTo>
                  <a:pt x="6734502" y="3459949"/>
                  <a:pt x="6742007" y="3464473"/>
                  <a:pt x="6747029" y="3471169"/>
                </a:cubicBezTo>
                <a:cubicBezTo>
                  <a:pt x="6759833" y="3488240"/>
                  <a:pt x="6782540" y="3524435"/>
                  <a:pt x="6782540" y="3524435"/>
                </a:cubicBezTo>
                <a:cubicBezTo>
                  <a:pt x="6810825" y="3609292"/>
                  <a:pt x="6796644" y="3553711"/>
                  <a:pt x="6809173" y="3666477"/>
                </a:cubicBezTo>
                <a:cubicBezTo>
                  <a:pt x="6810838" y="3681459"/>
                  <a:pt x="6816725" y="3749203"/>
                  <a:pt x="6826928" y="3773009"/>
                </a:cubicBezTo>
                <a:cubicBezTo>
                  <a:pt x="6836198" y="3794639"/>
                  <a:pt x="6855318" y="3810278"/>
                  <a:pt x="6871316" y="3826276"/>
                </a:cubicBezTo>
                <a:cubicBezTo>
                  <a:pt x="6874275" y="3835154"/>
                  <a:pt x="6872807" y="3847164"/>
                  <a:pt x="6880194" y="3852909"/>
                </a:cubicBezTo>
                <a:cubicBezTo>
                  <a:pt x="6901087" y="3869159"/>
                  <a:pt x="6929193" y="3873737"/>
                  <a:pt x="6951215" y="3888419"/>
                </a:cubicBezTo>
                <a:cubicBezTo>
                  <a:pt x="6960093" y="3894338"/>
                  <a:pt x="6969818" y="3899149"/>
                  <a:pt x="6977848" y="3906175"/>
                </a:cubicBezTo>
                <a:cubicBezTo>
                  <a:pt x="6993596" y="3919954"/>
                  <a:pt x="7001937" y="3945488"/>
                  <a:pt x="7022237" y="3950563"/>
                </a:cubicBezTo>
                <a:lnTo>
                  <a:pt x="7057747" y="3959441"/>
                </a:lnTo>
                <a:cubicBezTo>
                  <a:pt x="7105099" y="4030467"/>
                  <a:pt x="7042948" y="3944641"/>
                  <a:pt x="7102136" y="4003829"/>
                </a:cubicBezTo>
                <a:cubicBezTo>
                  <a:pt x="7172313" y="4074006"/>
                  <a:pt x="7087750" y="4007985"/>
                  <a:pt x="7155402" y="4065973"/>
                </a:cubicBezTo>
                <a:cubicBezTo>
                  <a:pt x="7192255" y="4097562"/>
                  <a:pt x="7202224" y="4092891"/>
                  <a:pt x="7235301" y="4136994"/>
                </a:cubicBezTo>
                <a:cubicBezTo>
                  <a:pt x="7244179" y="4148831"/>
                  <a:pt x="7253449" y="4160383"/>
                  <a:pt x="7261934" y="4172505"/>
                </a:cubicBezTo>
                <a:cubicBezTo>
                  <a:pt x="7274171" y="4189987"/>
                  <a:pt x="7297444" y="4225771"/>
                  <a:pt x="7297444" y="4225771"/>
                </a:cubicBezTo>
                <a:cubicBezTo>
                  <a:pt x="7300403" y="4237608"/>
                  <a:pt x="7302970" y="4249549"/>
                  <a:pt x="7306322" y="4261281"/>
                </a:cubicBezTo>
                <a:cubicBezTo>
                  <a:pt x="7308893" y="4270279"/>
                  <a:pt x="7312930" y="4278835"/>
                  <a:pt x="7315200" y="4287914"/>
                </a:cubicBezTo>
                <a:cubicBezTo>
                  <a:pt x="7318860" y="4302553"/>
                  <a:pt x="7321596" y="4317419"/>
                  <a:pt x="7324077" y="4332303"/>
                </a:cubicBezTo>
                <a:cubicBezTo>
                  <a:pt x="7327517" y="4352943"/>
                  <a:pt x="7324296" y="4375397"/>
                  <a:pt x="7332955" y="4394446"/>
                </a:cubicBezTo>
                <a:cubicBezTo>
                  <a:pt x="7339882" y="4409686"/>
                  <a:pt x="7368466" y="4429957"/>
                  <a:pt x="7368466" y="4429957"/>
                </a:cubicBezTo>
                <a:cubicBezTo>
                  <a:pt x="7371425" y="4438835"/>
                  <a:pt x="7372528" y="4448566"/>
                  <a:pt x="7377343" y="4456590"/>
                </a:cubicBezTo>
                <a:cubicBezTo>
                  <a:pt x="7381649" y="4463767"/>
                  <a:pt x="7389870" y="4467809"/>
                  <a:pt x="7395099" y="4474345"/>
                </a:cubicBezTo>
                <a:cubicBezTo>
                  <a:pt x="7439906" y="4530353"/>
                  <a:pt x="7387730" y="4475853"/>
                  <a:pt x="7430609" y="4518734"/>
                </a:cubicBezTo>
                <a:cubicBezTo>
                  <a:pt x="7433568" y="4530571"/>
                  <a:pt x="7433020" y="4543898"/>
                  <a:pt x="7439487" y="4554244"/>
                </a:cubicBezTo>
                <a:cubicBezTo>
                  <a:pt x="7448359" y="4568439"/>
                  <a:pt x="7474998" y="4589755"/>
                  <a:pt x="7474998" y="4589755"/>
                </a:cubicBezTo>
                <a:cubicBezTo>
                  <a:pt x="7479504" y="4607781"/>
                  <a:pt x="7485109" y="4634064"/>
                  <a:pt x="7492753" y="4651899"/>
                </a:cubicBezTo>
                <a:cubicBezTo>
                  <a:pt x="7497966" y="4664063"/>
                  <a:pt x="7505295" y="4675245"/>
                  <a:pt x="7510508" y="4687409"/>
                </a:cubicBezTo>
                <a:cubicBezTo>
                  <a:pt x="7524711" y="4720549"/>
                  <a:pt x="7513589" y="4714224"/>
                  <a:pt x="7537141" y="4749553"/>
                </a:cubicBezTo>
                <a:cubicBezTo>
                  <a:pt x="7541784" y="4756517"/>
                  <a:pt x="7548978" y="4761390"/>
                  <a:pt x="7554897" y="4767309"/>
                </a:cubicBezTo>
                <a:cubicBezTo>
                  <a:pt x="7583226" y="4852296"/>
                  <a:pt x="7554988" y="4794051"/>
                  <a:pt x="7599285" y="4847208"/>
                </a:cubicBezTo>
                <a:cubicBezTo>
                  <a:pt x="7669130" y="4931022"/>
                  <a:pt x="7572532" y="4820396"/>
                  <a:pt x="7625918" y="4900474"/>
                </a:cubicBezTo>
                <a:cubicBezTo>
                  <a:pt x="7632882" y="4910920"/>
                  <a:pt x="7644514" y="4917462"/>
                  <a:pt x="7652551" y="4927107"/>
                </a:cubicBezTo>
                <a:cubicBezTo>
                  <a:pt x="7700661" y="4984840"/>
                  <a:pt x="7644861" y="4923171"/>
                  <a:pt x="7679184" y="4980373"/>
                </a:cubicBezTo>
                <a:cubicBezTo>
                  <a:pt x="7683490" y="4987550"/>
                  <a:pt x="7691918" y="4991432"/>
                  <a:pt x="7696940" y="4998128"/>
                </a:cubicBezTo>
                <a:cubicBezTo>
                  <a:pt x="7757170" y="5078435"/>
                  <a:pt x="7709485" y="5028431"/>
                  <a:pt x="7750206" y="5069149"/>
                </a:cubicBezTo>
                <a:cubicBezTo>
                  <a:pt x="7775606" y="5145356"/>
                  <a:pt x="7736709" y="5024041"/>
                  <a:pt x="7767961" y="5149048"/>
                </a:cubicBezTo>
                <a:cubicBezTo>
                  <a:pt x="7772500" y="5167205"/>
                  <a:pt x="7775334" y="5186742"/>
                  <a:pt x="7785716" y="5202314"/>
                </a:cubicBezTo>
                <a:lnTo>
                  <a:pt x="7803472" y="5228947"/>
                </a:lnTo>
                <a:cubicBezTo>
                  <a:pt x="7824763" y="5292824"/>
                  <a:pt x="7798924" y="5213033"/>
                  <a:pt x="7821227" y="5291091"/>
                </a:cubicBezTo>
                <a:cubicBezTo>
                  <a:pt x="7823798" y="5300089"/>
                  <a:pt x="7827146" y="5308846"/>
                  <a:pt x="7830105" y="5317724"/>
                </a:cubicBezTo>
                <a:cubicBezTo>
                  <a:pt x="7833064" y="5335479"/>
                  <a:pt x="7824774" y="5359939"/>
                  <a:pt x="7838982" y="5370990"/>
                </a:cubicBezTo>
                <a:cubicBezTo>
                  <a:pt x="7857815" y="5385638"/>
                  <a:pt x="7886531" y="5375600"/>
                  <a:pt x="7910004" y="5379868"/>
                </a:cubicBezTo>
                <a:cubicBezTo>
                  <a:pt x="7923728" y="5382363"/>
                  <a:pt x="7975678" y="5404719"/>
                  <a:pt x="7981025" y="5406501"/>
                </a:cubicBezTo>
                <a:cubicBezTo>
                  <a:pt x="7992600" y="5410359"/>
                  <a:pt x="8004849" y="5411872"/>
                  <a:pt x="8016536" y="5415378"/>
                </a:cubicBezTo>
                <a:cubicBezTo>
                  <a:pt x="8034463" y="5420756"/>
                  <a:pt x="8069802" y="5433134"/>
                  <a:pt x="8069802" y="5433134"/>
                </a:cubicBezTo>
                <a:cubicBezTo>
                  <a:pt x="8097939" y="5475340"/>
                  <a:pt x="8084182" y="5449644"/>
                  <a:pt x="8105312" y="5513033"/>
                </a:cubicBezTo>
                <a:lnTo>
                  <a:pt x="8114190" y="5539666"/>
                </a:lnTo>
                <a:cubicBezTo>
                  <a:pt x="8117149" y="5560380"/>
                  <a:pt x="8123068" y="5580884"/>
                  <a:pt x="8123068" y="5601809"/>
                </a:cubicBezTo>
                <a:cubicBezTo>
                  <a:pt x="8123068" y="5655157"/>
                  <a:pt x="8114190" y="5708260"/>
                  <a:pt x="8114190" y="5761608"/>
                </a:cubicBezTo>
                <a:cubicBezTo>
                  <a:pt x="8114190" y="5770966"/>
                  <a:pt x="8116451" y="5781624"/>
                  <a:pt x="8123068" y="5788241"/>
                </a:cubicBezTo>
                <a:cubicBezTo>
                  <a:pt x="8129685" y="5794858"/>
                  <a:pt x="8140823" y="5794159"/>
                  <a:pt x="8149701" y="5797118"/>
                </a:cubicBezTo>
                <a:cubicBezTo>
                  <a:pt x="8155619" y="5803037"/>
                  <a:pt x="8160760" y="5809852"/>
                  <a:pt x="8167456" y="5814874"/>
                </a:cubicBezTo>
                <a:cubicBezTo>
                  <a:pt x="8184527" y="5827678"/>
                  <a:pt x="8205633" y="5835295"/>
                  <a:pt x="8220722" y="5850384"/>
                </a:cubicBezTo>
                <a:cubicBezTo>
                  <a:pt x="8229600" y="5859262"/>
                  <a:pt x="8237445" y="5869309"/>
                  <a:pt x="8247355" y="5877017"/>
                </a:cubicBezTo>
                <a:cubicBezTo>
                  <a:pt x="8264199" y="5890118"/>
                  <a:pt x="8282866" y="5900691"/>
                  <a:pt x="8300621" y="5912528"/>
                </a:cubicBezTo>
                <a:cubicBezTo>
                  <a:pt x="8309499" y="5918446"/>
                  <a:pt x="8319710" y="5922738"/>
                  <a:pt x="8327254" y="5930283"/>
                </a:cubicBezTo>
                <a:cubicBezTo>
                  <a:pt x="8333172" y="5936202"/>
                  <a:pt x="8338313" y="5943017"/>
                  <a:pt x="8345009" y="5948039"/>
                </a:cubicBezTo>
                <a:cubicBezTo>
                  <a:pt x="8425321" y="6008273"/>
                  <a:pt x="8375309" y="5960583"/>
                  <a:pt x="8416031" y="6001305"/>
                </a:cubicBezTo>
                <a:cubicBezTo>
                  <a:pt x="8430327" y="6044195"/>
                  <a:pt x="8425535" y="6056287"/>
                  <a:pt x="8460419" y="6081204"/>
                </a:cubicBezTo>
                <a:cubicBezTo>
                  <a:pt x="8471188" y="6088896"/>
                  <a:pt x="8484093" y="6093041"/>
                  <a:pt x="8495930" y="6098959"/>
                </a:cubicBezTo>
                <a:cubicBezTo>
                  <a:pt x="8522564" y="6138910"/>
                  <a:pt x="8521082" y="6151484"/>
                  <a:pt x="8558073" y="6169980"/>
                </a:cubicBezTo>
                <a:cubicBezTo>
                  <a:pt x="8566443" y="6174165"/>
                  <a:pt x="8575828" y="6175899"/>
                  <a:pt x="8584706" y="6178858"/>
                </a:cubicBezTo>
                <a:cubicBezTo>
                  <a:pt x="8629691" y="6223841"/>
                  <a:pt x="8576770" y="6165629"/>
                  <a:pt x="8611340" y="6223246"/>
                </a:cubicBezTo>
                <a:cubicBezTo>
                  <a:pt x="8621673" y="6240468"/>
                  <a:pt x="8641209" y="6246658"/>
                  <a:pt x="8655728" y="6258757"/>
                </a:cubicBezTo>
                <a:cubicBezTo>
                  <a:pt x="8693690" y="6290392"/>
                  <a:pt x="8672181" y="6277105"/>
                  <a:pt x="8700116" y="6312023"/>
                </a:cubicBezTo>
                <a:cubicBezTo>
                  <a:pt x="8705345" y="6318559"/>
                  <a:pt x="8711953" y="6323860"/>
                  <a:pt x="8717872" y="6329778"/>
                </a:cubicBezTo>
                <a:cubicBezTo>
                  <a:pt x="8723790" y="6341615"/>
                  <a:pt x="8730980" y="6352898"/>
                  <a:pt x="8735627" y="6365289"/>
                </a:cubicBezTo>
                <a:cubicBezTo>
                  <a:pt x="8749101" y="6401219"/>
                  <a:pt x="8737545" y="6403357"/>
                  <a:pt x="8762260" y="6436310"/>
                </a:cubicBezTo>
                <a:cubicBezTo>
                  <a:pt x="8772304" y="6449702"/>
                  <a:pt x="8788485" y="6457892"/>
                  <a:pt x="8797771" y="6471821"/>
                </a:cubicBezTo>
                <a:cubicBezTo>
                  <a:pt x="8822519" y="6508943"/>
                  <a:pt x="8828621" y="6525642"/>
                  <a:pt x="8859914" y="6551720"/>
                </a:cubicBezTo>
                <a:cubicBezTo>
                  <a:pt x="8887594" y="6574787"/>
                  <a:pt x="8883644" y="6561407"/>
                  <a:pt x="8904303" y="6587231"/>
                </a:cubicBezTo>
                <a:cubicBezTo>
                  <a:pt x="8953748" y="6649036"/>
                  <a:pt x="8885418" y="6577224"/>
                  <a:pt x="8948691" y="6640497"/>
                </a:cubicBezTo>
                <a:cubicBezTo>
                  <a:pt x="8954609" y="6652334"/>
                  <a:pt x="8959880" y="6664518"/>
                  <a:pt x="8966446" y="6676008"/>
                </a:cubicBezTo>
                <a:cubicBezTo>
                  <a:pt x="8971740" y="6685272"/>
                  <a:pt x="8979999" y="6692834"/>
                  <a:pt x="8984202" y="6702641"/>
                </a:cubicBezTo>
                <a:cubicBezTo>
                  <a:pt x="9001274" y="6742476"/>
                  <a:pt x="8984676" y="6730222"/>
                  <a:pt x="9001957" y="6764784"/>
                </a:cubicBezTo>
                <a:cubicBezTo>
                  <a:pt x="9003829" y="6768527"/>
                  <a:pt x="9007876" y="6770703"/>
                  <a:pt x="9010835" y="6773662"/>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6" name="Text Box 4"/>
          <p:cNvSpPr/>
          <p:nvPr/>
        </p:nvSpPr>
        <p:spPr>
          <a:xfrm>
            <a:off x="357120" y="1357200"/>
            <a:ext cx="140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Obvious</a:t>
            </a:r>
            <a:endParaRPr b="0" lang="en-US" sz="2400" spc="-1" strike="noStrike">
              <a:solidFill>
                <a:srgbClr val="000000"/>
              </a:solidFill>
              <a:latin typeface="Calibri"/>
            </a:endParaRPr>
          </a:p>
        </p:txBody>
      </p:sp>
      <p:sp>
        <p:nvSpPr>
          <p:cNvPr id="897" name="Text Box 13"/>
          <p:cNvSpPr/>
          <p:nvPr/>
        </p:nvSpPr>
        <p:spPr>
          <a:xfrm>
            <a:off x="179280" y="318600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Les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Obvious</a:t>
            </a:r>
            <a:endParaRPr b="0" lang="en-US" sz="2400" spc="-1" strike="noStrike">
              <a:solidFill>
                <a:srgbClr val="000000"/>
              </a:solidFill>
              <a:latin typeface="Calibri"/>
            </a:endParaRPr>
          </a:p>
        </p:txBody>
      </p:sp>
      <p:sp>
        <p:nvSpPr>
          <p:cNvPr id="898" name="Text Box 4"/>
          <p:cNvSpPr/>
          <p:nvPr/>
        </p:nvSpPr>
        <p:spPr>
          <a:xfrm>
            <a:off x="7020000" y="2889360"/>
            <a:ext cx="20160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Beliefs, values, </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attitudes, storie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thought patterns, </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icit &amp;      unconscious)</a:t>
            </a:r>
            <a:endParaRPr b="0" lang="en-US" sz="2400" spc="-1" strike="noStrike">
              <a:solidFill>
                <a:srgbClr val="000000"/>
              </a:solidFill>
              <a:latin typeface="Calibri"/>
            </a:endParaRPr>
          </a:p>
        </p:txBody>
      </p:sp>
      <p:sp>
        <p:nvSpPr>
          <p:cNvPr id="899" name="Text Box 4"/>
          <p:cNvSpPr/>
          <p:nvPr/>
        </p:nvSpPr>
        <p:spPr>
          <a:xfrm>
            <a:off x="6072120" y="476280"/>
            <a:ext cx="3071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see, hear, smell &amp; touch</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licit &amp; consciou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18"/>
          <p:cNvSpPr/>
          <p:nvPr/>
        </p:nvSpPr>
        <p:spPr>
          <a:xfrm>
            <a:off x="0" y="2714760"/>
            <a:ext cx="9144000" cy="435744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Freeform 19"/>
          <p:cNvSpPr/>
          <p:nvPr/>
        </p:nvSpPr>
        <p:spPr>
          <a:xfrm>
            <a:off x="1428840" y="6870600"/>
            <a:ext cx="360" cy="360"/>
          </a:xfrm>
          <a:custGeom>
            <a:avLst/>
            <a:gdLst/>
            <a:ahLst/>
            <a:rect l="l" t="t" r="r" b="b"/>
            <a:pathLst>
              <a:path w="0" h="0">
                <a:moveTo>
                  <a:pt x="0" y="0"/>
                </a:moveTo>
                <a:lnTo>
                  <a:pt x="0" y="0"/>
                </a:lnTo>
              </a:path>
            </a:pathLst>
          </a:custGeom>
          <a:noFill/>
          <a:ln w="6480">
            <a:solidFill>
              <a:srgbClr val="4472c4"/>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sp>
        <p:nvSpPr>
          <p:cNvPr id="902" name="Text Box 7"/>
          <p:cNvSpPr/>
          <p:nvPr/>
        </p:nvSpPr>
        <p:spPr>
          <a:xfrm>
            <a:off x="1785960" y="2786040"/>
            <a:ext cx="51433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cept of Time, Work Ethic,</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ligious Beliefs, Definitions of Sin,</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zational Attitudes and Practice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cept of Justice, Courtship Practices, </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anings about Clothing, Concept of Cleanlines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903" name="Group 47"/>
          <p:cNvGrpSpPr/>
          <p:nvPr/>
        </p:nvGrpSpPr>
        <p:grpSpPr>
          <a:xfrm>
            <a:off x="0" y="2643120"/>
            <a:ext cx="9144000" cy="142920"/>
            <a:chOff x="0" y="2643120"/>
            <a:chExt cx="9144000" cy="142920"/>
          </a:xfrm>
        </p:grpSpPr>
        <p:grpSp>
          <p:nvGrpSpPr>
            <p:cNvPr id="904" name="Group 48"/>
            <p:cNvGrpSpPr/>
            <p:nvPr/>
          </p:nvGrpSpPr>
          <p:grpSpPr>
            <a:xfrm>
              <a:off x="0" y="2643120"/>
              <a:ext cx="4245120" cy="142920"/>
              <a:chOff x="0" y="2643120"/>
              <a:chExt cx="4245120" cy="142920"/>
            </a:xfrm>
          </p:grpSpPr>
          <p:grpSp>
            <p:nvGrpSpPr>
              <p:cNvPr id="905" name="Group 49"/>
              <p:cNvGrpSpPr/>
              <p:nvPr/>
            </p:nvGrpSpPr>
            <p:grpSpPr>
              <a:xfrm>
                <a:off x="0" y="2643120"/>
                <a:ext cx="978840" cy="142920"/>
                <a:chOff x="0" y="2643120"/>
                <a:chExt cx="978840" cy="142920"/>
              </a:xfrm>
            </p:grpSpPr>
            <p:sp>
              <p:nvSpPr>
                <p:cNvPr id="906" name="Freeform 50"/>
                <p:cNvSpPr/>
                <p:nvPr/>
              </p:nvSpPr>
              <p:spPr>
                <a:xfrm>
                  <a:off x="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Freeform 51"/>
                <p:cNvSpPr/>
                <p:nvPr/>
              </p:nvSpPr>
              <p:spPr>
                <a:xfrm flipH="1">
                  <a:off x="48996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08" name="Group 52"/>
              <p:cNvGrpSpPr/>
              <p:nvPr/>
            </p:nvGrpSpPr>
            <p:grpSpPr>
              <a:xfrm>
                <a:off x="816480" y="2643120"/>
                <a:ext cx="978840" cy="142920"/>
                <a:chOff x="816480" y="2643120"/>
                <a:chExt cx="978840" cy="142920"/>
              </a:xfrm>
            </p:grpSpPr>
            <p:sp>
              <p:nvSpPr>
                <p:cNvPr id="909" name="Freeform 53"/>
                <p:cNvSpPr/>
                <p:nvPr/>
              </p:nvSpPr>
              <p:spPr>
                <a:xfrm>
                  <a:off x="8164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Freeform 54"/>
                <p:cNvSpPr/>
                <p:nvPr/>
              </p:nvSpPr>
              <p:spPr>
                <a:xfrm flipH="1">
                  <a:off x="13064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11" name="Group 55"/>
              <p:cNvGrpSpPr/>
              <p:nvPr/>
            </p:nvGrpSpPr>
            <p:grpSpPr>
              <a:xfrm>
                <a:off x="1632960" y="2643120"/>
                <a:ext cx="978840" cy="142920"/>
                <a:chOff x="1632960" y="2643120"/>
                <a:chExt cx="978840" cy="142920"/>
              </a:xfrm>
            </p:grpSpPr>
            <p:sp>
              <p:nvSpPr>
                <p:cNvPr id="912" name="Freeform 56"/>
                <p:cNvSpPr/>
                <p:nvPr/>
              </p:nvSpPr>
              <p:spPr>
                <a:xfrm>
                  <a:off x="163296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Freeform 57"/>
                <p:cNvSpPr/>
                <p:nvPr/>
              </p:nvSpPr>
              <p:spPr>
                <a:xfrm flipH="1">
                  <a:off x="212292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14" name="Group 58"/>
              <p:cNvGrpSpPr/>
              <p:nvPr/>
            </p:nvGrpSpPr>
            <p:grpSpPr>
              <a:xfrm>
                <a:off x="2449440" y="2643120"/>
                <a:ext cx="978840" cy="142920"/>
                <a:chOff x="2449440" y="2643120"/>
                <a:chExt cx="978840" cy="142920"/>
              </a:xfrm>
            </p:grpSpPr>
            <p:sp>
              <p:nvSpPr>
                <p:cNvPr id="915" name="Freeform 59"/>
                <p:cNvSpPr/>
                <p:nvPr/>
              </p:nvSpPr>
              <p:spPr>
                <a:xfrm>
                  <a:off x="244944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6" name="Freeform 60"/>
                <p:cNvSpPr/>
                <p:nvPr/>
              </p:nvSpPr>
              <p:spPr>
                <a:xfrm flipH="1">
                  <a:off x="293940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17" name="Group 61"/>
              <p:cNvGrpSpPr/>
              <p:nvPr/>
            </p:nvGrpSpPr>
            <p:grpSpPr>
              <a:xfrm>
                <a:off x="3266280" y="2643120"/>
                <a:ext cx="978840" cy="142920"/>
                <a:chOff x="3266280" y="2643120"/>
                <a:chExt cx="978840" cy="142920"/>
              </a:xfrm>
            </p:grpSpPr>
            <p:sp>
              <p:nvSpPr>
                <p:cNvPr id="918" name="Freeform 62"/>
                <p:cNvSpPr/>
                <p:nvPr/>
              </p:nvSpPr>
              <p:spPr>
                <a:xfrm>
                  <a:off x="32662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Freeform 63"/>
                <p:cNvSpPr/>
                <p:nvPr/>
              </p:nvSpPr>
              <p:spPr>
                <a:xfrm flipH="1">
                  <a:off x="37562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920" name="Group 64"/>
            <p:cNvGrpSpPr/>
            <p:nvPr/>
          </p:nvGrpSpPr>
          <p:grpSpPr>
            <a:xfrm>
              <a:off x="4082400" y="2643120"/>
              <a:ext cx="978840" cy="142920"/>
              <a:chOff x="4082400" y="2643120"/>
              <a:chExt cx="978840" cy="142920"/>
            </a:xfrm>
          </p:grpSpPr>
          <p:sp>
            <p:nvSpPr>
              <p:cNvPr id="921" name="Freeform 65"/>
              <p:cNvSpPr/>
              <p:nvPr/>
            </p:nvSpPr>
            <p:spPr>
              <a:xfrm>
                <a:off x="408240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Freeform 66"/>
              <p:cNvSpPr/>
              <p:nvPr/>
            </p:nvSpPr>
            <p:spPr>
              <a:xfrm flipH="1">
                <a:off x="457236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23" name="Group 67"/>
            <p:cNvGrpSpPr/>
            <p:nvPr/>
          </p:nvGrpSpPr>
          <p:grpSpPr>
            <a:xfrm>
              <a:off x="4898880" y="2643120"/>
              <a:ext cx="978840" cy="142920"/>
              <a:chOff x="4898880" y="2643120"/>
              <a:chExt cx="978840" cy="142920"/>
            </a:xfrm>
          </p:grpSpPr>
          <p:sp>
            <p:nvSpPr>
              <p:cNvPr id="924" name="Freeform 68"/>
              <p:cNvSpPr/>
              <p:nvPr/>
            </p:nvSpPr>
            <p:spPr>
              <a:xfrm>
                <a:off x="48988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5" name="Freeform 69"/>
              <p:cNvSpPr/>
              <p:nvPr/>
            </p:nvSpPr>
            <p:spPr>
              <a:xfrm flipH="1">
                <a:off x="53888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26" name="Group 70"/>
            <p:cNvGrpSpPr/>
            <p:nvPr/>
          </p:nvGrpSpPr>
          <p:grpSpPr>
            <a:xfrm>
              <a:off x="5715720" y="2643120"/>
              <a:ext cx="978840" cy="142920"/>
              <a:chOff x="5715720" y="2643120"/>
              <a:chExt cx="978840" cy="142920"/>
            </a:xfrm>
          </p:grpSpPr>
          <p:sp>
            <p:nvSpPr>
              <p:cNvPr id="927" name="Freeform 71"/>
              <p:cNvSpPr/>
              <p:nvPr/>
            </p:nvSpPr>
            <p:spPr>
              <a:xfrm>
                <a:off x="571572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8" name="Freeform 72"/>
              <p:cNvSpPr/>
              <p:nvPr/>
            </p:nvSpPr>
            <p:spPr>
              <a:xfrm flipH="1">
                <a:off x="620568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29" name="Group 73"/>
            <p:cNvGrpSpPr/>
            <p:nvPr/>
          </p:nvGrpSpPr>
          <p:grpSpPr>
            <a:xfrm>
              <a:off x="6532200" y="2643120"/>
              <a:ext cx="978840" cy="142920"/>
              <a:chOff x="6532200" y="2643120"/>
              <a:chExt cx="978840" cy="142920"/>
            </a:xfrm>
          </p:grpSpPr>
          <p:sp>
            <p:nvSpPr>
              <p:cNvPr id="930" name="Freeform 74"/>
              <p:cNvSpPr/>
              <p:nvPr/>
            </p:nvSpPr>
            <p:spPr>
              <a:xfrm>
                <a:off x="653220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Freeform 75"/>
              <p:cNvSpPr/>
              <p:nvPr/>
            </p:nvSpPr>
            <p:spPr>
              <a:xfrm flipH="1">
                <a:off x="702216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32" name="Group 76"/>
            <p:cNvGrpSpPr/>
            <p:nvPr/>
          </p:nvGrpSpPr>
          <p:grpSpPr>
            <a:xfrm>
              <a:off x="7348680" y="2643120"/>
              <a:ext cx="978840" cy="142920"/>
              <a:chOff x="7348680" y="2643120"/>
              <a:chExt cx="978840" cy="142920"/>
            </a:xfrm>
          </p:grpSpPr>
          <p:sp>
            <p:nvSpPr>
              <p:cNvPr id="933" name="Freeform 77"/>
              <p:cNvSpPr/>
              <p:nvPr/>
            </p:nvSpPr>
            <p:spPr>
              <a:xfrm>
                <a:off x="734868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4" name="Freeform 78"/>
              <p:cNvSpPr/>
              <p:nvPr/>
            </p:nvSpPr>
            <p:spPr>
              <a:xfrm flipH="1">
                <a:off x="783864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35" name="Group 79"/>
            <p:cNvGrpSpPr/>
            <p:nvPr/>
          </p:nvGrpSpPr>
          <p:grpSpPr>
            <a:xfrm>
              <a:off x="8165160" y="2643120"/>
              <a:ext cx="978840" cy="142920"/>
              <a:chOff x="8165160" y="2643120"/>
              <a:chExt cx="978840" cy="142920"/>
            </a:xfrm>
          </p:grpSpPr>
          <p:sp>
            <p:nvSpPr>
              <p:cNvPr id="936" name="Freeform 80"/>
              <p:cNvSpPr/>
              <p:nvPr/>
            </p:nvSpPr>
            <p:spPr>
              <a:xfrm>
                <a:off x="8165160" y="2643120"/>
                <a:ext cx="488880" cy="142920"/>
              </a:xfrm>
              <a:custGeom>
                <a:avLst/>
                <a:gdLst>
                  <a:gd name="textAreaLeft" fmla="*/ 0 w 488880"/>
                  <a:gd name="textAreaRight" fmla="*/ 48924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7" name="Freeform 81"/>
              <p:cNvSpPr/>
              <p:nvPr/>
            </p:nvSpPr>
            <p:spPr>
              <a:xfrm flipH="1">
                <a:off x="8655120" y="2643120"/>
                <a:ext cx="488880" cy="142920"/>
              </a:xfrm>
              <a:custGeom>
                <a:avLst/>
                <a:gdLst>
                  <a:gd name="textAreaLeft" fmla="*/ 360 w 488880"/>
                  <a:gd name="textAreaRight" fmla="*/ 489600 w 488880"/>
                  <a:gd name="textAreaTop" fmla="*/ 0 h 142920"/>
                  <a:gd name="textAreaBottom" fmla="*/ 143280 h 142920"/>
                </a:gdLst>
                <a:ahLst/>
                <a:rect l="textAreaLeft" t="textAreaTop" r="textAreaRight" b="textAreaBottom"/>
                <a:pathLst>
                  <a:path w="560" h="260">
                    <a:moveTo>
                      <a:pt x="0" y="240"/>
                    </a:moveTo>
                    <a:cubicBezTo>
                      <a:pt x="51" y="237"/>
                      <a:pt x="195" y="260"/>
                      <a:pt x="288" y="220"/>
                    </a:cubicBezTo>
                    <a:cubicBezTo>
                      <a:pt x="381" y="180"/>
                      <a:pt x="503" y="46"/>
                      <a:pt x="5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938" name="Text Box 4"/>
          <p:cNvSpPr/>
          <p:nvPr/>
        </p:nvSpPr>
        <p:spPr>
          <a:xfrm>
            <a:off x="357120" y="1357200"/>
            <a:ext cx="27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Obvious</a:t>
            </a:r>
            <a:endParaRPr b="0" lang="en-US" sz="2400" spc="-1" strike="noStrike">
              <a:solidFill>
                <a:srgbClr val="000000"/>
              </a:solidFill>
              <a:latin typeface="Calibri"/>
            </a:endParaRPr>
          </a:p>
        </p:txBody>
      </p:sp>
      <p:sp>
        <p:nvSpPr>
          <p:cNvPr id="939" name="Text Box 13"/>
          <p:cNvSpPr/>
          <p:nvPr/>
        </p:nvSpPr>
        <p:spPr>
          <a:xfrm>
            <a:off x="357120" y="3186000"/>
            <a:ext cx="140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Les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Obvious</a:t>
            </a:r>
            <a:endParaRPr b="0" lang="en-US" sz="2400" spc="-1" strike="noStrike">
              <a:solidFill>
                <a:srgbClr val="000000"/>
              </a:solidFill>
              <a:latin typeface="Calibri"/>
            </a:endParaRPr>
          </a:p>
        </p:txBody>
      </p:sp>
      <p:sp>
        <p:nvSpPr>
          <p:cNvPr id="940" name="TextBox 50"/>
          <p:cNvSpPr/>
          <p:nvPr/>
        </p:nvSpPr>
        <p:spPr>
          <a:xfrm>
            <a:off x="0" y="4589640"/>
            <a:ext cx="8643960" cy="252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ories on Disease, Concepts of Past &amp; Future</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titudes to New Things, New People and Change</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titudes &amp; Relationships to Hierarchies and Authority </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tterns of Superior / Subordinate Behaviour (on job or otherwise)</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mily Roles &amp; Responsibilities,  Traditional Roles of Men and Women</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d much mo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1" name="Freeform 52"/>
          <p:cNvSpPr/>
          <p:nvPr/>
        </p:nvSpPr>
        <p:spPr>
          <a:xfrm>
            <a:off x="-533520" y="0"/>
            <a:ext cx="9929880" cy="6932520"/>
          </a:xfrm>
          <a:custGeom>
            <a:avLst/>
            <a:gdLst>
              <a:gd name="textAreaLeft" fmla="*/ 0 w 9929880"/>
              <a:gd name="textAreaRight" fmla="*/ 9930240 w 9929880"/>
              <a:gd name="textAreaTop" fmla="*/ 0 h 6932520"/>
              <a:gd name="textAreaBottom" fmla="*/ 6932880 h 6932520"/>
            </a:gdLst>
            <a:ahLst/>
            <a:rect l="textAreaLeft" t="textAreaTop" r="textAreaRight" b="textAreaBottom"/>
            <a:pathLst>
              <a:path w="9010835" h="6773662">
                <a:moveTo>
                  <a:pt x="0" y="6631619"/>
                </a:moveTo>
                <a:cubicBezTo>
                  <a:pt x="8878" y="6637538"/>
                  <a:pt x="16413" y="6646309"/>
                  <a:pt x="26633" y="6649375"/>
                </a:cubicBezTo>
                <a:cubicBezTo>
                  <a:pt x="83142" y="6666328"/>
                  <a:pt x="127283" y="6654752"/>
                  <a:pt x="186431" y="6649375"/>
                </a:cubicBezTo>
                <a:cubicBezTo>
                  <a:pt x="204186" y="6637538"/>
                  <a:pt x="232949" y="6634108"/>
                  <a:pt x="239697" y="6613864"/>
                </a:cubicBezTo>
                <a:cubicBezTo>
                  <a:pt x="245615" y="6596109"/>
                  <a:pt x="244218" y="6573832"/>
                  <a:pt x="257452" y="6560598"/>
                </a:cubicBezTo>
                <a:cubicBezTo>
                  <a:pt x="294204" y="6523846"/>
                  <a:pt x="291070" y="6530328"/>
                  <a:pt x="319596" y="6489576"/>
                </a:cubicBezTo>
                <a:cubicBezTo>
                  <a:pt x="331833" y="6472094"/>
                  <a:pt x="340017" y="6451399"/>
                  <a:pt x="355106" y="6436310"/>
                </a:cubicBezTo>
                <a:cubicBezTo>
                  <a:pt x="401226" y="6390193"/>
                  <a:pt x="336196" y="6456894"/>
                  <a:pt x="399495" y="6383044"/>
                </a:cubicBezTo>
                <a:cubicBezTo>
                  <a:pt x="407666" y="6373512"/>
                  <a:pt x="417957" y="6365943"/>
                  <a:pt x="426128" y="6356411"/>
                </a:cubicBezTo>
                <a:cubicBezTo>
                  <a:pt x="435757" y="6345177"/>
                  <a:pt x="442931" y="6331960"/>
                  <a:pt x="452761" y="6320901"/>
                </a:cubicBezTo>
                <a:cubicBezTo>
                  <a:pt x="466663" y="6305261"/>
                  <a:pt x="479738" y="6288119"/>
                  <a:pt x="497149" y="6276512"/>
                </a:cubicBezTo>
                <a:cubicBezTo>
                  <a:pt x="514904" y="6264675"/>
                  <a:pt x="535326" y="6256091"/>
                  <a:pt x="550415" y="6241002"/>
                </a:cubicBezTo>
                <a:cubicBezTo>
                  <a:pt x="657298" y="6134119"/>
                  <a:pt x="504813" y="6283122"/>
                  <a:pt x="603681" y="6196613"/>
                </a:cubicBezTo>
                <a:cubicBezTo>
                  <a:pt x="645230" y="6160258"/>
                  <a:pt x="641758" y="6161693"/>
                  <a:pt x="665825" y="6125592"/>
                </a:cubicBezTo>
                <a:cubicBezTo>
                  <a:pt x="662866" y="6087122"/>
                  <a:pt x="656947" y="6048766"/>
                  <a:pt x="656947" y="6010182"/>
                </a:cubicBezTo>
                <a:cubicBezTo>
                  <a:pt x="656947" y="5933185"/>
                  <a:pt x="660527" y="5856177"/>
                  <a:pt x="665825" y="5779363"/>
                </a:cubicBezTo>
                <a:cubicBezTo>
                  <a:pt x="666469" y="5770027"/>
                  <a:pt x="670158" y="5760910"/>
                  <a:pt x="674703" y="5752730"/>
                </a:cubicBezTo>
                <a:cubicBezTo>
                  <a:pt x="686068" y="5732273"/>
                  <a:pt x="706415" y="5698952"/>
                  <a:pt x="727969" y="5681709"/>
                </a:cubicBezTo>
                <a:cubicBezTo>
                  <a:pt x="736301" y="5675044"/>
                  <a:pt x="746627" y="5671042"/>
                  <a:pt x="754602" y="5663953"/>
                </a:cubicBezTo>
                <a:cubicBezTo>
                  <a:pt x="845813" y="5582876"/>
                  <a:pt x="774058" y="5633227"/>
                  <a:pt x="834501" y="5592932"/>
                </a:cubicBezTo>
                <a:cubicBezTo>
                  <a:pt x="847683" y="5573159"/>
                  <a:pt x="851941" y="5562999"/>
                  <a:pt x="870011" y="5548543"/>
                </a:cubicBezTo>
                <a:cubicBezTo>
                  <a:pt x="878342" y="5541878"/>
                  <a:pt x="887766" y="5536706"/>
                  <a:pt x="896644" y="5530788"/>
                </a:cubicBezTo>
                <a:cubicBezTo>
                  <a:pt x="902563" y="5521910"/>
                  <a:pt x="906855" y="5511700"/>
                  <a:pt x="914400" y="5504155"/>
                </a:cubicBezTo>
                <a:cubicBezTo>
                  <a:pt x="921945" y="5496611"/>
                  <a:pt x="932702" y="5493065"/>
                  <a:pt x="941033" y="5486400"/>
                </a:cubicBezTo>
                <a:cubicBezTo>
                  <a:pt x="947569" y="5481171"/>
                  <a:pt x="952870" y="5474563"/>
                  <a:pt x="958788" y="5468644"/>
                </a:cubicBezTo>
                <a:cubicBezTo>
                  <a:pt x="977388" y="5394248"/>
                  <a:pt x="953762" y="5462867"/>
                  <a:pt x="985421" y="5415378"/>
                </a:cubicBezTo>
                <a:cubicBezTo>
                  <a:pt x="992762" y="5404367"/>
                  <a:pt x="997963" y="5392032"/>
                  <a:pt x="1003176" y="5379868"/>
                </a:cubicBezTo>
                <a:cubicBezTo>
                  <a:pt x="1006862" y="5371267"/>
                  <a:pt x="1007239" y="5361259"/>
                  <a:pt x="1012054" y="5353235"/>
                </a:cubicBezTo>
                <a:cubicBezTo>
                  <a:pt x="1016360" y="5346058"/>
                  <a:pt x="1023891" y="5341398"/>
                  <a:pt x="1029809" y="5335479"/>
                </a:cubicBezTo>
                <a:cubicBezTo>
                  <a:pt x="1032768" y="5326601"/>
                  <a:pt x="1032841" y="5316153"/>
                  <a:pt x="1038687" y="5308846"/>
                </a:cubicBezTo>
                <a:cubicBezTo>
                  <a:pt x="1045352" y="5300515"/>
                  <a:pt x="1056056" y="5296384"/>
                  <a:pt x="1065320" y="5291091"/>
                </a:cubicBezTo>
                <a:cubicBezTo>
                  <a:pt x="1076810" y="5284525"/>
                  <a:pt x="1088543" y="5278251"/>
                  <a:pt x="1100831" y="5273336"/>
                </a:cubicBezTo>
                <a:cubicBezTo>
                  <a:pt x="1118208" y="5266385"/>
                  <a:pt x="1137357" y="5263950"/>
                  <a:pt x="1154097" y="5255580"/>
                </a:cubicBezTo>
                <a:cubicBezTo>
                  <a:pt x="1197977" y="5233640"/>
                  <a:pt x="1177052" y="5242010"/>
                  <a:pt x="1216240" y="5228947"/>
                </a:cubicBezTo>
                <a:cubicBezTo>
                  <a:pt x="1237274" y="5207914"/>
                  <a:pt x="1259466" y="5188045"/>
                  <a:pt x="1269506" y="5157926"/>
                </a:cubicBezTo>
                <a:cubicBezTo>
                  <a:pt x="1272465" y="5149048"/>
                  <a:pt x="1275813" y="5140291"/>
                  <a:pt x="1278384" y="5131293"/>
                </a:cubicBezTo>
                <a:cubicBezTo>
                  <a:pt x="1281736" y="5119561"/>
                  <a:pt x="1282456" y="5106997"/>
                  <a:pt x="1287262" y="5095782"/>
                </a:cubicBezTo>
                <a:cubicBezTo>
                  <a:pt x="1291465" y="5085975"/>
                  <a:pt x="1300245" y="5078692"/>
                  <a:pt x="1305017" y="5069149"/>
                </a:cubicBezTo>
                <a:cubicBezTo>
                  <a:pt x="1309202" y="5060779"/>
                  <a:pt x="1309710" y="5050886"/>
                  <a:pt x="1313895" y="5042516"/>
                </a:cubicBezTo>
                <a:cubicBezTo>
                  <a:pt x="1318667" y="5032973"/>
                  <a:pt x="1326878" y="5025426"/>
                  <a:pt x="1331650" y="5015883"/>
                </a:cubicBezTo>
                <a:cubicBezTo>
                  <a:pt x="1353527" y="4972130"/>
                  <a:pt x="1324364" y="5005015"/>
                  <a:pt x="1358283" y="4962617"/>
                </a:cubicBezTo>
                <a:cubicBezTo>
                  <a:pt x="1380306" y="4935089"/>
                  <a:pt x="1375575" y="4954667"/>
                  <a:pt x="1393794" y="4918229"/>
                </a:cubicBezTo>
                <a:cubicBezTo>
                  <a:pt x="1397979" y="4909859"/>
                  <a:pt x="1398487" y="4899966"/>
                  <a:pt x="1402672" y="4891596"/>
                </a:cubicBezTo>
                <a:cubicBezTo>
                  <a:pt x="1407444" y="4882053"/>
                  <a:pt x="1415655" y="4874506"/>
                  <a:pt x="1420427" y="4864963"/>
                </a:cubicBezTo>
                <a:cubicBezTo>
                  <a:pt x="1424612" y="4856593"/>
                  <a:pt x="1425619" y="4846931"/>
                  <a:pt x="1429305" y="4838330"/>
                </a:cubicBezTo>
                <a:cubicBezTo>
                  <a:pt x="1434518" y="4826166"/>
                  <a:pt x="1441847" y="4814983"/>
                  <a:pt x="1447060" y="4802819"/>
                </a:cubicBezTo>
                <a:cubicBezTo>
                  <a:pt x="1450746" y="4794218"/>
                  <a:pt x="1451753" y="4784556"/>
                  <a:pt x="1455938" y="4776186"/>
                </a:cubicBezTo>
                <a:cubicBezTo>
                  <a:pt x="1460710" y="4766643"/>
                  <a:pt x="1468921" y="4759096"/>
                  <a:pt x="1473693" y="4749553"/>
                </a:cubicBezTo>
                <a:cubicBezTo>
                  <a:pt x="1477878" y="4741183"/>
                  <a:pt x="1480000" y="4731918"/>
                  <a:pt x="1482571" y="4722920"/>
                </a:cubicBezTo>
                <a:cubicBezTo>
                  <a:pt x="1485923" y="4711188"/>
                  <a:pt x="1485991" y="4698322"/>
                  <a:pt x="1491448" y="4687409"/>
                </a:cubicBezTo>
                <a:cubicBezTo>
                  <a:pt x="1495191" y="4679923"/>
                  <a:pt x="1503975" y="4676190"/>
                  <a:pt x="1509204" y="4669654"/>
                </a:cubicBezTo>
                <a:cubicBezTo>
                  <a:pt x="1565165" y="4599705"/>
                  <a:pt x="1485794" y="4683378"/>
                  <a:pt x="1553592" y="4625266"/>
                </a:cubicBezTo>
                <a:cubicBezTo>
                  <a:pt x="1566302" y="4614372"/>
                  <a:pt x="1577266" y="4601592"/>
                  <a:pt x="1589103" y="4589755"/>
                </a:cubicBezTo>
                <a:lnTo>
                  <a:pt x="1642369" y="4536489"/>
                </a:lnTo>
                <a:cubicBezTo>
                  <a:pt x="1651247" y="4527611"/>
                  <a:pt x="1658556" y="4516820"/>
                  <a:pt x="1669002" y="4509856"/>
                </a:cubicBezTo>
                <a:cubicBezTo>
                  <a:pt x="1677880" y="4503938"/>
                  <a:pt x="1687605" y="4499127"/>
                  <a:pt x="1695635" y="4492101"/>
                </a:cubicBezTo>
                <a:cubicBezTo>
                  <a:pt x="1711383" y="4478322"/>
                  <a:pt x="1740023" y="4447712"/>
                  <a:pt x="1740023" y="4447712"/>
                </a:cubicBezTo>
                <a:cubicBezTo>
                  <a:pt x="1742982" y="4438834"/>
                  <a:pt x="1748901" y="4430437"/>
                  <a:pt x="1748901" y="4421079"/>
                </a:cubicBezTo>
                <a:cubicBezTo>
                  <a:pt x="1748901" y="4417209"/>
                  <a:pt x="1735331" y="4365913"/>
                  <a:pt x="1731145" y="4358936"/>
                </a:cubicBezTo>
                <a:cubicBezTo>
                  <a:pt x="1726839" y="4351759"/>
                  <a:pt x="1719308" y="4347099"/>
                  <a:pt x="1713390" y="4341180"/>
                </a:cubicBezTo>
                <a:cubicBezTo>
                  <a:pt x="1679704" y="4240120"/>
                  <a:pt x="1689016" y="4289697"/>
                  <a:pt x="1704512" y="4119239"/>
                </a:cubicBezTo>
                <a:cubicBezTo>
                  <a:pt x="1705958" y="4103331"/>
                  <a:pt x="1715788" y="4082529"/>
                  <a:pt x="1731145" y="4074850"/>
                </a:cubicBezTo>
                <a:cubicBezTo>
                  <a:pt x="1770138" y="4055353"/>
                  <a:pt x="1804035" y="4054291"/>
                  <a:pt x="1846555" y="4048217"/>
                </a:cubicBezTo>
                <a:cubicBezTo>
                  <a:pt x="1855433" y="4045258"/>
                  <a:pt x="1865008" y="4043885"/>
                  <a:pt x="1873188" y="4039340"/>
                </a:cubicBezTo>
                <a:cubicBezTo>
                  <a:pt x="1891842" y="4028977"/>
                  <a:pt x="1908699" y="4015666"/>
                  <a:pt x="1926454" y="4003829"/>
                </a:cubicBezTo>
                <a:lnTo>
                  <a:pt x="1953087" y="3986074"/>
                </a:lnTo>
                <a:cubicBezTo>
                  <a:pt x="1961965" y="3980155"/>
                  <a:pt x="1969598" y="3971692"/>
                  <a:pt x="1979720" y="3968318"/>
                </a:cubicBezTo>
                <a:lnTo>
                  <a:pt x="2006353" y="3959441"/>
                </a:lnTo>
                <a:cubicBezTo>
                  <a:pt x="2041363" y="3924429"/>
                  <a:pt x="2022078" y="3949805"/>
                  <a:pt x="2041864" y="3870664"/>
                </a:cubicBezTo>
                <a:cubicBezTo>
                  <a:pt x="2047782" y="3861786"/>
                  <a:pt x="2054847" y="3853574"/>
                  <a:pt x="2059619" y="3844031"/>
                </a:cubicBezTo>
                <a:cubicBezTo>
                  <a:pt x="2078937" y="3805395"/>
                  <a:pt x="2055467" y="3824987"/>
                  <a:pt x="2086252" y="3781887"/>
                </a:cubicBezTo>
                <a:cubicBezTo>
                  <a:pt x="2118978" y="3736071"/>
                  <a:pt x="2107155" y="3775592"/>
                  <a:pt x="2130640" y="3728621"/>
                </a:cubicBezTo>
                <a:cubicBezTo>
                  <a:pt x="2134825" y="3720251"/>
                  <a:pt x="2133672" y="3709295"/>
                  <a:pt x="2139518" y="3701988"/>
                </a:cubicBezTo>
                <a:cubicBezTo>
                  <a:pt x="2158435" y="3678342"/>
                  <a:pt x="2169626" y="3688221"/>
                  <a:pt x="2192784" y="3675355"/>
                </a:cubicBezTo>
                <a:cubicBezTo>
                  <a:pt x="2211438" y="3664992"/>
                  <a:pt x="2230961" y="3654933"/>
                  <a:pt x="2246050" y="3639844"/>
                </a:cubicBezTo>
                <a:lnTo>
                  <a:pt x="2317072" y="3568823"/>
                </a:lnTo>
                <a:lnTo>
                  <a:pt x="2343705" y="3542190"/>
                </a:lnTo>
                <a:cubicBezTo>
                  <a:pt x="2352583" y="3533312"/>
                  <a:pt x="2359892" y="3522521"/>
                  <a:pt x="2370338" y="3515557"/>
                </a:cubicBezTo>
                <a:lnTo>
                  <a:pt x="2396971" y="3497802"/>
                </a:lnTo>
                <a:cubicBezTo>
                  <a:pt x="2405431" y="3472421"/>
                  <a:pt x="2409153" y="3463522"/>
                  <a:pt x="2414726" y="3435658"/>
                </a:cubicBezTo>
                <a:cubicBezTo>
                  <a:pt x="2418256" y="3418007"/>
                  <a:pt x="2419699" y="3399964"/>
                  <a:pt x="2423604" y="3382392"/>
                </a:cubicBezTo>
                <a:cubicBezTo>
                  <a:pt x="2425634" y="3373257"/>
                  <a:pt x="2430019" y="3364787"/>
                  <a:pt x="2432481" y="3355759"/>
                </a:cubicBezTo>
                <a:cubicBezTo>
                  <a:pt x="2438902" y="3332217"/>
                  <a:pt x="2442521" y="3307888"/>
                  <a:pt x="2450237" y="3284738"/>
                </a:cubicBezTo>
                <a:cubicBezTo>
                  <a:pt x="2471528" y="3220861"/>
                  <a:pt x="2445689" y="3300652"/>
                  <a:pt x="2467992" y="3222594"/>
                </a:cubicBezTo>
                <a:cubicBezTo>
                  <a:pt x="2486190" y="3158902"/>
                  <a:pt x="2467701" y="3241811"/>
                  <a:pt x="2485747" y="3151573"/>
                </a:cubicBezTo>
                <a:cubicBezTo>
                  <a:pt x="2482788" y="3139736"/>
                  <a:pt x="2480222" y="3127794"/>
                  <a:pt x="2476870" y="3116062"/>
                </a:cubicBezTo>
                <a:cubicBezTo>
                  <a:pt x="2474299" y="3107064"/>
                  <a:pt x="2467992" y="3098787"/>
                  <a:pt x="2467992" y="3089429"/>
                </a:cubicBezTo>
                <a:cubicBezTo>
                  <a:pt x="2467992" y="3073077"/>
                  <a:pt x="2474816" y="3022515"/>
                  <a:pt x="2485747" y="3000652"/>
                </a:cubicBezTo>
                <a:cubicBezTo>
                  <a:pt x="2517779" y="2936588"/>
                  <a:pt x="2490130" y="3016331"/>
                  <a:pt x="2521258" y="2938509"/>
                </a:cubicBezTo>
                <a:cubicBezTo>
                  <a:pt x="2528209" y="2921132"/>
                  <a:pt x="2533095" y="2902998"/>
                  <a:pt x="2539013" y="2885242"/>
                </a:cubicBezTo>
                <a:cubicBezTo>
                  <a:pt x="2541972" y="2876364"/>
                  <a:pt x="2545621" y="2867687"/>
                  <a:pt x="2547891" y="2858609"/>
                </a:cubicBezTo>
                <a:cubicBezTo>
                  <a:pt x="2550850" y="2846772"/>
                  <a:pt x="2551963" y="2834313"/>
                  <a:pt x="2556769" y="2823099"/>
                </a:cubicBezTo>
                <a:cubicBezTo>
                  <a:pt x="2560972" y="2813292"/>
                  <a:pt x="2569752" y="2806009"/>
                  <a:pt x="2574524" y="2796466"/>
                </a:cubicBezTo>
                <a:cubicBezTo>
                  <a:pt x="2578709" y="2788096"/>
                  <a:pt x="2579217" y="2778203"/>
                  <a:pt x="2583402" y="2769833"/>
                </a:cubicBezTo>
                <a:cubicBezTo>
                  <a:pt x="2588174" y="2760290"/>
                  <a:pt x="2596824" y="2752950"/>
                  <a:pt x="2601157" y="2743200"/>
                </a:cubicBezTo>
                <a:cubicBezTo>
                  <a:pt x="2643413" y="2648123"/>
                  <a:pt x="2596486" y="2723572"/>
                  <a:pt x="2636668" y="2663301"/>
                </a:cubicBezTo>
                <a:cubicBezTo>
                  <a:pt x="2650085" y="2609627"/>
                  <a:pt x="2641684" y="2639375"/>
                  <a:pt x="2663301" y="2574524"/>
                </a:cubicBezTo>
                <a:lnTo>
                  <a:pt x="2672178" y="2547891"/>
                </a:lnTo>
                <a:cubicBezTo>
                  <a:pt x="2669219" y="2497584"/>
                  <a:pt x="2668315" y="2447115"/>
                  <a:pt x="2663301" y="2396971"/>
                </a:cubicBezTo>
                <a:cubicBezTo>
                  <a:pt x="2662370" y="2387660"/>
                  <a:pt x="2654423" y="2379696"/>
                  <a:pt x="2654423" y="2370338"/>
                </a:cubicBezTo>
                <a:cubicBezTo>
                  <a:pt x="2654423" y="2337065"/>
                  <a:pt x="2662735" y="2274945"/>
                  <a:pt x="2672178" y="2237173"/>
                </a:cubicBezTo>
                <a:cubicBezTo>
                  <a:pt x="2674448" y="2228094"/>
                  <a:pt x="2678786" y="2219618"/>
                  <a:pt x="2681056" y="2210540"/>
                </a:cubicBezTo>
                <a:cubicBezTo>
                  <a:pt x="2695142" y="2154199"/>
                  <a:pt x="2685592" y="2161422"/>
                  <a:pt x="2707689" y="2095130"/>
                </a:cubicBezTo>
                <a:lnTo>
                  <a:pt x="2725444" y="2041864"/>
                </a:lnTo>
                <a:cubicBezTo>
                  <a:pt x="2728403" y="2032986"/>
                  <a:pt x="2730137" y="2023601"/>
                  <a:pt x="2734322" y="2015231"/>
                </a:cubicBezTo>
                <a:cubicBezTo>
                  <a:pt x="2740240" y="2003394"/>
                  <a:pt x="2747162" y="1992008"/>
                  <a:pt x="2752077" y="1979720"/>
                </a:cubicBezTo>
                <a:cubicBezTo>
                  <a:pt x="2759028" y="1962343"/>
                  <a:pt x="2763915" y="1944209"/>
                  <a:pt x="2769833" y="1926454"/>
                </a:cubicBezTo>
                <a:cubicBezTo>
                  <a:pt x="2772792" y="1917576"/>
                  <a:pt x="2774525" y="1908191"/>
                  <a:pt x="2778710" y="1899821"/>
                </a:cubicBezTo>
                <a:cubicBezTo>
                  <a:pt x="2784629" y="1887984"/>
                  <a:pt x="2791551" y="1876598"/>
                  <a:pt x="2796466" y="1864310"/>
                </a:cubicBezTo>
                <a:cubicBezTo>
                  <a:pt x="2803417" y="1846933"/>
                  <a:pt x="2808303" y="1828799"/>
                  <a:pt x="2814221" y="1811044"/>
                </a:cubicBezTo>
                <a:cubicBezTo>
                  <a:pt x="2817180" y="1802166"/>
                  <a:pt x="2820829" y="1793490"/>
                  <a:pt x="2823099" y="1784411"/>
                </a:cubicBezTo>
                <a:cubicBezTo>
                  <a:pt x="2826058" y="1772574"/>
                  <a:pt x="2827170" y="1760115"/>
                  <a:pt x="2831976" y="1748901"/>
                </a:cubicBezTo>
                <a:cubicBezTo>
                  <a:pt x="2836179" y="1739094"/>
                  <a:pt x="2843813" y="1731146"/>
                  <a:pt x="2849732" y="1722268"/>
                </a:cubicBezTo>
                <a:cubicBezTo>
                  <a:pt x="2870134" y="1661061"/>
                  <a:pt x="2854253" y="1682236"/>
                  <a:pt x="2885242" y="1651246"/>
                </a:cubicBezTo>
                <a:cubicBezTo>
                  <a:pt x="2891854" y="1631410"/>
                  <a:pt x="2900893" y="1588725"/>
                  <a:pt x="2920753" y="1571347"/>
                </a:cubicBezTo>
                <a:cubicBezTo>
                  <a:pt x="2936812" y="1557295"/>
                  <a:pt x="2958930" y="1550926"/>
                  <a:pt x="2974019" y="1535837"/>
                </a:cubicBezTo>
                <a:cubicBezTo>
                  <a:pt x="3002933" y="1506923"/>
                  <a:pt x="3009258" y="1505241"/>
                  <a:pt x="3027285" y="1473693"/>
                </a:cubicBezTo>
                <a:cubicBezTo>
                  <a:pt x="3081879" y="1378150"/>
                  <a:pt x="2993685" y="1515215"/>
                  <a:pt x="3080551" y="1384916"/>
                </a:cubicBezTo>
                <a:cubicBezTo>
                  <a:pt x="3086469" y="1376038"/>
                  <a:pt x="3094932" y="1368405"/>
                  <a:pt x="3098306" y="1358283"/>
                </a:cubicBezTo>
                <a:cubicBezTo>
                  <a:pt x="3104225" y="1340528"/>
                  <a:pt x="3105680" y="1320590"/>
                  <a:pt x="3116062" y="1305017"/>
                </a:cubicBezTo>
                <a:cubicBezTo>
                  <a:pt x="3121980" y="1296139"/>
                  <a:pt x="3129484" y="1288134"/>
                  <a:pt x="3133817" y="1278384"/>
                </a:cubicBezTo>
                <a:cubicBezTo>
                  <a:pt x="3141418" y="1261281"/>
                  <a:pt x="3147034" y="1243275"/>
                  <a:pt x="3151573" y="1225118"/>
                </a:cubicBezTo>
                <a:cubicBezTo>
                  <a:pt x="3154532" y="1213281"/>
                  <a:pt x="3155644" y="1200822"/>
                  <a:pt x="3160450" y="1189608"/>
                </a:cubicBezTo>
                <a:cubicBezTo>
                  <a:pt x="3164653" y="1179801"/>
                  <a:pt x="3172287" y="1171853"/>
                  <a:pt x="3178206" y="1162975"/>
                </a:cubicBezTo>
                <a:cubicBezTo>
                  <a:pt x="3181165" y="1151138"/>
                  <a:pt x="3183577" y="1139151"/>
                  <a:pt x="3187083" y="1127464"/>
                </a:cubicBezTo>
                <a:cubicBezTo>
                  <a:pt x="3192461" y="1109537"/>
                  <a:pt x="3200300" y="1092355"/>
                  <a:pt x="3204839" y="1074198"/>
                </a:cubicBezTo>
                <a:cubicBezTo>
                  <a:pt x="3207798" y="1062361"/>
                  <a:pt x="3208910" y="1049902"/>
                  <a:pt x="3213716" y="1038687"/>
                </a:cubicBezTo>
                <a:cubicBezTo>
                  <a:pt x="3217919" y="1028880"/>
                  <a:pt x="3225553" y="1020932"/>
                  <a:pt x="3231472" y="1012054"/>
                </a:cubicBezTo>
                <a:cubicBezTo>
                  <a:pt x="3253784" y="945112"/>
                  <a:pt x="3223686" y="1027626"/>
                  <a:pt x="3258105" y="958788"/>
                </a:cubicBezTo>
                <a:cubicBezTo>
                  <a:pt x="3262290" y="950418"/>
                  <a:pt x="3264411" y="941153"/>
                  <a:pt x="3266982" y="932155"/>
                </a:cubicBezTo>
                <a:cubicBezTo>
                  <a:pt x="3270334" y="920423"/>
                  <a:pt x="3270403" y="907557"/>
                  <a:pt x="3275860" y="896644"/>
                </a:cubicBezTo>
                <a:cubicBezTo>
                  <a:pt x="3285403" y="877558"/>
                  <a:pt x="3311371" y="843378"/>
                  <a:pt x="3311371" y="843378"/>
                </a:cubicBezTo>
                <a:cubicBezTo>
                  <a:pt x="3317289" y="825623"/>
                  <a:pt x="3320756" y="806852"/>
                  <a:pt x="3329126" y="790112"/>
                </a:cubicBezTo>
                <a:cubicBezTo>
                  <a:pt x="3373009" y="702347"/>
                  <a:pt x="3356266" y="744204"/>
                  <a:pt x="3382392" y="665825"/>
                </a:cubicBezTo>
                <a:cubicBezTo>
                  <a:pt x="3385351" y="656947"/>
                  <a:pt x="3389435" y="648368"/>
                  <a:pt x="3391270" y="639192"/>
                </a:cubicBezTo>
                <a:cubicBezTo>
                  <a:pt x="3409316" y="548954"/>
                  <a:pt x="3390827" y="631863"/>
                  <a:pt x="3409025" y="568171"/>
                </a:cubicBezTo>
                <a:cubicBezTo>
                  <a:pt x="3412377" y="556439"/>
                  <a:pt x="3413619" y="544084"/>
                  <a:pt x="3417903" y="532660"/>
                </a:cubicBezTo>
                <a:cubicBezTo>
                  <a:pt x="3422550" y="520269"/>
                  <a:pt x="3430743" y="509437"/>
                  <a:pt x="3435658" y="497149"/>
                </a:cubicBezTo>
                <a:cubicBezTo>
                  <a:pt x="3442609" y="479772"/>
                  <a:pt x="3447495" y="461638"/>
                  <a:pt x="3453413" y="443883"/>
                </a:cubicBezTo>
                <a:lnTo>
                  <a:pt x="3462291" y="417250"/>
                </a:lnTo>
                <a:cubicBezTo>
                  <a:pt x="3465250" y="408372"/>
                  <a:pt x="3465978" y="398403"/>
                  <a:pt x="3471169" y="390617"/>
                </a:cubicBezTo>
                <a:cubicBezTo>
                  <a:pt x="3486951" y="366943"/>
                  <a:pt x="3491896" y="355754"/>
                  <a:pt x="3515557" y="337351"/>
                </a:cubicBezTo>
                <a:cubicBezTo>
                  <a:pt x="3532401" y="324250"/>
                  <a:pt x="3551068" y="313678"/>
                  <a:pt x="3568823" y="301841"/>
                </a:cubicBezTo>
                <a:cubicBezTo>
                  <a:pt x="3577701" y="295922"/>
                  <a:pt x="3585105" y="286673"/>
                  <a:pt x="3595456" y="284085"/>
                </a:cubicBezTo>
                <a:lnTo>
                  <a:pt x="3666477" y="266330"/>
                </a:lnTo>
                <a:lnTo>
                  <a:pt x="3719743" y="230819"/>
                </a:lnTo>
                <a:cubicBezTo>
                  <a:pt x="3728621" y="224901"/>
                  <a:pt x="3736254" y="216438"/>
                  <a:pt x="3746376" y="213064"/>
                </a:cubicBezTo>
                <a:lnTo>
                  <a:pt x="3799642" y="195309"/>
                </a:lnTo>
                <a:cubicBezTo>
                  <a:pt x="3857220" y="118537"/>
                  <a:pt x="3796265" y="191604"/>
                  <a:pt x="3852908" y="142042"/>
                </a:cubicBezTo>
                <a:cubicBezTo>
                  <a:pt x="3883763" y="115044"/>
                  <a:pt x="3890634" y="96547"/>
                  <a:pt x="3923930" y="79899"/>
                </a:cubicBezTo>
                <a:cubicBezTo>
                  <a:pt x="3932300" y="75714"/>
                  <a:pt x="3942044" y="74893"/>
                  <a:pt x="3950563" y="71021"/>
                </a:cubicBezTo>
                <a:cubicBezTo>
                  <a:pt x="3974659" y="60068"/>
                  <a:pt x="3995225" y="37906"/>
                  <a:pt x="4021584" y="35510"/>
                </a:cubicBezTo>
                <a:lnTo>
                  <a:pt x="4119239" y="26633"/>
                </a:lnTo>
                <a:cubicBezTo>
                  <a:pt x="4134035" y="23674"/>
                  <a:pt x="4148743" y="20236"/>
                  <a:pt x="4163627" y="17755"/>
                </a:cubicBezTo>
                <a:cubicBezTo>
                  <a:pt x="4184267" y="14315"/>
                  <a:pt x="4205252" y="12981"/>
                  <a:pt x="4225771" y="8877"/>
                </a:cubicBezTo>
                <a:cubicBezTo>
                  <a:pt x="4234947" y="7042"/>
                  <a:pt x="4243526" y="2959"/>
                  <a:pt x="4252404" y="0"/>
                </a:cubicBezTo>
                <a:cubicBezTo>
                  <a:pt x="4267200" y="2959"/>
                  <a:pt x="4282062" y="5604"/>
                  <a:pt x="4296792" y="8877"/>
                </a:cubicBezTo>
                <a:cubicBezTo>
                  <a:pt x="4308703" y="11524"/>
                  <a:pt x="4320209" y="16142"/>
                  <a:pt x="4332303" y="17755"/>
                </a:cubicBezTo>
                <a:cubicBezTo>
                  <a:pt x="4364702" y="22075"/>
                  <a:pt x="4397406" y="23674"/>
                  <a:pt x="4429957" y="26633"/>
                </a:cubicBezTo>
                <a:cubicBezTo>
                  <a:pt x="4437649" y="28556"/>
                  <a:pt x="4482192" y="38726"/>
                  <a:pt x="4492101" y="44388"/>
                </a:cubicBezTo>
                <a:cubicBezTo>
                  <a:pt x="4504947" y="51729"/>
                  <a:pt x="4515571" y="62421"/>
                  <a:pt x="4527611" y="71021"/>
                </a:cubicBezTo>
                <a:cubicBezTo>
                  <a:pt x="4536293" y="77223"/>
                  <a:pt x="4545912" y="82111"/>
                  <a:pt x="4554244" y="88776"/>
                </a:cubicBezTo>
                <a:cubicBezTo>
                  <a:pt x="4560780" y="94005"/>
                  <a:pt x="4564823" y="102226"/>
                  <a:pt x="4572000" y="106532"/>
                </a:cubicBezTo>
                <a:cubicBezTo>
                  <a:pt x="4580024" y="111347"/>
                  <a:pt x="4589635" y="112838"/>
                  <a:pt x="4598633" y="115409"/>
                </a:cubicBezTo>
                <a:cubicBezTo>
                  <a:pt x="4676637" y="137696"/>
                  <a:pt x="4596939" y="111885"/>
                  <a:pt x="4660776" y="133165"/>
                </a:cubicBezTo>
                <a:cubicBezTo>
                  <a:pt x="4744172" y="129194"/>
                  <a:pt x="4864610" y="115339"/>
                  <a:pt x="4953740" y="133165"/>
                </a:cubicBezTo>
                <a:cubicBezTo>
                  <a:pt x="4964202" y="135257"/>
                  <a:pt x="4971495" y="145002"/>
                  <a:pt x="4980373" y="150920"/>
                </a:cubicBezTo>
                <a:cubicBezTo>
                  <a:pt x="4986291" y="159798"/>
                  <a:pt x="4991853" y="168924"/>
                  <a:pt x="4998128" y="177553"/>
                </a:cubicBezTo>
                <a:cubicBezTo>
                  <a:pt x="5015533" y="201486"/>
                  <a:pt x="5038160" y="222107"/>
                  <a:pt x="5051394" y="248575"/>
                </a:cubicBezTo>
                <a:cubicBezTo>
                  <a:pt x="5057312" y="260412"/>
                  <a:pt x="5061808" y="273074"/>
                  <a:pt x="5069149" y="284085"/>
                </a:cubicBezTo>
                <a:cubicBezTo>
                  <a:pt x="5083755" y="305994"/>
                  <a:pt x="5099194" y="306327"/>
                  <a:pt x="5122415" y="319596"/>
                </a:cubicBezTo>
                <a:cubicBezTo>
                  <a:pt x="5131679" y="324890"/>
                  <a:pt x="5140716" y="330686"/>
                  <a:pt x="5149048" y="337351"/>
                </a:cubicBezTo>
                <a:cubicBezTo>
                  <a:pt x="5155584" y="342580"/>
                  <a:pt x="5159627" y="350801"/>
                  <a:pt x="5166804" y="355107"/>
                </a:cubicBezTo>
                <a:cubicBezTo>
                  <a:pt x="5174828" y="359922"/>
                  <a:pt x="5184559" y="361025"/>
                  <a:pt x="5193437" y="363984"/>
                </a:cubicBezTo>
                <a:cubicBezTo>
                  <a:pt x="5199355" y="369903"/>
                  <a:pt x="5204656" y="376511"/>
                  <a:pt x="5211192" y="381740"/>
                </a:cubicBezTo>
                <a:cubicBezTo>
                  <a:pt x="5219523" y="388405"/>
                  <a:pt x="5230280" y="391950"/>
                  <a:pt x="5237825" y="399495"/>
                </a:cubicBezTo>
                <a:cubicBezTo>
                  <a:pt x="5245370" y="407040"/>
                  <a:pt x="5248035" y="418583"/>
                  <a:pt x="5255580" y="426128"/>
                </a:cubicBezTo>
                <a:cubicBezTo>
                  <a:pt x="5266042" y="436590"/>
                  <a:pt x="5279254" y="443883"/>
                  <a:pt x="5291091" y="452761"/>
                </a:cubicBezTo>
                <a:cubicBezTo>
                  <a:pt x="5304411" y="472741"/>
                  <a:pt x="5322829" y="504141"/>
                  <a:pt x="5344357" y="514905"/>
                </a:cubicBezTo>
                <a:cubicBezTo>
                  <a:pt x="5423748" y="554600"/>
                  <a:pt x="5390268" y="542045"/>
                  <a:pt x="5442011" y="559293"/>
                </a:cubicBezTo>
                <a:cubicBezTo>
                  <a:pt x="5466983" y="584264"/>
                  <a:pt x="5475197" y="590156"/>
                  <a:pt x="5495277" y="630314"/>
                </a:cubicBezTo>
                <a:cubicBezTo>
                  <a:pt x="5501196" y="642151"/>
                  <a:pt x="5506224" y="654477"/>
                  <a:pt x="5513033" y="665825"/>
                </a:cubicBezTo>
                <a:cubicBezTo>
                  <a:pt x="5524012" y="684123"/>
                  <a:pt x="5536706" y="701336"/>
                  <a:pt x="5548543" y="719091"/>
                </a:cubicBezTo>
                <a:lnTo>
                  <a:pt x="5584054" y="772357"/>
                </a:lnTo>
                <a:cubicBezTo>
                  <a:pt x="5589972" y="781235"/>
                  <a:pt x="5598435" y="788868"/>
                  <a:pt x="5601809" y="798990"/>
                </a:cubicBezTo>
                <a:lnTo>
                  <a:pt x="5619565" y="852256"/>
                </a:lnTo>
                <a:cubicBezTo>
                  <a:pt x="5622524" y="861134"/>
                  <a:pt x="5623251" y="871103"/>
                  <a:pt x="5628442" y="878889"/>
                </a:cubicBezTo>
                <a:lnTo>
                  <a:pt x="5646198" y="905522"/>
                </a:lnTo>
                <a:cubicBezTo>
                  <a:pt x="5652989" y="932690"/>
                  <a:pt x="5652393" y="947229"/>
                  <a:pt x="5672831" y="967666"/>
                </a:cubicBezTo>
                <a:cubicBezTo>
                  <a:pt x="5680376" y="975210"/>
                  <a:pt x="5690586" y="979503"/>
                  <a:pt x="5699464" y="985421"/>
                </a:cubicBezTo>
                <a:cubicBezTo>
                  <a:pt x="5733659" y="1036714"/>
                  <a:pt x="5697820" y="990353"/>
                  <a:pt x="5743852" y="1029809"/>
                </a:cubicBezTo>
                <a:cubicBezTo>
                  <a:pt x="5756562" y="1040703"/>
                  <a:pt x="5779363" y="1065320"/>
                  <a:pt x="5779363" y="1065320"/>
                </a:cubicBezTo>
                <a:cubicBezTo>
                  <a:pt x="5782322" y="1074198"/>
                  <a:pt x="5785669" y="1082955"/>
                  <a:pt x="5788240" y="1091953"/>
                </a:cubicBezTo>
                <a:cubicBezTo>
                  <a:pt x="5791592" y="1103685"/>
                  <a:pt x="5792312" y="1116249"/>
                  <a:pt x="5797118" y="1127464"/>
                </a:cubicBezTo>
                <a:cubicBezTo>
                  <a:pt x="5801321" y="1137271"/>
                  <a:pt x="5810101" y="1144554"/>
                  <a:pt x="5814873" y="1154097"/>
                </a:cubicBezTo>
                <a:cubicBezTo>
                  <a:pt x="5819058" y="1162467"/>
                  <a:pt x="5819566" y="1172360"/>
                  <a:pt x="5823751" y="1180730"/>
                </a:cubicBezTo>
                <a:cubicBezTo>
                  <a:pt x="5828523" y="1190273"/>
                  <a:pt x="5836734" y="1197820"/>
                  <a:pt x="5841506" y="1207363"/>
                </a:cubicBezTo>
                <a:cubicBezTo>
                  <a:pt x="5845691" y="1215733"/>
                  <a:pt x="5846698" y="1225395"/>
                  <a:pt x="5850384" y="1233996"/>
                </a:cubicBezTo>
                <a:cubicBezTo>
                  <a:pt x="5855597" y="1246160"/>
                  <a:pt x="5862221" y="1257670"/>
                  <a:pt x="5868140" y="1269507"/>
                </a:cubicBezTo>
                <a:cubicBezTo>
                  <a:pt x="5869325" y="1274246"/>
                  <a:pt x="5880799" y="1324006"/>
                  <a:pt x="5885895" y="1331650"/>
                </a:cubicBezTo>
                <a:cubicBezTo>
                  <a:pt x="5892859" y="1342096"/>
                  <a:pt x="5903650" y="1349405"/>
                  <a:pt x="5912528" y="1358283"/>
                </a:cubicBezTo>
                <a:cubicBezTo>
                  <a:pt x="5917737" y="1384328"/>
                  <a:pt x="5920048" y="1405424"/>
                  <a:pt x="5930283" y="1429305"/>
                </a:cubicBezTo>
                <a:cubicBezTo>
                  <a:pt x="5935496" y="1441469"/>
                  <a:pt x="5942120" y="1452978"/>
                  <a:pt x="5948039" y="1464815"/>
                </a:cubicBezTo>
                <a:cubicBezTo>
                  <a:pt x="5950998" y="1479611"/>
                  <a:pt x="5953256" y="1494565"/>
                  <a:pt x="5956916" y="1509204"/>
                </a:cubicBezTo>
                <a:cubicBezTo>
                  <a:pt x="5959186" y="1518283"/>
                  <a:pt x="5963223" y="1526839"/>
                  <a:pt x="5965794" y="1535837"/>
                </a:cubicBezTo>
                <a:cubicBezTo>
                  <a:pt x="5969146" y="1547569"/>
                  <a:pt x="5971713" y="1559510"/>
                  <a:pt x="5974672" y="1571347"/>
                </a:cubicBezTo>
                <a:cubicBezTo>
                  <a:pt x="5976834" y="1588646"/>
                  <a:pt x="5988340" y="1684078"/>
                  <a:pt x="5992427" y="1704512"/>
                </a:cubicBezTo>
                <a:cubicBezTo>
                  <a:pt x="5994262" y="1713688"/>
                  <a:pt x="5998734" y="1722147"/>
                  <a:pt x="6001305" y="1731145"/>
                </a:cubicBezTo>
                <a:cubicBezTo>
                  <a:pt x="6004657" y="1742877"/>
                  <a:pt x="6006830" y="1754924"/>
                  <a:pt x="6010182" y="1766656"/>
                </a:cubicBezTo>
                <a:cubicBezTo>
                  <a:pt x="6012753" y="1775654"/>
                  <a:pt x="6016790" y="1784211"/>
                  <a:pt x="6019060" y="1793289"/>
                </a:cubicBezTo>
                <a:cubicBezTo>
                  <a:pt x="6022720" y="1807927"/>
                  <a:pt x="6023968" y="1823120"/>
                  <a:pt x="6027938" y="1837677"/>
                </a:cubicBezTo>
                <a:cubicBezTo>
                  <a:pt x="6032862" y="1855733"/>
                  <a:pt x="6042022" y="1872591"/>
                  <a:pt x="6045693" y="1890943"/>
                </a:cubicBezTo>
                <a:cubicBezTo>
                  <a:pt x="6047272" y="1898837"/>
                  <a:pt x="6058748" y="1959876"/>
                  <a:pt x="6063448" y="1970842"/>
                </a:cubicBezTo>
                <a:cubicBezTo>
                  <a:pt x="6082916" y="2016266"/>
                  <a:pt x="6079840" y="1980113"/>
                  <a:pt x="6107837" y="2024109"/>
                </a:cubicBezTo>
                <a:cubicBezTo>
                  <a:pt x="6176528" y="2132052"/>
                  <a:pt x="6115322" y="2067106"/>
                  <a:pt x="6161103" y="2112885"/>
                </a:cubicBezTo>
                <a:cubicBezTo>
                  <a:pt x="6176519" y="2159136"/>
                  <a:pt x="6159882" y="2122456"/>
                  <a:pt x="6187736" y="2157274"/>
                </a:cubicBezTo>
                <a:cubicBezTo>
                  <a:pt x="6194401" y="2165606"/>
                  <a:pt x="6198403" y="2175932"/>
                  <a:pt x="6205491" y="2183907"/>
                </a:cubicBezTo>
                <a:cubicBezTo>
                  <a:pt x="6222173" y="2202674"/>
                  <a:pt x="6247528" y="2214714"/>
                  <a:pt x="6258757" y="2237173"/>
                </a:cubicBezTo>
                <a:cubicBezTo>
                  <a:pt x="6264675" y="2249010"/>
                  <a:pt x="6269171" y="2261672"/>
                  <a:pt x="6276512" y="2272683"/>
                </a:cubicBezTo>
                <a:cubicBezTo>
                  <a:pt x="6281155" y="2279647"/>
                  <a:pt x="6289625" y="2283475"/>
                  <a:pt x="6294268" y="2290439"/>
                </a:cubicBezTo>
                <a:cubicBezTo>
                  <a:pt x="6317820" y="2325766"/>
                  <a:pt x="6306698" y="2319442"/>
                  <a:pt x="6320901" y="2352582"/>
                </a:cubicBezTo>
                <a:cubicBezTo>
                  <a:pt x="6326114" y="2364746"/>
                  <a:pt x="6334009" y="2375702"/>
                  <a:pt x="6338656" y="2388093"/>
                </a:cubicBezTo>
                <a:cubicBezTo>
                  <a:pt x="6342940" y="2399517"/>
                  <a:pt x="6342728" y="2412389"/>
                  <a:pt x="6347534" y="2423604"/>
                </a:cubicBezTo>
                <a:cubicBezTo>
                  <a:pt x="6351737" y="2433411"/>
                  <a:pt x="6359371" y="2441359"/>
                  <a:pt x="6365289" y="2450237"/>
                </a:cubicBezTo>
                <a:cubicBezTo>
                  <a:pt x="6374051" y="2511568"/>
                  <a:pt x="6379893" y="2503219"/>
                  <a:pt x="6365289" y="2556769"/>
                </a:cubicBezTo>
                <a:cubicBezTo>
                  <a:pt x="6360365" y="2574825"/>
                  <a:pt x="6347534" y="2610035"/>
                  <a:pt x="6347534" y="2610035"/>
                </a:cubicBezTo>
                <a:cubicBezTo>
                  <a:pt x="6350493" y="2663301"/>
                  <a:pt x="6353607" y="2716559"/>
                  <a:pt x="6356411" y="2769833"/>
                </a:cubicBezTo>
                <a:cubicBezTo>
                  <a:pt x="6372002" y="3066071"/>
                  <a:pt x="6345563" y="2873902"/>
                  <a:pt x="6374167" y="2974019"/>
                </a:cubicBezTo>
                <a:cubicBezTo>
                  <a:pt x="6377519" y="2985751"/>
                  <a:pt x="6377587" y="2998617"/>
                  <a:pt x="6383044" y="3009530"/>
                </a:cubicBezTo>
                <a:cubicBezTo>
                  <a:pt x="6386787" y="3017016"/>
                  <a:pt x="6394881" y="3021367"/>
                  <a:pt x="6400800" y="3027285"/>
                </a:cubicBezTo>
                <a:cubicBezTo>
                  <a:pt x="6417773" y="3078208"/>
                  <a:pt x="6398186" y="3032677"/>
                  <a:pt x="6427433" y="3071674"/>
                </a:cubicBezTo>
                <a:cubicBezTo>
                  <a:pt x="6440236" y="3088745"/>
                  <a:pt x="6451106" y="3107185"/>
                  <a:pt x="6462943" y="3124940"/>
                </a:cubicBezTo>
                <a:lnTo>
                  <a:pt x="6480699" y="3151573"/>
                </a:lnTo>
                <a:cubicBezTo>
                  <a:pt x="6486617" y="3160451"/>
                  <a:pt x="6490909" y="3170661"/>
                  <a:pt x="6498454" y="3178206"/>
                </a:cubicBezTo>
                <a:cubicBezTo>
                  <a:pt x="6507332" y="3187084"/>
                  <a:pt x="6517050" y="3195194"/>
                  <a:pt x="6525087" y="3204839"/>
                </a:cubicBezTo>
                <a:cubicBezTo>
                  <a:pt x="6531917" y="3213036"/>
                  <a:pt x="6538070" y="3221929"/>
                  <a:pt x="6542842" y="3231472"/>
                </a:cubicBezTo>
                <a:cubicBezTo>
                  <a:pt x="6547027" y="3239842"/>
                  <a:pt x="6545874" y="3250798"/>
                  <a:pt x="6551720" y="3258105"/>
                </a:cubicBezTo>
                <a:cubicBezTo>
                  <a:pt x="6558385" y="3266436"/>
                  <a:pt x="6569475" y="3269942"/>
                  <a:pt x="6578353" y="3275860"/>
                </a:cubicBezTo>
                <a:cubicBezTo>
                  <a:pt x="6584271" y="3284738"/>
                  <a:pt x="6589082" y="3294463"/>
                  <a:pt x="6596108" y="3302493"/>
                </a:cubicBezTo>
                <a:cubicBezTo>
                  <a:pt x="6609887" y="3318241"/>
                  <a:pt x="6625701" y="3332085"/>
                  <a:pt x="6640497" y="3346881"/>
                </a:cubicBezTo>
                <a:cubicBezTo>
                  <a:pt x="6646416" y="3352800"/>
                  <a:pt x="6653230" y="3357941"/>
                  <a:pt x="6658252" y="3364637"/>
                </a:cubicBezTo>
                <a:cubicBezTo>
                  <a:pt x="6667130" y="3376474"/>
                  <a:pt x="6675256" y="3388913"/>
                  <a:pt x="6684885" y="3400147"/>
                </a:cubicBezTo>
                <a:cubicBezTo>
                  <a:pt x="6693056" y="3409679"/>
                  <a:pt x="6703481" y="3417135"/>
                  <a:pt x="6711518" y="3426780"/>
                </a:cubicBezTo>
                <a:cubicBezTo>
                  <a:pt x="6718348" y="3434977"/>
                  <a:pt x="6722608" y="3445081"/>
                  <a:pt x="6729273" y="3453413"/>
                </a:cubicBezTo>
                <a:cubicBezTo>
                  <a:pt x="6734502" y="3459949"/>
                  <a:pt x="6742007" y="3464473"/>
                  <a:pt x="6747029" y="3471169"/>
                </a:cubicBezTo>
                <a:cubicBezTo>
                  <a:pt x="6759833" y="3488240"/>
                  <a:pt x="6782540" y="3524435"/>
                  <a:pt x="6782540" y="3524435"/>
                </a:cubicBezTo>
                <a:cubicBezTo>
                  <a:pt x="6810825" y="3609292"/>
                  <a:pt x="6796644" y="3553711"/>
                  <a:pt x="6809173" y="3666477"/>
                </a:cubicBezTo>
                <a:cubicBezTo>
                  <a:pt x="6810838" y="3681459"/>
                  <a:pt x="6816725" y="3749203"/>
                  <a:pt x="6826928" y="3773009"/>
                </a:cubicBezTo>
                <a:cubicBezTo>
                  <a:pt x="6836198" y="3794639"/>
                  <a:pt x="6855318" y="3810278"/>
                  <a:pt x="6871316" y="3826276"/>
                </a:cubicBezTo>
                <a:cubicBezTo>
                  <a:pt x="6874275" y="3835154"/>
                  <a:pt x="6872807" y="3847164"/>
                  <a:pt x="6880194" y="3852909"/>
                </a:cubicBezTo>
                <a:cubicBezTo>
                  <a:pt x="6901087" y="3869159"/>
                  <a:pt x="6929193" y="3873737"/>
                  <a:pt x="6951215" y="3888419"/>
                </a:cubicBezTo>
                <a:cubicBezTo>
                  <a:pt x="6960093" y="3894338"/>
                  <a:pt x="6969818" y="3899149"/>
                  <a:pt x="6977848" y="3906175"/>
                </a:cubicBezTo>
                <a:cubicBezTo>
                  <a:pt x="6993596" y="3919954"/>
                  <a:pt x="7001937" y="3945488"/>
                  <a:pt x="7022237" y="3950563"/>
                </a:cubicBezTo>
                <a:lnTo>
                  <a:pt x="7057747" y="3959441"/>
                </a:lnTo>
                <a:cubicBezTo>
                  <a:pt x="7105099" y="4030467"/>
                  <a:pt x="7042948" y="3944641"/>
                  <a:pt x="7102136" y="4003829"/>
                </a:cubicBezTo>
                <a:cubicBezTo>
                  <a:pt x="7172313" y="4074006"/>
                  <a:pt x="7087750" y="4007985"/>
                  <a:pt x="7155402" y="4065973"/>
                </a:cubicBezTo>
                <a:cubicBezTo>
                  <a:pt x="7192255" y="4097562"/>
                  <a:pt x="7202224" y="4092891"/>
                  <a:pt x="7235301" y="4136994"/>
                </a:cubicBezTo>
                <a:cubicBezTo>
                  <a:pt x="7244179" y="4148831"/>
                  <a:pt x="7253449" y="4160383"/>
                  <a:pt x="7261934" y="4172505"/>
                </a:cubicBezTo>
                <a:cubicBezTo>
                  <a:pt x="7274171" y="4189987"/>
                  <a:pt x="7297444" y="4225771"/>
                  <a:pt x="7297444" y="4225771"/>
                </a:cubicBezTo>
                <a:cubicBezTo>
                  <a:pt x="7300403" y="4237608"/>
                  <a:pt x="7302970" y="4249549"/>
                  <a:pt x="7306322" y="4261281"/>
                </a:cubicBezTo>
                <a:cubicBezTo>
                  <a:pt x="7308893" y="4270279"/>
                  <a:pt x="7312930" y="4278835"/>
                  <a:pt x="7315200" y="4287914"/>
                </a:cubicBezTo>
                <a:cubicBezTo>
                  <a:pt x="7318860" y="4302553"/>
                  <a:pt x="7321596" y="4317419"/>
                  <a:pt x="7324077" y="4332303"/>
                </a:cubicBezTo>
                <a:cubicBezTo>
                  <a:pt x="7327517" y="4352943"/>
                  <a:pt x="7324296" y="4375397"/>
                  <a:pt x="7332955" y="4394446"/>
                </a:cubicBezTo>
                <a:cubicBezTo>
                  <a:pt x="7339882" y="4409686"/>
                  <a:pt x="7368466" y="4429957"/>
                  <a:pt x="7368466" y="4429957"/>
                </a:cubicBezTo>
                <a:cubicBezTo>
                  <a:pt x="7371425" y="4438835"/>
                  <a:pt x="7372528" y="4448566"/>
                  <a:pt x="7377343" y="4456590"/>
                </a:cubicBezTo>
                <a:cubicBezTo>
                  <a:pt x="7381649" y="4463767"/>
                  <a:pt x="7389870" y="4467809"/>
                  <a:pt x="7395099" y="4474345"/>
                </a:cubicBezTo>
                <a:cubicBezTo>
                  <a:pt x="7439906" y="4530353"/>
                  <a:pt x="7387730" y="4475853"/>
                  <a:pt x="7430609" y="4518734"/>
                </a:cubicBezTo>
                <a:cubicBezTo>
                  <a:pt x="7433568" y="4530571"/>
                  <a:pt x="7433020" y="4543898"/>
                  <a:pt x="7439487" y="4554244"/>
                </a:cubicBezTo>
                <a:cubicBezTo>
                  <a:pt x="7448359" y="4568439"/>
                  <a:pt x="7474998" y="4589755"/>
                  <a:pt x="7474998" y="4589755"/>
                </a:cubicBezTo>
                <a:cubicBezTo>
                  <a:pt x="7479504" y="4607781"/>
                  <a:pt x="7485109" y="4634064"/>
                  <a:pt x="7492753" y="4651899"/>
                </a:cubicBezTo>
                <a:cubicBezTo>
                  <a:pt x="7497966" y="4664063"/>
                  <a:pt x="7505295" y="4675245"/>
                  <a:pt x="7510508" y="4687409"/>
                </a:cubicBezTo>
                <a:cubicBezTo>
                  <a:pt x="7524711" y="4720549"/>
                  <a:pt x="7513589" y="4714224"/>
                  <a:pt x="7537141" y="4749553"/>
                </a:cubicBezTo>
                <a:cubicBezTo>
                  <a:pt x="7541784" y="4756517"/>
                  <a:pt x="7548978" y="4761390"/>
                  <a:pt x="7554897" y="4767309"/>
                </a:cubicBezTo>
                <a:cubicBezTo>
                  <a:pt x="7583226" y="4852296"/>
                  <a:pt x="7554988" y="4794051"/>
                  <a:pt x="7599285" y="4847208"/>
                </a:cubicBezTo>
                <a:cubicBezTo>
                  <a:pt x="7669130" y="4931022"/>
                  <a:pt x="7572532" y="4820396"/>
                  <a:pt x="7625918" y="4900474"/>
                </a:cubicBezTo>
                <a:cubicBezTo>
                  <a:pt x="7632882" y="4910920"/>
                  <a:pt x="7644514" y="4917462"/>
                  <a:pt x="7652551" y="4927107"/>
                </a:cubicBezTo>
                <a:cubicBezTo>
                  <a:pt x="7700661" y="4984840"/>
                  <a:pt x="7644861" y="4923171"/>
                  <a:pt x="7679184" y="4980373"/>
                </a:cubicBezTo>
                <a:cubicBezTo>
                  <a:pt x="7683490" y="4987550"/>
                  <a:pt x="7691918" y="4991432"/>
                  <a:pt x="7696940" y="4998128"/>
                </a:cubicBezTo>
                <a:cubicBezTo>
                  <a:pt x="7757170" y="5078435"/>
                  <a:pt x="7709485" y="5028431"/>
                  <a:pt x="7750206" y="5069149"/>
                </a:cubicBezTo>
                <a:cubicBezTo>
                  <a:pt x="7775606" y="5145356"/>
                  <a:pt x="7736709" y="5024041"/>
                  <a:pt x="7767961" y="5149048"/>
                </a:cubicBezTo>
                <a:cubicBezTo>
                  <a:pt x="7772500" y="5167205"/>
                  <a:pt x="7775334" y="5186742"/>
                  <a:pt x="7785716" y="5202314"/>
                </a:cubicBezTo>
                <a:lnTo>
                  <a:pt x="7803472" y="5228947"/>
                </a:lnTo>
                <a:cubicBezTo>
                  <a:pt x="7824763" y="5292824"/>
                  <a:pt x="7798924" y="5213033"/>
                  <a:pt x="7821227" y="5291091"/>
                </a:cubicBezTo>
                <a:cubicBezTo>
                  <a:pt x="7823798" y="5300089"/>
                  <a:pt x="7827146" y="5308846"/>
                  <a:pt x="7830105" y="5317724"/>
                </a:cubicBezTo>
                <a:cubicBezTo>
                  <a:pt x="7833064" y="5335479"/>
                  <a:pt x="7824774" y="5359939"/>
                  <a:pt x="7838982" y="5370990"/>
                </a:cubicBezTo>
                <a:cubicBezTo>
                  <a:pt x="7857815" y="5385638"/>
                  <a:pt x="7886531" y="5375600"/>
                  <a:pt x="7910004" y="5379868"/>
                </a:cubicBezTo>
                <a:cubicBezTo>
                  <a:pt x="7923728" y="5382363"/>
                  <a:pt x="7975678" y="5404719"/>
                  <a:pt x="7981025" y="5406501"/>
                </a:cubicBezTo>
                <a:cubicBezTo>
                  <a:pt x="7992600" y="5410359"/>
                  <a:pt x="8004849" y="5411872"/>
                  <a:pt x="8016536" y="5415378"/>
                </a:cubicBezTo>
                <a:cubicBezTo>
                  <a:pt x="8034463" y="5420756"/>
                  <a:pt x="8069802" y="5433134"/>
                  <a:pt x="8069802" y="5433134"/>
                </a:cubicBezTo>
                <a:cubicBezTo>
                  <a:pt x="8097939" y="5475340"/>
                  <a:pt x="8084182" y="5449644"/>
                  <a:pt x="8105312" y="5513033"/>
                </a:cubicBezTo>
                <a:lnTo>
                  <a:pt x="8114190" y="5539666"/>
                </a:lnTo>
                <a:cubicBezTo>
                  <a:pt x="8117149" y="5560380"/>
                  <a:pt x="8123068" y="5580884"/>
                  <a:pt x="8123068" y="5601809"/>
                </a:cubicBezTo>
                <a:cubicBezTo>
                  <a:pt x="8123068" y="5655157"/>
                  <a:pt x="8114190" y="5708260"/>
                  <a:pt x="8114190" y="5761608"/>
                </a:cubicBezTo>
                <a:cubicBezTo>
                  <a:pt x="8114190" y="5770966"/>
                  <a:pt x="8116451" y="5781624"/>
                  <a:pt x="8123068" y="5788241"/>
                </a:cubicBezTo>
                <a:cubicBezTo>
                  <a:pt x="8129685" y="5794858"/>
                  <a:pt x="8140823" y="5794159"/>
                  <a:pt x="8149701" y="5797118"/>
                </a:cubicBezTo>
                <a:cubicBezTo>
                  <a:pt x="8155619" y="5803037"/>
                  <a:pt x="8160760" y="5809852"/>
                  <a:pt x="8167456" y="5814874"/>
                </a:cubicBezTo>
                <a:cubicBezTo>
                  <a:pt x="8184527" y="5827678"/>
                  <a:pt x="8205633" y="5835295"/>
                  <a:pt x="8220722" y="5850384"/>
                </a:cubicBezTo>
                <a:cubicBezTo>
                  <a:pt x="8229600" y="5859262"/>
                  <a:pt x="8237445" y="5869309"/>
                  <a:pt x="8247355" y="5877017"/>
                </a:cubicBezTo>
                <a:cubicBezTo>
                  <a:pt x="8264199" y="5890118"/>
                  <a:pt x="8282866" y="5900691"/>
                  <a:pt x="8300621" y="5912528"/>
                </a:cubicBezTo>
                <a:cubicBezTo>
                  <a:pt x="8309499" y="5918446"/>
                  <a:pt x="8319710" y="5922738"/>
                  <a:pt x="8327254" y="5930283"/>
                </a:cubicBezTo>
                <a:cubicBezTo>
                  <a:pt x="8333172" y="5936202"/>
                  <a:pt x="8338313" y="5943017"/>
                  <a:pt x="8345009" y="5948039"/>
                </a:cubicBezTo>
                <a:cubicBezTo>
                  <a:pt x="8425321" y="6008273"/>
                  <a:pt x="8375309" y="5960583"/>
                  <a:pt x="8416031" y="6001305"/>
                </a:cubicBezTo>
                <a:cubicBezTo>
                  <a:pt x="8430327" y="6044195"/>
                  <a:pt x="8425535" y="6056287"/>
                  <a:pt x="8460419" y="6081204"/>
                </a:cubicBezTo>
                <a:cubicBezTo>
                  <a:pt x="8471188" y="6088896"/>
                  <a:pt x="8484093" y="6093041"/>
                  <a:pt x="8495930" y="6098959"/>
                </a:cubicBezTo>
                <a:cubicBezTo>
                  <a:pt x="8522564" y="6138910"/>
                  <a:pt x="8521082" y="6151484"/>
                  <a:pt x="8558073" y="6169980"/>
                </a:cubicBezTo>
                <a:cubicBezTo>
                  <a:pt x="8566443" y="6174165"/>
                  <a:pt x="8575828" y="6175899"/>
                  <a:pt x="8584706" y="6178858"/>
                </a:cubicBezTo>
                <a:cubicBezTo>
                  <a:pt x="8629691" y="6223841"/>
                  <a:pt x="8576770" y="6165629"/>
                  <a:pt x="8611340" y="6223246"/>
                </a:cubicBezTo>
                <a:cubicBezTo>
                  <a:pt x="8621673" y="6240468"/>
                  <a:pt x="8641209" y="6246658"/>
                  <a:pt x="8655728" y="6258757"/>
                </a:cubicBezTo>
                <a:cubicBezTo>
                  <a:pt x="8693690" y="6290392"/>
                  <a:pt x="8672181" y="6277105"/>
                  <a:pt x="8700116" y="6312023"/>
                </a:cubicBezTo>
                <a:cubicBezTo>
                  <a:pt x="8705345" y="6318559"/>
                  <a:pt x="8711953" y="6323860"/>
                  <a:pt x="8717872" y="6329778"/>
                </a:cubicBezTo>
                <a:cubicBezTo>
                  <a:pt x="8723790" y="6341615"/>
                  <a:pt x="8730980" y="6352898"/>
                  <a:pt x="8735627" y="6365289"/>
                </a:cubicBezTo>
                <a:cubicBezTo>
                  <a:pt x="8749101" y="6401219"/>
                  <a:pt x="8737545" y="6403357"/>
                  <a:pt x="8762260" y="6436310"/>
                </a:cubicBezTo>
                <a:cubicBezTo>
                  <a:pt x="8772304" y="6449702"/>
                  <a:pt x="8788485" y="6457892"/>
                  <a:pt x="8797771" y="6471821"/>
                </a:cubicBezTo>
                <a:cubicBezTo>
                  <a:pt x="8822519" y="6508943"/>
                  <a:pt x="8828621" y="6525642"/>
                  <a:pt x="8859914" y="6551720"/>
                </a:cubicBezTo>
                <a:cubicBezTo>
                  <a:pt x="8887594" y="6574787"/>
                  <a:pt x="8883644" y="6561407"/>
                  <a:pt x="8904303" y="6587231"/>
                </a:cubicBezTo>
                <a:cubicBezTo>
                  <a:pt x="8953748" y="6649036"/>
                  <a:pt x="8885418" y="6577224"/>
                  <a:pt x="8948691" y="6640497"/>
                </a:cubicBezTo>
                <a:cubicBezTo>
                  <a:pt x="8954609" y="6652334"/>
                  <a:pt x="8959880" y="6664518"/>
                  <a:pt x="8966446" y="6676008"/>
                </a:cubicBezTo>
                <a:cubicBezTo>
                  <a:pt x="8971740" y="6685272"/>
                  <a:pt x="8979999" y="6692834"/>
                  <a:pt x="8984202" y="6702641"/>
                </a:cubicBezTo>
                <a:cubicBezTo>
                  <a:pt x="9001274" y="6742476"/>
                  <a:pt x="8984676" y="6730222"/>
                  <a:pt x="9001957" y="6764784"/>
                </a:cubicBezTo>
                <a:cubicBezTo>
                  <a:pt x="9003829" y="6768527"/>
                  <a:pt x="9007876" y="6770703"/>
                  <a:pt x="9010835" y="6773662"/>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2" name="Text Box 4"/>
          <p:cNvSpPr/>
          <p:nvPr/>
        </p:nvSpPr>
        <p:spPr>
          <a:xfrm>
            <a:off x="7020000" y="2889360"/>
            <a:ext cx="20160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Beliefs, values, </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attitudes, storie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thought patterns, </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icit &amp;      unconscious)</a:t>
            </a:r>
            <a:endParaRPr b="0" lang="en-US" sz="2400" spc="-1" strike="noStrike">
              <a:solidFill>
                <a:srgbClr val="000000"/>
              </a:solidFill>
              <a:latin typeface="Calibri"/>
            </a:endParaRPr>
          </a:p>
        </p:txBody>
      </p:sp>
      <p:sp>
        <p:nvSpPr>
          <p:cNvPr id="943" name="Text Box 4"/>
          <p:cNvSpPr/>
          <p:nvPr/>
        </p:nvSpPr>
        <p:spPr>
          <a:xfrm>
            <a:off x="6072120" y="476280"/>
            <a:ext cx="3071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see, hear, smell &amp; touch</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licit &amp; consciou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24000" y="1682640"/>
            <a:ext cx="2828880" cy="4626000"/>
          </a:xfrm>
          <a:prstGeom prst="rect">
            <a:avLst/>
          </a:prstGeom>
          <a:noFill/>
          <a:ln w="0">
            <a:noFill/>
          </a:ln>
        </p:spPr>
        <p:txBody>
          <a:bodyPr anchor="t">
            <a:normAutofit/>
          </a:bodyPr>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800" spc="-1" strike="noStrike">
                <a:solidFill>
                  <a:srgbClr val="000000"/>
                </a:solidFill>
                <a:latin typeface="Times New Roman"/>
                <a:ea typeface="Times New Roman"/>
              </a:rPr>
              <a:t>Stereotypes  =</a:t>
            </a:r>
            <a:endParaRPr b="0" lang="en-US" sz="2800" spc="-1" strike="noStrike">
              <a:solidFill>
                <a:srgbClr val="000000"/>
              </a:solidFill>
              <a:latin typeface="Calibri"/>
            </a:endParaRPr>
          </a:p>
          <a:p>
            <a:pPr marL="343080" indent="-34308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343080" indent="-343080">
              <a:lnSpc>
                <a:spcPct val="90000"/>
              </a:lnSpc>
              <a:spcBef>
                <a:spcPts val="6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800" spc="-1" strike="noStrike">
                <a:solidFill>
                  <a:srgbClr val="000000"/>
                </a:solidFill>
                <a:latin typeface="Times New Roman"/>
                <a:ea typeface="Times New Roman"/>
              </a:rPr>
              <a:t>Prejudices = </a:t>
            </a:r>
            <a:endParaRPr b="0" lang="en-US" sz="2800" spc="-1" strike="noStrike">
              <a:solidFill>
                <a:srgbClr val="000000"/>
              </a:solidFill>
              <a:latin typeface="Calibri"/>
            </a:endParaRPr>
          </a:p>
          <a:p>
            <a:pPr marL="343080" indent="-34308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945" name="Content Placeholder 4"/>
          <p:cNvSpPr/>
          <p:nvPr/>
        </p:nvSpPr>
        <p:spPr>
          <a:xfrm>
            <a:off x="3438360" y="1611360"/>
            <a:ext cx="5357880" cy="462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Beliefs about all people of a certain type</a:t>
            </a:r>
            <a:endParaRPr b="0" lang="en-US" sz="2400" spc="-1" strike="noStrike">
              <a:solidFill>
                <a:srgbClr val="000000"/>
              </a:solidFill>
              <a:latin typeface="Calibri"/>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Judgements or opinions that are formed without real knowledge or examination of facts  </a:t>
            </a:r>
            <a:endParaRPr b="0" lang="en-US" sz="2400" spc="-1" strike="noStrike">
              <a:solidFill>
                <a:srgbClr val="000000"/>
              </a:solidFill>
              <a:latin typeface="Calibri"/>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Prejudices are generally negative</a:t>
            </a:r>
            <a:endParaRPr b="0" lang="en-US" sz="2400" spc="-1" strike="noStrike">
              <a:solidFill>
                <a:srgbClr val="000000"/>
              </a:solidFill>
              <a:latin typeface="Calibri"/>
            </a:endParaRPr>
          </a:p>
        </p:txBody>
      </p:sp>
      <p:sp>
        <p:nvSpPr>
          <p:cNvPr id="946"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It is important to be aware o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txBox="1"/>
          <p:nvPr/>
        </p:nvSpPr>
        <p:spPr>
          <a:xfrm>
            <a:off x="457200" y="1341000"/>
            <a:ext cx="8229600" cy="4411800"/>
          </a:xfrm>
          <a:prstGeom prst="rect">
            <a:avLst/>
          </a:prstGeom>
          <a:noFill/>
          <a:ln w="0">
            <a:noFill/>
          </a:ln>
        </p:spPr>
        <p:txBody>
          <a:bodyPr anchor="t">
            <a:normAutofit/>
          </a:bodyPr>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ea typeface="Times New Roman"/>
              </a:rPr>
              <a:t>Work </a:t>
            </a:r>
            <a:r>
              <a:rPr b="1" lang="en-GB" sz="2400" spc="-1" strike="noStrike">
                <a:solidFill>
                  <a:srgbClr val="000000"/>
                </a:solidFill>
                <a:latin typeface="Times New Roman"/>
                <a:ea typeface="Times New Roman"/>
              </a:rPr>
              <a:t>effectively with people from all background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Times New Roman"/>
                <a:ea typeface="Times New Roman"/>
              </a:rPr>
              <a:t>Treat all people with dignity and respect</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Times New Roman"/>
                <a:ea typeface="Times New Roman"/>
              </a:rPr>
              <a:t>Treat men and women equally</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Times New Roman"/>
                <a:ea typeface="Times New Roman"/>
              </a:rPr>
              <a:t>Show respect for and understanding of diverse points of view and demonstrate this understanding in daily work and decision-making</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Times New Roman"/>
                <a:ea typeface="Times New Roman"/>
              </a:rPr>
              <a:t>Examine own biases and behaviours to avoid stereotypical response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Times New Roman"/>
                <a:ea typeface="Times New Roman"/>
              </a:rPr>
              <a:t>Do not discriminate against any individual or group</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48"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UN Value for Diver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4"/>
          <p:cNvSpPr/>
          <p:nvPr/>
        </p:nvSpPr>
        <p:spPr>
          <a:xfrm>
            <a:off x="0" y="18900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ea typeface="Arial"/>
              </a:rPr>
              <a:t>Main Teaching Points (MTP)</a:t>
            </a:r>
            <a:endParaRPr b="0" lang="en-US" sz="3200" spc="-1" strike="noStrike">
              <a:solidFill>
                <a:srgbClr val="000000"/>
              </a:solidFill>
              <a:latin typeface="Calibri"/>
            </a:endParaRPr>
          </a:p>
        </p:txBody>
      </p:sp>
      <p:sp>
        <p:nvSpPr>
          <p:cNvPr id="622" name="Text Box 5"/>
          <p:cNvSpPr/>
          <p:nvPr/>
        </p:nvSpPr>
        <p:spPr>
          <a:xfrm>
            <a:off x="380880" y="1600200"/>
            <a:ext cx="8305920" cy="324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roduction</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versity concept</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ayers of Diversity</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mensions of Diversity</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ues for Diversity</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muni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6" descr="attitudes regarding authority.jpg"/>
          <p:cNvPicPr/>
          <p:nvPr/>
        </p:nvPicPr>
        <p:blipFill>
          <a:blip r:embed="rId1"/>
          <a:stretch/>
        </p:blipFill>
        <p:spPr>
          <a:xfrm>
            <a:off x="4284720" y="3611520"/>
            <a:ext cx="4859280" cy="3246480"/>
          </a:xfrm>
          <a:prstGeom prst="rect">
            <a:avLst/>
          </a:prstGeom>
          <a:ln w="0">
            <a:noFill/>
          </a:ln>
        </p:spPr>
      </p:pic>
      <p:sp>
        <p:nvSpPr>
          <p:cNvPr id="950" name=""/>
          <p:cNvSpPr txBox="1"/>
          <p:nvPr/>
        </p:nvSpPr>
        <p:spPr>
          <a:xfrm>
            <a:off x="457200" y="1628640"/>
            <a:ext cx="8229600" cy="452592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CA" sz="2400" spc="-1" strike="noStrike">
                <a:solidFill>
                  <a:srgbClr val="000000"/>
                </a:solidFill>
                <a:latin typeface="Times New Roman"/>
                <a:ea typeface="Times New Roman"/>
              </a:rPr>
              <a:t>Remember that the difference may be cultural</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CA" sz="2400" spc="-1" strike="noStrike">
                <a:solidFill>
                  <a:srgbClr val="000000"/>
                </a:solidFill>
                <a:latin typeface="Times New Roman"/>
                <a:ea typeface="Times New Roman"/>
              </a:rPr>
              <a:t>Take time to understand what is happening</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CA" sz="2400" spc="-1" strike="noStrike">
                <a:solidFill>
                  <a:srgbClr val="000000"/>
                </a:solidFill>
                <a:latin typeface="Times New Roman"/>
                <a:ea typeface="Times New Roman"/>
              </a:rPr>
              <a:t>Be clear &amp; respectful in your communications and expectations</a:t>
            </a:r>
            <a:endParaRPr b="0" lang="en-US" sz="2400" spc="-1" strike="noStrike">
              <a:solidFill>
                <a:srgbClr val="000000"/>
              </a:solidFill>
              <a:latin typeface="Calibri"/>
            </a:endParaRPr>
          </a:p>
          <a:p>
            <a:pPr marL="343080" indent="-34308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51" name="Title 3"/>
          <p:cNvSpPr/>
          <p:nvPr/>
        </p:nvSpPr>
        <p:spPr>
          <a:xfrm>
            <a:off x="0" y="11592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Attitudes facing Authority and Manag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0" y="1125000"/>
            <a:ext cx="9144000" cy="5015160"/>
          </a:xfrm>
          <a:prstGeom prst="rect">
            <a:avLst/>
          </a:prstGeom>
          <a:noFill/>
          <a:ln w="0">
            <a:noFill/>
          </a:ln>
        </p:spPr>
        <p:txBody>
          <a:bodyPr anchor="t">
            <a:normAutofit/>
          </a:bodyPr>
          <a:p>
            <a:pPr marL="343080" indent="-343080">
              <a:lnSpc>
                <a:spcPct val="90000"/>
              </a:lnSpc>
              <a:spcBef>
                <a:spcPts val="751"/>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on’t over generalize about any group’s ways of perceiving or managing time</a:t>
            </a:r>
            <a:endParaRPr b="0" lang="en-US" sz="2400" spc="-1" strike="noStrike">
              <a:solidFill>
                <a:srgbClr val="000000"/>
              </a:solidFill>
              <a:latin typeface="Calibri"/>
            </a:endParaRPr>
          </a:p>
          <a:p>
            <a:pPr marL="343080" indent="-343080">
              <a:lnSpc>
                <a:spcPct val="90000"/>
              </a:lnSpc>
              <a:spcBef>
                <a:spcPts val="751"/>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Reserve judgment about the meaning behind different attitudes and practices regarding time</a:t>
            </a:r>
            <a:endParaRPr b="0" lang="en-US" sz="2400" spc="-1" strike="noStrike">
              <a:solidFill>
                <a:srgbClr val="000000"/>
              </a:solidFill>
              <a:latin typeface="Calibri"/>
            </a:endParaRPr>
          </a:p>
          <a:p>
            <a:pPr marL="343080" indent="-343080">
              <a:lnSpc>
                <a:spcPct val="90000"/>
              </a:lnSpc>
              <a:spcBef>
                <a:spcPts val="751"/>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Cultural time versus Professional time</a:t>
            </a:r>
            <a:endParaRPr b="0" lang="en-US" sz="2400" spc="-1" strike="noStrike">
              <a:solidFill>
                <a:srgbClr val="000000"/>
              </a:solidFill>
              <a:latin typeface="Calibri"/>
            </a:endParaRPr>
          </a:p>
          <a:p>
            <a:pPr lvl="1" marL="600120" indent="-257040">
              <a:lnSpc>
                <a:spcPct val="90000"/>
              </a:lnSpc>
              <a:spcBef>
                <a:spcPts val="374"/>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uties as UN PKO</a:t>
            </a:r>
            <a:endParaRPr b="0" lang="en-US" sz="2400" spc="-1" strike="noStrike">
              <a:solidFill>
                <a:srgbClr val="000000"/>
              </a:solidFill>
              <a:latin typeface="Calibri"/>
            </a:endParaRPr>
          </a:p>
        </p:txBody>
      </p:sp>
      <p:pic>
        <p:nvPicPr>
          <p:cNvPr id="953" name="Picture 11" descr="C:\! A Work Current or Backup\! Core Integrated Training\Photos\time.jpg"/>
          <p:cNvPicPr/>
          <p:nvPr/>
        </p:nvPicPr>
        <p:blipFill>
          <a:blip r:embed="rId1"/>
          <a:stretch/>
        </p:blipFill>
        <p:spPr>
          <a:xfrm>
            <a:off x="6462720" y="2349360"/>
            <a:ext cx="2502000" cy="3605400"/>
          </a:xfrm>
          <a:prstGeom prst="rect">
            <a:avLst/>
          </a:prstGeom>
          <a:ln w="0">
            <a:noFill/>
          </a:ln>
        </p:spPr>
      </p:pic>
      <p:sp>
        <p:nvSpPr>
          <p:cNvPr id="954"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Concept of Time</a:t>
            </a:r>
            <a:endParaRPr b="0" lang="en-US" sz="3200" spc="-1" strike="noStrike">
              <a:solidFill>
                <a:srgbClr val="000000"/>
              </a:solidFill>
              <a:latin typeface="Calibri"/>
            </a:endParaRPr>
          </a:p>
        </p:txBody>
      </p:sp>
      <p:pic>
        <p:nvPicPr>
          <p:cNvPr id="955" name="Picture 4" descr="pe01931_"/>
          <p:cNvPicPr/>
          <p:nvPr/>
        </p:nvPicPr>
        <p:blipFill>
          <a:blip r:embed="rId2"/>
          <a:stretch/>
        </p:blipFill>
        <p:spPr>
          <a:xfrm>
            <a:off x="539640" y="4221000"/>
            <a:ext cx="2016360" cy="169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519120" y="1412640"/>
            <a:ext cx="8229600" cy="358452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Body language communicates many things that you do not actually say</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Observe and acquaint yourself with what is culturally appropriate</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Eye Contact, Polite handshake? What is appropriate?</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Ask colleagues for advice as needed</a:t>
            </a:r>
            <a:endParaRPr b="0" lang="en-US" sz="2400" spc="-1" strike="noStrike">
              <a:solidFill>
                <a:srgbClr val="000000"/>
              </a:solidFill>
              <a:latin typeface="Calibri"/>
            </a:endParaRPr>
          </a:p>
        </p:txBody>
      </p:sp>
      <p:pic>
        <p:nvPicPr>
          <p:cNvPr id="957" name="Picture 7" descr="C:\! A Work Current or Backup\! Core Integrated Training\Photos\men meeting.jpg"/>
          <p:cNvPicPr/>
          <p:nvPr/>
        </p:nvPicPr>
        <p:blipFill>
          <a:blip r:embed="rId1"/>
          <a:srcRect l="0" t="0" r="37346" b="0"/>
          <a:stretch/>
        </p:blipFill>
        <p:spPr>
          <a:xfrm>
            <a:off x="-36360" y="4170240"/>
            <a:ext cx="2501640" cy="2714760"/>
          </a:xfrm>
          <a:prstGeom prst="rect">
            <a:avLst/>
          </a:prstGeom>
          <a:ln w="0">
            <a:noFill/>
          </a:ln>
        </p:spPr>
      </p:pic>
      <p:pic>
        <p:nvPicPr>
          <p:cNvPr id="958" name="Picture 7" descr="handholding.jpg"/>
          <p:cNvPicPr/>
          <p:nvPr/>
        </p:nvPicPr>
        <p:blipFill>
          <a:blip r:embed="rId2"/>
          <a:stretch/>
        </p:blipFill>
        <p:spPr>
          <a:xfrm>
            <a:off x="6086520" y="4086360"/>
            <a:ext cx="2878200" cy="2798640"/>
          </a:xfrm>
          <a:prstGeom prst="rect">
            <a:avLst/>
          </a:prstGeom>
          <a:ln w="0">
            <a:noFill/>
          </a:ln>
        </p:spPr>
      </p:pic>
      <p:pic>
        <p:nvPicPr>
          <p:cNvPr id="959" name="Picture 9" descr="C:\Users\Paula\AppData\Local\Microsoft\Windows\Temporary Internet Files\Content.IE5\GOP3XK8R\j0316821[1].jpg"/>
          <p:cNvPicPr/>
          <p:nvPr/>
        </p:nvPicPr>
        <p:blipFill>
          <a:blip r:embed="rId3"/>
          <a:srcRect l="0" t="4291" r="0" b="5856"/>
          <a:stretch/>
        </p:blipFill>
        <p:spPr>
          <a:xfrm>
            <a:off x="2987640" y="4149720"/>
            <a:ext cx="2467080" cy="2735280"/>
          </a:xfrm>
          <a:prstGeom prst="rect">
            <a:avLst/>
          </a:prstGeom>
          <a:ln w="0">
            <a:noFill/>
          </a:ln>
        </p:spPr>
      </p:pic>
      <p:sp>
        <p:nvSpPr>
          <p:cNvPr id="960"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Body Language  and Ges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713880" y="1557000"/>
            <a:ext cx="7961400" cy="4753080"/>
          </a:xfrm>
          <a:prstGeom prst="rect">
            <a:avLst/>
          </a:prstGeom>
          <a:noFill/>
          <a:ln w="0">
            <a:noFill/>
          </a:ln>
        </p:spPr>
        <p:txBody>
          <a:bodyPr anchor="t">
            <a:normAutofit/>
          </a:bodyPr>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The most important way of communication is language. Written and spoken</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English is the most common language in UN missions even if the official languages of the UN are also Arabic, French, Russian, Chinese and Spanish</a:t>
            </a:r>
            <a:r>
              <a:rPr b="0" i="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It is extremely helpful if you speak just a few sentences of the local language. Local people will appreciate it and your job will be much easier</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62"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3"/>
          <p:cNvSpPr/>
          <p:nvPr/>
        </p:nvSpPr>
        <p:spPr>
          <a:xfrm>
            <a:off x="2743200" y="1295280"/>
            <a:ext cx="47354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ea typeface="Arial"/>
              </a:rPr>
              <a:t>  </a:t>
            </a:r>
            <a:endParaRPr b="0" lang="en-US" sz="2000" spc="-1" strike="noStrike">
              <a:solidFill>
                <a:srgbClr val="000000"/>
              </a:solidFill>
              <a:latin typeface="Calibri"/>
            </a:endParaRPr>
          </a:p>
        </p:txBody>
      </p:sp>
      <p:sp>
        <p:nvSpPr>
          <p:cNvPr id="964" name="Line 6"/>
          <p:cNvSpPr/>
          <p:nvPr/>
        </p:nvSpPr>
        <p:spPr>
          <a:xfrm flipV="1">
            <a:off x="3286080" y="1428480"/>
            <a:ext cx="500040" cy="21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5" name="Line 7"/>
          <p:cNvSpPr/>
          <p:nvPr/>
        </p:nvSpPr>
        <p:spPr>
          <a:xfrm>
            <a:off x="3857760" y="1428840"/>
            <a:ext cx="1162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6" name="Line 8"/>
          <p:cNvSpPr/>
          <p:nvPr/>
        </p:nvSpPr>
        <p:spPr>
          <a:xfrm>
            <a:off x="5143680" y="1428840"/>
            <a:ext cx="85716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7" name="Rectangle 15"/>
          <p:cNvSpPr/>
          <p:nvPr/>
        </p:nvSpPr>
        <p:spPr>
          <a:xfrm>
            <a:off x="7380360" y="5589720"/>
            <a:ext cx="21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CULTURE</a:t>
            </a:r>
            <a:r>
              <a:rPr b="0" lang="en-GB" sz="2400" spc="-1" strike="noStrike">
                <a:solidFill>
                  <a:srgbClr val="000000"/>
                </a:solidFill>
                <a:latin typeface="Calibri"/>
                <a:ea typeface="Arial"/>
              </a:rPr>
              <a:t> </a:t>
            </a:r>
            <a:r>
              <a:rPr b="1" lang="en-GB" sz="2400" spc="-1" strike="noStrike">
                <a:solidFill>
                  <a:srgbClr val="000000"/>
                </a:solidFill>
                <a:latin typeface="Calibri"/>
                <a:ea typeface="Arial"/>
              </a:rPr>
              <a:t>B</a:t>
            </a:r>
            <a:endParaRPr b="0" lang="en-US" sz="2400" spc="-1" strike="noStrike">
              <a:solidFill>
                <a:srgbClr val="000000"/>
              </a:solidFill>
              <a:latin typeface="Calibri"/>
            </a:endParaRPr>
          </a:p>
        </p:txBody>
      </p:sp>
      <p:sp>
        <p:nvSpPr>
          <p:cNvPr id="968" name="Rectangle 16"/>
          <p:cNvSpPr/>
          <p:nvPr/>
        </p:nvSpPr>
        <p:spPr>
          <a:xfrm>
            <a:off x="7000920" y="1906560"/>
            <a:ext cx="23050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LANGUAGE, IDIOM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NORMS, VALUES</a:t>
            </a:r>
            <a:endParaRPr b="0" lang="en-US" sz="1400" spc="-1" strike="noStrike">
              <a:solidFill>
                <a:srgbClr val="000000"/>
              </a:solidFill>
              <a:latin typeface="Calibri"/>
            </a:endParaRPr>
          </a:p>
        </p:txBody>
      </p:sp>
      <p:sp>
        <p:nvSpPr>
          <p:cNvPr id="969" name="Text Box 18"/>
          <p:cNvSpPr/>
          <p:nvPr/>
        </p:nvSpPr>
        <p:spPr>
          <a:xfrm>
            <a:off x="6929280" y="1386000"/>
            <a:ext cx="2000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Decoded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through filter of</a:t>
            </a:r>
            <a:endParaRPr b="0" lang="en-US" sz="1600" spc="-1" strike="noStrike">
              <a:solidFill>
                <a:srgbClr val="000000"/>
              </a:solidFill>
              <a:latin typeface="Calibri"/>
            </a:endParaRPr>
          </a:p>
        </p:txBody>
      </p:sp>
      <p:sp>
        <p:nvSpPr>
          <p:cNvPr id="970" name="Line 19"/>
          <p:cNvSpPr/>
          <p:nvPr/>
        </p:nvSpPr>
        <p:spPr>
          <a:xfrm>
            <a:off x="7236000" y="3141720"/>
            <a:ext cx="360360" cy="6476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1" name="Rectangle 24"/>
          <p:cNvSpPr/>
          <p:nvPr/>
        </p:nvSpPr>
        <p:spPr>
          <a:xfrm>
            <a:off x="623880" y="5565600"/>
            <a:ext cx="2076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CULTURE</a:t>
            </a:r>
            <a:r>
              <a:rPr b="0" lang="en-GB" sz="2400" spc="-1" strike="noStrike">
                <a:solidFill>
                  <a:srgbClr val="000000"/>
                </a:solidFill>
                <a:latin typeface="Calibri"/>
                <a:ea typeface="Arial"/>
              </a:rPr>
              <a:t> </a:t>
            </a:r>
            <a:r>
              <a:rPr b="1" lang="en-GB" sz="2400" spc="-1" strike="noStrike">
                <a:solidFill>
                  <a:srgbClr val="000000"/>
                </a:solidFill>
                <a:latin typeface="Calibri"/>
                <a:ea typeface="Arial"/>
              </a:rPr>
              <a:t>A</a:t>
            </a:r>
            <a:endParaRPr b="0" lang="en-US" sz="2400" spc="-1" strike="noStrike">
              <a:solidFill>
                <a:srgbClr val="000000"/>
              </a:solidFill>
              <a:latin typeface="Calibri"/>
            </a:endParaRPr>
          </a:p>
        </p:txBody>
      </p:sp>
      <p:sp>
        <p:nvSpPr>
          <p:cNvPr id="972" name="Rectangle 25"/>
          <p:cNvSpPr/>
          <p:nvPr/>
        </p:nvSpPr>
        <p:spPr>
          <a:xfrm>
            <a:off x="129600" y="1906560"/>
            <a:ext cx="17589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LANGUAGE, IDIOM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NORMS, VALUES</a:t>
            </a:r>
            <a:endParaRPr b="0" lang="en-US" sz="1400" spc="-1" strike="noStrike">
              <a:solidFill>
                <a:srgbClr val="000000"/>
              </a:solidFill>
              <a:latin typeface="Calibri"/>
            </a:endParaRPr>
          </a:p>
        </p:txBody>
      </p:sp>
      <p:sp>
        <p:nvSpPr>
          <p:cNvPr id="973" name="Cloud Callout 31"/>
          <p:cNvSpPr/>
          <p:nvPr/>
        </p:nvSpPr>
        <p:spPr>
          <a:xfrm>
            <a:off x="2071800" y="3929040"/>
            <a:ext cx="1928880" cy="857160"/>
          </a:xfrm>
          <a:prstGeom prst="cloudCallout">
            <a:avLst>
              <a:gd name="adj1" fmla="val -37768"/>
              <a:gd name="adj2" fmla="val 108138"/>
            </a:avLst>
          </a:pr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Original Intention</a:t>
            </a:r>
            <a:endParaRPr b="0" lang="en-US" sz="1800" spc="-1" strike="noStrike">
              <a:solidFill>
                <a:srgbClr val="000000"/>
              </a:solidFill>
              <a:latin typeface="Calibri"/>
            </a:endParaRPr>
          </a:p>
        </p:txBody>
      </p:sp>
      <p:sp>
        <p:nvSpPr>
          <p:cNvPr id="974" name="Oval Callout 33"/>
          <p:cNvSpPr/>
          <p:nvPr/>
        </p:nvSpPr>
        <p:spPr>
          <a:xfrm>
            <a:off x="285840" y="3143160"/>
            <a:ext cx="1928880" cy="500040"/>
          </a:xfrm>
          <a:prstGeom prst="wedgeEllipseCallout">
            <a:avLst>
              <a:gd name="adj1" fmla="val 8930"/>
              <a:gd name="adj2" fmla="val 189046"/>
            </a:avLst>
          </a:prstGeom>
          <a:solidFill>
            <a:srgbClr val="e7e6e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5" name="TextBox 34"/>
          <p:cNvSpPr/>
          <p:nvPr/>
        </p:nvSpPr>
        <p:spPr>
          <a:xfrm>
            <a:off x="351360" y="32148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Communication</a:t>
            </a:r>
            <a:endParaRPr b="0" lang="en-US" sz="1800" spc="-1" strike="noStrike">
              <a:solidFill>
                <a:srgbClr val="000000"/>
              </a:solidFill>
              <a:latin typeface="Calibri"/>
            </a:endParaRPr>
          </a:p>
        </p:txBody>
      </p:sp>
      <p:sp>
        <p:nvSpPr>
          <p:cNvPr id="976" name="TextBox 35"/>
          <p:cNvSpPr/>
          <p:nvPr/>
        </p:nvSpPr>
        <p:spPr>
          <a:xfrm>
            <a:off x="2357280" y="2857680"/>
            <a:ext cx="1500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Verb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Non-verbal, Written</a:t>
            </a:r>
            <a:endParaRPr b="0" lang="en-US" sz="1800" spc="-1" strike="noStrike">
              <a:solidFill>
                <a:srgbClr val="000000"/>
              </a:solidFill>
              <a:latin typeface="Calibri"/>
            </a:endParaRPr>
          </a:p>
        </p:txBody>
      </p:sp>
      <p:pic>
        <p:nvPicPr>
          <p:cNvPr id="977" name="Picture 36" descr="C:\Users\Paula\AppData\Local\Microsoft\Windows\Temporary Internet Files\Content.IE5\RUES38BS\j0391214[1].wmf"/>
          <p:cNvPicPr/>
          <p:nvPr/>
        </p:nvPicPr>
        <p:blipFill>
          <a:blip r:embed="rId1"/>
          <a:stretch/>
        </p:blipFill>
        <p:spPr>
          <a:xfrm rot="13571400">
            <a:off x="2039760" y="1427040"/>
            <a:ext cx="1288800" cy="1647720"/>
          </a:xfrm>
          <a:prstGeom prst="rect">
            <a:avLst/>
          </a:prstGeom>
          <a:ln w="0">
            <a:noFill/>
          </a:ln>
        </p:spPr>
      </p:pic>
      <p:sp>
        <p:nvSpPr>
          <p:cNvPr id="978" name="Line 6"/>
          <p:cNvSpPr/>
          <p:nvPr/>
        </p:nvSpPr>
        <p:spPr>
          <a:xfrm flipV="1">
            <a:off x="1428840" y="2714760"/>
            <a:ext cx="50004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79" name="Picture 39" descr="C:\Users\Paula\AppData\Local\Microsoft\Windows\Temporary Internet Files\Content.IE5\RUES38BS\j0391214[1].wmf"/>
          <p:cNvPicPr/>
          <p:nvPr/>
        </p:nvPicPr>
        <p:blipFill>
          <a:blip r:embed="rId2"/>
          <a:stretch/>
        </p:blipFill>
        <p:spPr>
          <a:xfrm rot="18811200">
            <a:off x="6028200" y="1711440"/>
            <a:ext cx="1289160" cy="1649520"/>
          </a:xfrm>
          <a:prstGeom prst="rect">
            <a:avLst/>
          </a:prstGeom>
          <a:ln w="0">
            <a:noFill/>
          </a:ln>
        </p:spPr>
      </p:pic>
      <p:sp>
        <p:nvSpPr>
          <p:cNvPr id="980" name="Cloud Callout 40"/>
          <p:cNvSpPr/>
          <p:nvPr/>
        </p:nvSpPr>
        <p:spPr>
          <a:xfrm>
            <a:off x="4572000" y="3500280"/>
            <a:ext cx="2571840" cy="1143000"/>
          </a:xfrm>
          <a:prstGeom prst="cloudCallout">
            <a:avLst>
              <a:gd name="adj1" fmla="val 57939"/>
              <a:gd name="adj2" fmla="val 58828"/>
            </a:avLst>
          </a:pr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sultan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Understanding </a:t>
            </a:r>
            <a:endParaRPr b="0" lang="en-US" sz="1800" spc="-1" strike="noStrike">
              <a:solidFill>
                <a:srgbClr val="000000"/>
              </a:solidFill>
              <a:latin typeface="Calibri"/>
            </a:endParaRPr>
          </a:p>
        </p:txBody>
      </p:sp>
      <p:sp>
        <p:nvSpPr>
          <p:cNvPr id="981" name="Text Box 18"/>
          <p:cNvSpPr/>
          <p:nvPr/>
        </p:nvSpPr>
        <p:spPr>
          <a:xfrm>
            <a:off x="34920" y="1355760"/>
            <a:ext cx="2071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Communicated through filter of</a:t>
            </a:r>
            <a:endParaRPr b="0" lang="en-US" sz="1600" spc="-1" strike="noStrike">
              <a:solidFill>
                <a:srgbClr val="000000"/>
              </a:solidFill>
              <a:latin typeface="Calibri"/>
            </a:endParaRPr>
          </a:p>
        </p:txBody>
      </p:sp>
      <p:sp>
        <p:nvSpPr>
          <p:cNvPr id="982" name="Title 3"/>
          <p:cNvSpPr/>
          <p:nvPr/>
        </p:nvSpPr>
        <p:spPr>
          <a:xfrm>
            <a:off x="0" y="44280"/>
            <a:ext cx="9144000" cy="73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Communication Process</a:t>
            </a:r>
            <a:endParaRPr b="0" lang="en-US" sz="3200" spc="-1" strike="noStrike">
              <a:solidFill>
                <a:srgbClr val="000000"/>
              </a:solidFill>
              <a:latin typeface="Calibri"/>
            </a:endParaRPr>
          </a:p>
        </p:txBody>
      </p:sp>
      <p:pic>
        <p:nvPicPr>
          <p:cNvPr id="983" name="Picture 26" descr="MC900442084[1]"/>
          <p:cNvPicPr/>
          <p:nvPr/>
        </p:nvPicPr>
        <p:blipFill>
          <a:blip r:embed="rId3"/>
          <a:stretch/>
        </p:blipFill>
        <p:spPr>
          <a:xfrm>
            <a:off x="838080" y="3716280"/>
            <a:ext cx="1501920" cy="1914480"/>
          </a:xfrm>
          <a:prstGeom prst="rect">
            <a:avLst/>
          </a:prstGeom>
          <a:ln w="0">
            <a:noFill/>
          </a:ln>
        </p:spPr>
      </p:pic>
      <p:pic>
        <p:nvPicPr>
          <p:cNvPr id="984" name="Picture 27" descr="MC900442084[1]"/>
          <p:cNvPicPr/>
          <p:nvPr/>
        </p:nvPicPr>
        <p:blipFill>
          <a:blip r:embed="rId4"/>
          <a:stretch/>
        </p:blipFill>
        <p:spPr>
          <a:xfrm flipH="1">
            <a:off x="7236000" y="3746520"/>
            <a:ext cx="1512720" cy="191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23640" y="1557000"/>
            <a:ext cx="8543880" cy="4303800"/>
          </a:xfrm>
          <a:prstGeom prst="rect">
            <a:avLst/>
          </a:prstGeom>
          <a:noFill/>
          <a:ln w="0">
            <a:noFill/>
          </a:ln>
        </p:spPr>
        <p:txBody>
          <a:bodyPr anchor="t">
            <a:normAutofit/>
          </a:bodyPr>
          <a:p>
            <a:pPr marL="343080" indent="-34308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Use common words and avoid slang and idioms</a:t>
            </a:r>
            <a:endParaRPr b="0" lang="en-US" sz="2400" spc="-1" strike="noStrike">
              <a:solidFill>
                <a:srgbClr val="000000"/>
              </a:solidFill>
              <a:latin typeface="Calibri"/>
            </a:endParaRPr>
          </a:p>
          <a:p>
            <a:pPr marL="343080" indent="-34308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Check that you are understanding and also that you have been understood</a:t>
            </a:r>
            <a:endParaRPr b="0" lang="en-US" sz="2400" spc="-1" strike="noStrike">
              <a:solidFill>
                <a:srgbClr val="000000"/>
              </a:solidFill>
              <a:latin typeface="Calibri"/>
            </a:endParaRPr>
          </a:p>
          <a:p>
            <a:pPr marL="343080" indent="-34308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Convey interest in understanding properly</a:t>
            </a:r>
            <a:endParaRPr b="0" lang="en-US" sz="2400" spc="-1" strike="noStrike">
              <a:solidFill>
                <a:srgbClr val="000000"/>
              </a:solidFill>
              <a:latin typeface="Calibri"/>
            </a:endParaRPr>
          </a:p>
          <a:p>
            <a:pPr marL="343080" indent="-34308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Allow enough time for people to speak and create opportunities for those who are speaking less</a:t>
            </a:r>
            <a:endParaRPr b="0" lang="en-US" sz="2400" spc="-1" strike="noStrike">
              <a:solidFill>
                <a:srgbClr val="000000"/>
              </a:solidFill>
              <a:latin typeface="Calibri"/>
            </a:endParaRPr>
          </a:p>
          <a:p>
            <a:pPr marL="343080" indent="-34308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Be aware of how what your tone of voice or body language may be communicating.  Practice patience</a:t>
            </a:r>
            <a:endParaRPr b="0" lang="en-US" sz="2400" spc="-1" strike="noStrike">
              <a:solidFill>
                <a:srgbClr val="000000"/>
              </a:solidFill>
              <a:latin typeface="Calibri"/>
            </a:endParaRPr>
          </a:p>
          <a:p>
            <a:pPr marL="343080" indent="-343080">
              <a:lnSpc>
                <a:spcPct val="90000"/>
              </a:lnSpc>
              <a:spcBef>
                <a:spcPts val="11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Be careful in your use of humour</a:t>
            </a:r>
            <a:endParaRPr b="0" lang="en-US" sz="2400" spc="-1" strike="noStrike">
              <a:solidFill>
                <a:srgbClr val="000000"/>
              </a:solidFill>
              <a:latin typeface="Calibri"/>
            </a:endParaRPr>
          </a:p>
        </p:txBody>
      </p:sp>
      <p:sp>
        <p:nvSpPr>
          <p:cNvPr id="986" name="Title 3"/>
          <p:cNvSpPr/>
          <p:nvPr/>
        </p:nvSpPr>
        <p:spPr>
          <a:xfrm>
            <a:off x="0" y="44280"/>
            <a:ext cx="9144000" cy="73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Communication Ti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Freeform 58"/>
          <p:cNvSpPr/>
          <p:nvPr/>
        </p:nvSpPr>
        <p:spPr>
          <a:xfrm>
            <a:off x="1428840" y="6870600"/>
            <a:ext cx="360" cy="360"/>
          </a:xfrm>
          <a:custGeom>
            <a:avLst/>
            <a:gdLst/>
            <a:ahLst/>
            <a:rect l="l" t="t" r="r" b="b"/>
            <a:pathLst>
              <a:path w="0" h="0">
                <a:moveTo>
                  <a:pt x="0" y="0"/>
                </a:moveTo>
                <a:lnTo>
                  <a:pt x="0" y="0"/>
                </a:lnTo>
              </a:path>
            </a:pathLst>
          </a:custGeom>
          <a:noFill/>
          <a:ln w="6480">
            <a:solidFill>
              <a:srgbClr val="4472c4"/>
            </a:solidFill>
            <a:miter/>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sp>
        <p:nvSpPr>
          <p:cNvPr id="988" name=""/>
          <p:cNvSpPr txBox="1"/>
          <p:nvPr/>
        </p:nvSpPr>
        <p:spPr>
          <a:xfrm>
            <a:off x="457200" y="1699920"/>
            <a:ext cx="8229600" cy="4383000"/>
          </a:xfrm>
          <a:prstGeom prst="rect">
            <a:avLst/>
          </a:prstGeom>
          <a:noFill/>
          <a:ln w="0">
            <a:noFill/>
          </a:ln>
        </p:spPr>
        <p:txBody>
          <a:bodyPr anchor="t">
            <a:normAutofit/>
          </a:bodyPr>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Be aware of different religious beliefs and customs, particularly local one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Practice respect for all religious belief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Practice respect for religious artifacts and places of workshop</a:t>
            </a:r>
            <a:endParaRPr b="0" lang="en-US" sz="2400" spc="-1" strike="noStrike">
              <a:solidFill>
                <a:srgbClr val="000000"/>
              </a:solidFill>
              <a:latin typeface="Calibri"/>
            </a:endParaRPr>
          </a:p>
        </p:txBody>
      </p:sp>
      <p:sp>
        <p:nvSpPr>
          <p:cNvPr id="989"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Relig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0" name="Picture 9" descr="C:\! A Work Current or Backup\! Core Integrated Training\Photos\78006 - Peacekeeping - Burundi - 07_06_2005 - 16.03.14.jpg"/>
          <p:cNvPicPr/>
          <p:nvPr/>
        </p:nvPicPr>
        <p:blipFill>
          <a:blip r:embed="rId1"/>
          <a:stretch/>
        </p:blipFill>
        <p:spPr>
          <a:xfrm>
            <a:off x="4716360" y="2924280"/>
            <a:ext cx="4286520" cy="2857320"/>
          </a:xfrm>
          <a:prstGeom prst="rect">
            <a:avLst/>
          </a:prstGeom>
          <a:ln w="9360">
            <a:solidFill>
              <a:srgbClr val="000000"/>
            </a:solidFill>
            <a:miter/>
          </a:ln>
        </p:spPr>
      </p:pic>
      <p:sp>
        <p:nvSpPr>
          <p:cNvPr id="991" name=""/>
          <p:cNvSpPr txBox="1"/>
          <p:nvPr/>
        </p:nvSpPr>
        <p:spPr>
          <a:xfrm>
            <a:off x="457200" y="1600200"/>
            <a:ext cx="8229600" cy="427680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Understand family ties and extended families</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Understand local roles and traditions for men and women</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Respect for the Elders</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92"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Family and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3" name="Picture 15" descr="C:\! A Work Current or Backup\! Core Integrated Training\Photos\dress code.jpg"/>
          <p:cNvPicPr/>
          <p:nvPr/>
        </p:nvPicPr>
        <p:blipFill>
          <a:blip r:embed="rId1"/>
          <a:stretch/>
        </p:blipFill>
        <p:spPr>
          <a:xfrm>
            <a:off x="1116000" y="1773360"/>
            <a:ext cx="6429240" cy="3684600"/>
          </a:xfrm>
          <a:prstGeom prst="rect">
            <a:avLst/>
          </a:prstGeom>
          <a:ln w="0">
            <a:noFill/>
          </a:ln>
        </p:spPr>
      </p:pic>
      <p:sp>
        <p:nvSpPr>
          <p:cNvPr id="994" name=""/>
          <p:cNvSpPr txBox="1"/>
          <p:nvPr/>
        </p:nvSpPr>
        <p:spPr>
          <a:xfrm>
            <a:off x="457200" y="836280"/>
            <a:ext cx="7354800" cy="118116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Be aware of local cultural norms and climate</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Adapt yourself to local dress codes</a:t>
            </a:r>
            <a:endParaRPr b="0" lang="en-US" sz="2400" spc="-1" strike="noStrike">
              <a:solidFill>
                <a:srgbClr val="000000"/>
              </a:solidFill>
              <a:latin typeface="Calibri"/>
            </a:endParaRPr>
          </a:p>
        </p:txBody>
      </p:sp>
      <p:sp>
        <p:nvSpPr>
          <p:cNvPr id="995"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Dress Co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95280" y="1639800"/>
            <a:ext cx="8229600" cy="4525920"/>
          </a:xfrm>
          <a:prstGeom prst="rect">
            <a:avLst/>
          </a:prstGeom>
          <a:noFill/>
          <a:ln w="0">
            <a:noFill/>
          </a:ln>
        </p:spPr>
        <p:txBody>
          <a:bodyPr anchor="t">
            <a:normAutofit/>
          </a:bodyPr>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Eating habits differ</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In Europe most people use knife, fork and spoon </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In Asia some may use chop sticks and a spoon</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Other nations have very high hygiene and use the clean right hand in stead of cutlery </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Some nations eat from individual plates and others have one big common plate</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In many cultures the left hand is considered unclean. So, never use the left hand</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97" name="Title 3"/>
          <p:cNvSpPr/>
          <p:nvPr/>
        </p:nvSpPr>
        <p:spPr>
          <a:xfrm>
            <a:off x="0" y="98280"/>
            <a:ext cx="914400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Light"/>
                <a:ea typeface="Arial"/>
              </a:rPr>
              <a:t>Eating Habi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4" descr="C:\! A Work Current or Backup\! Core Integrated Training\Photos\diversity.jpg"/>
          <p:cNvPicPr/>
          <p:nvPr/>
        </p:nvPicPr>
        <p:blipFill>
          <a:blip r:embed="rId1"/>
          <a:stretch/>
        </p:blipFill>
        <p:spPr>
          <a:xfrm>
            <a:off x="0" y="2098800"/>
            <a:ext cx="9144000" cy="3706560"/>
          </a:xfrm>
          <a:prstGeom prst="rect">
            <a:avLst/>
          </a:prstGeom>
          <a:ln w="0">
            <a:noFill/>
          </a:ln>
        </p:spPr>
      </p:pic>
      <p:sp>
        <p:nvSpPr>
          <p:cNvPr id="624" name=""/>
          <p:cNvSpPr txBox="1"/>
          <p:nvPr/>
        </p:nvSpPr>
        <p:spPr>
          <a:xfrm>
            <a:off x="142920" y="836640"/>
            <a:ext cx="8786880" cy="4728960"/>
          </a:xfrm>
          <a:prstGeom prst="rect">
            <a:avLst/>
          </a:prstGeom>
          <a:noFill/>
          <a:ln w="0">
            <a:noFill/>
          </a:ln>
        </p:spPr>
        <p:txBody>
          <a:bodyPr anchor="t">
            <a:normAutofit/>
          </a:bodyPr>
          <a:p>
            <a:pPr marL="343080" indent="-3430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CA" sz="2400" spc="-1" strike="noStrike">
                <a:solidFill>
                  <a:srgbClr val="0563c1"/>
                </a:solidFill>
                <a:latin typeface="Times New Roman"/>
                <a:ea typeface="Times New Roman"/>
              </a:rPr>
              <a:t>Diversity</a:t>
            </a:r>
            <a:r>
              <a:rPr b="1" lang="en-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 variety, different kinds of things</a:t>
            </a:r>
            <a:endParaRPr b="0" lang="en-US" sz="2400" spc="-1" strike="noStrike">
              <a:solidFill>
                <a:srgbClr val="000000"/>
              </a:solidFill>
              <a:latin typeface="Calibri"/>
            </a:endParaRPr>
          </a:p>
          <a:p>
            <a:pPr marL="343080" indent="-343080" algn="ctr">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versity in a human context refers to differences such as of ethnicity, race, professional backgrounds, religious or political beliefs, and much more.</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25"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What is Diver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24">
                                            <p:txEl>
                                              <p:pRg st="0" end="0"/>
                                            </p:txEl>
                                          </p:spTgt>
                                        </p:tgtEl>
                                        <p:attrNameLst>
                                          <p:attrName>style.visibility</p:attrName>
                                        </p:attrNameLst>
                                      </p:cBhvr>
                                      <p:to>
                                        <p:strVal val="visible"/>
                                      </p:to>
                                    </p:set>
                                    <p:animEffect filter="diamond(in)" transition="in">
                                      <p:cBhvr additive="repl">
                                        <p:cTn id="7" dur="2000"/>
                                        <p:tgtEl>
                                          <p:spTgt spid="624">
                                            <p:txEl>
                                              <p:pRg st="0" end="0"/>
                                            </p:txEl>
                                          </p:spTgt>
                                        </p:tgtEl>
                                      </p:cBhvr>
                                    </p:animEffect>
                                  </p:childTnLst>
                                </p:cTn>
                              </p:par>
                              <p:par>
                                <p:cTn id="8" nodeType="withEffect" fill="hold" presetClass="entr" presetID="8" presetSubtype="16">
                                  <p:stCondLst>
                                    <p:cond delay="0"/>
                                  </p:stCondLst>
                                  <p:childTnLst>
                                    <p:set>
                                      <p:cBhvr>
                                        <p:cTn id="9" dur="1" fill="hold">
                                          <p:stCondLst>
                                            <p:cond delay="0"/>
                                          </p:stCondLst>
                                        </p:cTn>
                                        <p:tgtEl>
                                          <p:spTgt spid="624">
                                            <p:txEl>
                                              <p:pRg st="1" end="1"/>
                                            </p:txEl>
                                          </p:spTgt>
                                        </p:tgtEl>
                                        <p:attrNameLst>
                                          <p:attrName>style.visibility</p:attrName>
                                        </p:attrNameLst>
                                      </p:cBhvr>
                                      <p:to>
                                        <p:strVal val="visible"/>
                                      </p:to>
                                    </p:set>
                                    <p:animEffect filter="diamond(in)" transition="in">
                                      <p:cBhvr additive="repl">
                                        <p:cTn id="10" dur="2000"/>
                                        <p:tgtEl>
                                          <p:spTgt spid="6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0" y="712440"/>
            <a:ext cx="9144000" cy="5427720"/>
          </a:xfrm>
          <a:prstGeom prst="rect">
            <a:avLst/>
          </a:prstGeom>
          <a:noFill/>
          <a:ln w="0">
            <a:noFill/>
          </a:ln>
        </p:spPr>
        <p:txBody>
          <a:bodyPr anchor="t">
            <a:normAutofit/>
          </a:bodyPr>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National colleagues are a great resource of cultural information</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Other colleagues who have worked in other missions and cultures may also be able to provide guidance</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Ask national personnel what outsiders most often don't understand about their home and mistakes that are commonly made and work at demonstrating respect and understanding</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ea typeface="Times New Roman"/>
              </a:rPr>
              <a:t>Find out if there are any local gatherings or cultural events that you can attend with them to learn more about the culture and make connections</a:t>
            </a:r>
            <a:endParaRPr b="0" lang="en-US" sz="2400" spc="-1" strike="noStrike">
              <a:solidFill>
                <a:srgbClr val="000000"/>
              </a:solidFill>
              <a:latin typeface="Calibri"/>
            </a:endParaRPr>
          </a:p>
        </p:txBody>
      </p:sp>
      <p:sp>
        <p:nvSpPr>
          <p:cNvPr id="999" name="Title 3"/>
          <p:cNvSpPr/>
          <p:nvPr/>
        </p:nvSpPr>
        <p:spPr>
          <a:xfrm>
            <a:off x="0" y="115920"/>
            <a:ext cx="914400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Learning from Ot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Title 1"/>
          <p:cNvSpPr/>
          <p:nvPr/>
        </p:nvSpPr>
        <p:spPr>
          <a:xfrm>
            <a:off x="34920" y="44280"/>
            <a:ext cx="910908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Key Messages</a:t>
            </a:r>
            <a:endParaRPr b="0" lang="en-US" sz="3200" spc="-1" strike="noStrike">
              <a:solidFill>
                <a:srgbClr val="000000"/>
              </a:solidFill>
              <a:latin typeface="Calibri"/>
            </a:endParaRPr>
          </a:p>
        </p:txBody>
      </p:sp>
      <p:sp>
        <p:nvSpPr>
          <p:cNvPr id="1001" name="Content Placeholder 4"/>
          <p:cNvSpPr/>
          <p:nvPr/>
        </p:nvSpPr>
        <p:spPr>
          <a:xfrm>
            <a:off x="457200" y="1557360"/>
            <a:ext cx="82296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acekeepers must be aware of diversity and cultures around them and sensitive to areas of commonality and difference</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pect for diversity is a core value of the United Nation</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 each have cultural filters. We can practice awareness of our own views and biases</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ur language and cultural norms can affect communication. It is important to ensure understanding in both dire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2766960" y="2513160"/>
            <a:ext cx="3610080" cy="183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QUESTIONS?</a:t>
            </a:r>
            <a:endParaRPr b="0" lang="en-US" sz="4000" spc="-1" strike="noStrike">
              <a:solidFill>
                <a:srgbClr val="000000"/>
              </a:solidFill>
              <a:latin typeface="Calibri"/>
            </a:endParaRPr>
          </a:p>
        </p:txBody>
      </p:sp>
      <p:sp>
        <p:nvSpPr>
          <p:cNvPr id="1003" name="Text Box 15"/>
          <p:cNvSpPr/>
          <p:nvPr/>
        </p:nvSpPr>
        <p:spPr>
          <a:xfrm>
            <a:off x="0" y="115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456840" y="1413000"/>
            <a:ext cx="8435880" cy="4680000"/>
          </a:xfrm>
          <a:prstGeom prst="rect">
            <a:avLst/>
          </a:prstGeom>
          <a:noFill/>
          <a:ln w="0">
            <a:noFill/>
          </a:ln>
        </p:spPr>
        <p:txBody>
          <a:bodyPr anchor="t">
            <a:normAutofit/>
          </a:bodyPr>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Acceptance and respect</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Understanding the uniqueness of others, &amp; recognizing our individual difference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mensions of race, ethnicity, gender, sexual orientation, socio-economic status, age, physical abilities, religious beliefs, political beliefs, or other ideologie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It is the exploration of these differences in a safe, positive, and nurturing environment</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Times New Roman"/>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Understanding each other and moving beyond simple tolerance to embracing and celebrating the rich dimensions of diversity contained within each individual</a:t>
            </a:r>
            <a:endParaRPr b="0" lang="en-US" sz="2400" spc="-1" strike="noStrike">
              <a:solidFill>
                <a:srgbClr val="000000"/>
              </a:solidFill>
              <a:latin typeface="Calibri"/>
            </a:endParaRPr>
          </a:p>
        </p:txBody>
      </p:sp>
      <p:sp>
        <p:nvSpPr>
          <p:cNvPr id="627"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Concept of Diver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oup 69"/>
          <p:cNvGrpSpPr/>
          <p:nvPr/>
        </p:nvGrpSpPr>
        <p:grpSpPr>
          <a:xfrm>
            <a:off x="235080" y="1303200"/>
            <a:ext cx="8584560" cy="5554440"/>
            <a:chOff x="235080" y="1303200"/>
            <a:chExt cx="8584560" cy="5554440"/>
          </a:xfrm>
        </p:grpSpPr>
        <p:sp>
          <p:nvSpPr>
            <p:cNvPr id="629" name="Rectangle 4"/>
            <p:cNvSpPr/>
            <p:nvPr/>
          </p:nvSpPr>
          <p:spPr>
            <a:xfrm>
              <a:off x="975960" y="4758840"/>
              <a:ext cx="2327400" cy="1390320"/>
            </a:xfrm>
            <a:prstGeom prst="rect">
              <a:avLst/>
            </a:prstGeom>
            <a:solidFill>
              <a:srgbClr val="63c4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Freeform 5"/>
            <p:cNvSpPr/>
            <p:nvPr/>
          </p:nvSpPr>
          <p:spPr>
            <a:xfrm>
              <a:off x="266400" y="4758840"/>
              <a:ext cx="709200" cy="2098800"/>
            </a:xfrm>
            <a:custGeom>
              <a:avLst/>
              <a:gdLst>
                <a:gd name="textAreaLeft" fmla="*/ 0 w 709200"/>
                <a:gd name="textAreaRight" fmla="*/ 709560 w 709200"/>
                <a:gd name="textAreaTop" fmla="*/ 0 h 2098800"/>
                <a:gd name="textAreaBottom" fmla="*/ 2099160 h 2098800"/>
              </a:gdLst>
              <a:ahLst/>
              <a:rect l="textAreaLeft" t="textAreaTop" r="textAreaRight" b="textAreaBottom"/>
              <a:pathLst>
                <a:path w="171" h="845">
                  <a:moveTo>
                    <a:pt x="0" y="845"/>
                  </a:moveTo>
                  <a:lnTo>
                    <a:pt x="171" y="560"/>
                  </a:lnTo>
                  <a:lnTo>
                    <a:pt x="171" y="0"/>
                  </a:lnTo>
                  <a:lnTo>
                    <a:pt x="0" y="185"/>
                  </a:lnTo>
                  <a:lnTo>
                    <a:pt x="0" y="84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1" name="Freeform 6"/>
            <p:cNvSpPr/>
            <p:nvPr/>
          </p:nvSpPr>
          <p:spPr>
            <a:xfrm>
              <a:off x="266400" y="6149160"/>
              <a:ext cx="3036600" cy="708120"/>
            </a:xfrm>
            <a:custGeom>
              <a:avLst/>
              <a:gdLst>
                <a:gd name="textAreaLeft" fmla="*/ 0 w 3036600"/>
                <a:gd name="textAreaRight" fmla="*/ 3036960 w 3036600"/>
                <a:gd name="textAreaTop" fmla="*/ 0 h 708120"/>
                <a:gd name="textAreaBottom" fmla="*/ 708480 h 708120"/>
              </a:gdLst>
              <a:ahLst/>
              <a:rect l="textAreaLeft" t="textAreaTop" r="textAreaRight" b="textAreaBottom"/>
              <a:pathLst>
                <a:path w="731" h="285">
                  <a:moveTo>
                    <a:pt x="171" y="0"/>
                  </a:moveTo>
                  <a:lnTo>
                    <a:pt x="731" y="0"/>
                  </a:lnTo>
                  <a:lnTo>
                    <a:pt x="660" y="285"/>
                  </a:lnTo>
                  <a:lnTo>
                    <a:pt x="0" y="285"/>
                  </a:lnTo>
                  <a:lnTo>
                    <a:pt x="171"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2" name="Freeform 7"/>
            <p:cNvSpPr/>
            <p:nvPr/>
          </p:nvSpPr>
          <p:spPr>
            <a:xfrm>
              <a:off x="3007800" y="4758840"/>
              <a:ext cx="295200" cy="2098800"/>
            </a:xfrm>
            <a:custGeom>
              <a:avLst/>
              <a:gdLst>
                <a:gd name="textAreaLeft" fmla="*/ 0 w 295200"/>
                <a:gd name="textAreaRight" fmla="*/ 295560 w 295200"/>
                <a:gd name="textAreaTop" fmla="*/ 0 h 2098800"/>
                <a:gd name="textAreaBottom" fmla="*/ 2099160 h 2098800"/>
              </a:gdLst>
              <a:ahLst/>
              <a:rect l="textAreaLeft" t="textAreaTop" r="textAreaRight" b="textAreaBottom"/>
              <a:pathLst>
                <a:path w="71" h="845">
                  <a:moveTo>
                    <a:pt x="0" y="185"/>
                  </a:moveTo>
                  <a:lnTo>
                    <a:pt x="71" y="0"/>
                  </a:lnTo>
                  <a:lnTo>
                    <a:pt x="71" y="560"/>
                  </a:lnTo>
                  <a:lnTo>
                    <a:pt x="0" y="845"/>
                  </a:lnTo>
                  <a:lnTo>
                    <a:pt x="0" y="185"/>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3" name="Rectangle 8"/>
            <p:cNvSpPr/>
            <p:nvPr/>
          </p:nvSpPr>
          <p:spPr>
            <a:xfrm>
              <a:off x="266400" y="5216040"/>
              <a:ext cx="2741040" cy="1639440"/>
            </a:xfrm>
            <a:prstGeom prst="rect">
              <a:avLst/>
            </a:prstGeom>
            <a:solidFill>
              <a:srgbClr val="ccecff"/>
            </a:solidFill>
            <a:ln w="12600">
              <a:solidFill>
                <a:srgbClr val="000000"/>
              </a:solidFill>
              <a:miter/>
            </a:ln>
          </p:spPr>
          <p:style>
            <a:lnRef idx="0"/>
            <a:fillRef idx="0"/>
            <a:effectRef idx="0"/>
            <a:fontRef idx="minor"/>
          </p:style>
          <p:txBody>
            <a:bodyPr lIns="45720" rIns="45720" tIns="32004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The importance of the individual vis à vis the group in diverse social and business situa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4" name="Freeform 9"/>
            <p:cNvSpPr/>
            <p:nvPr/>
          </p:nvSpPr>
          <p:spPr>
            <a:xfrm>
              <a:off x="266400" y="4758840"/>
              <a:ext cx="3036600" cy="459720"/>
            </a:xfrm>
            <a:custGeom>
              <a:avLst/>
              <a:gdLst>
                <a:gd name="textAreaLeft" fmla="*/ 0 w 3036600"/>
                <a:gd name="textAreaRight" fmla="*/ 3036960 w 3036600"/>
                <a:gd name="textAreaTop" fmla="*/ 0 h 459720"/>
                <a:gd name="textAreaBottom" fmla="*/ 460080 h 459720"/>
              </a:gdLst>
              <a:ahLst/>
              <a:rect l="textAreaLeft" t="textAreaTop" r="textAreaRight" b="textAreaBottom"/>
              <a:pathLst>
                <a:path w="731" h="185">
                  <a:moveTo>
                    <a:pt x="0" y="185"/>
                  </a:moveTo>
                  <a:lnTo>
                    <a:pt x="171" y="0"/>
                  </a:lnTo>
                  <a:lnTo>
                    <a:pt x="731" y="0"/>
                  </a:lnTo>
                  <a:lnTo>
                    <a:pt x="660" y="185"/>
                  </a:lnTo>
                  <a:lnTo>
                    <a:pt x="0" y="185"/>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5" name="Rectangle 10"/>
            <p:cNvSpPr/>
            <p:nvPr/>
          </p:nvSpPr>
          <p:spPr>
            <a:xfrm flipH="1">
              <a:off x="5781960" y="4758840"/>
              <a:ext cx="2327400" cy="1390320"/>
            </a:xfrm>
            <a:prstGeom prst="rect">
              <a:avLst/>
            </a:prstGeom>
            <a:solidFill>
              <a:srgbClr val="63c4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Freeform 11"/>
            <p:cNvSpPr/>
            <p:nvPr/>
          </p:nvSpPr>
          <p:spPr>
            <a:xfrm flipH="1">
              <a:off x="8110440" y="4758840"/>
              <a:ext cx="709200" cy="2098800"/>
            </a:xfrm>
            <a:custGeom>
              <a:avLst/>
              <a:gdLst>
                <a:gd name="textAreaLeft" fmla="*/ 360 w 709200"/>
                <a:gd name="textAreaRight" fmla="*/ 709920 w 709200"/>
                <a:gd name="textAreaTop" fmla="*/ 0 h 2098800"/>
                <a:gd name="textAreaBottom" fmla="*/ 2099160 h 2098800"/>
              </a:gdLst>
              <a:ahLst/>
              <a:rect l="textAreaLeft" t="textAreaTop" r="textAreaRight" b="textAreaBottom"/>
              <a:pathLst>
                <a:path w="171" h="845">
                  <a:moveTo>
                    <a:pt x="0" y="845"/>
                  </a:moveTo>
                  <a:lnTo>
                    <a:pt x="171" y="560"/>
                  </a:lnTo>
                  <a:lnTo>
                    <a:pt x="171" y="0"/>
                  </a:lnTo>
                  <a:lnTo>
                    <a:pt x="0" y="185"/>
                  </a:lnTo>
                  <a:lnTo>
                    <a:pt x="0" y="84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7" name="Freeform 12"/>
            <p:cNvSpPr/>
            <p:nvPr/>
          </p:nvSpPr>
          <p:spPr>
            <a:xfrm flipH="1">
              <a:off x="5781960" y="6149160"/>
              <a:ext cx="3036600" cy="708120"/>
            </a:xfrm>
            <a:custGeom>
              <a:avLst/>
              <a:gdLst>
                <a:gd name="textAreaLeft" fmla="*/ -360 w 3036600"/>
                <a:gd name="textAreaRight" fmla="*/ 3036600 w 3036600"/>
                <a:gd name="textAreaTop" fmla="*/ 0 h 708120"/>
                <a:gd name="textAreaBottom" fmla="*/ 708480 h 708120"/>
              </a:gdLst>
              <a:ahLst/>
              <a:rect l="textAreaLeft" t="textAreaTop" r="textAreaRight" b="textAreaBottom"/>
              <a:pathLst>
                <a:path w="731" h="285">
                  <a:moveTo>
                    <a:pt x="171" y="0"/>
                  </a:moveTo>
                  <a:lnTo>
                    <a:pt x="731" y="0"/>
                  </a:lnTo>
                  <a:lnTo>
                    <a:pt x="660" y="285"/>
                  </a:lnTo>
                  <a:lnTo>
                    <a:pt x="0" y="285"/>
                  </a:lnTo>
                  <a:lnTo>
                    <a:pt x="171"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8" name="Freeform 13"/>
            <p:cNvSpPr/>
            <p:nvPr/>
          </p:nvSpPr>
          <p:spPr>
            <a:xfrm flipH="1">
              <a:off x="5782680" y="4758840"/>
              <a:ext cx="295200" cy="2098800"/>
            </a:xfrm>
            <a:custGeom>
              <a:avLst/>
              <a:gdLst>
                <a:gd name="textAreaLeft" fmla="*/ 360 w 295200"/>
                <a:gd name="textAreaRight" fmla="*/ 295920 w 295200"/>
                <a:gd name="textAreaTop" fmla="*/ 0 h 2098800"/>
                <a:gd name="textAreaBottom" fmla="*/ 2099160 h 2098800"/>
              </a:gdLst>
              <a:ahLst/>
              <a:rect l="textAreaLeft" t="textAreaTop" r="textAreaRight" b="textAreaBottom"/>
              <a:pathLst>
                <a:path w="71" h="845">
                  <a:moveTo>
                    <a:pt x="0" y="185"/>
                  </a:moveTo>
                  <a:lnTo>
                    <a:pt x="71" y="0"/>
                  </a:lnTo>
                  <a:lnTo>
                    <a:pt x="71" y="560"/>
                  </a:lnTo>
                  <a:lnTo>
                    <a:pt x="0" y="845"/>
                  </a:lnTo>
                  <a:lnTo>
                    <a:pt x="0" y="185"/>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9" name="Rectangle 14"/>
            <p:cNvSpPr/>
            <p:nvPr/>
          </p:nvSpPr>
          <p:spPr>
            <a:xfrm flipH="1">
              <a:off x="6078240" y="5216040"/>
              <a:ext cx="2741040" cy="1639440"/>
            </a:xfrm>
            <a:prstGeom prst="rect">
              <a:avLst/>
            </a:prstGeom>
            <a:solidFill>
              <a:srgbClr val="ccecff"/>
            </a:solidFill>
            <a:ln w="12600">
              <a:solidFill>
                <a:srgbClr val="000000"/>
              </a:solidFill>
              <a:miter/>
            </a:ln>
          </p:spPr>
          <p:style>
            <a:lnRef idx="0"/>
            <a:fillRef idx="0"/>
            <a:effectRef idx="0"/>
            <a:fontRef idx="minor"/>
          </p:style>
          <p:txBody>
            <a:bodyPr lIns="45720" rIns="45720" tIns="32004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Group responses to change, the need for rules and the ability to take risks. Also includes the perception of how much control individuals have over their destiny</a:t>
              </a:r>
              <a:endParaRPr b="0" lang="en-US" sz="1400" spc="-1" strike="noStrike">
                <a:solidFill>
                  <a:srgbClr val="000000"/>
                </a:solidFill>
                <a:latin typeface="Calibri"/>
              </a:endParaRPr>
            </a:p>
          </p:txBody>
        </p:sp>
        <p:sp>
          <p:nvSpPr>
            <p:cNvPr id="640" name="Freeform 15"/>
            <p:cNvSpPr/>
            <p:nvPr/>
          </p:nvSpPr>
          <p:spPr>
            <a:xfrm flipH="1">
              <a:off x="5781960" y="4758840"/>
              <a:ext cx="3036600" cy="459720"/>
            </a:xfrm>
            <a:custGeom>
              <a:avLst/>
              <a:gdLst>
                <a:gd name="textAreaLeft" fmla="*/ -360 w 3036600"/>
                <a:gd name="textAreaRight" fmla="*/ 3036600 w 3036600"/>
                <a:gd name="textAreaTop" fmla="*/ 0 h 459720"/>
                <a:gd name="textAreaBottom" fmla="*/ 460080 h 459720"/>
              </a:gdLst>
              <a:ahLst/>
              <a:rect l="textAreaLeft" t="textAreaTop" r="textAreaRight" b="textAreaBottom"/>
              <a:pathLst>
                <a:path w="731" h="185">
                  <a:moveTo>
                    <a:pt x="0" y="185"/>
                  </a:moveTo>
                  <a:lnTo>
                    <a:pt x="171" y="0"/>
                  </a:lnTo>
                  <a:lnTo>
                    <a:pt x="731" y="0"/>
                  </a:lnTo>
                  <a:lnTo>
                    <a:pt x="660" y="185"/>
                  </a:lnTo>
                  <a:lnTo>
                    <a:pt x="0" y="185"/>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1" name="Rectangle 16"/>
            <p:cNvSpPr/>
            <p:nvPr/>
          </p:nvSpPr>
          <p:spPr>
            <a:xfrm flipH="1">
              <a:off x="3377160" y="4758840"/>
              <a:ext cx="2329200" cy="1390320"/>
            </a:xfrm>
            <a:prstGeom prst="rect">
              <a:avLst/>
            </a:prstGeom>
            <a:solidFill>
              <a:srgbClr val="63c4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Freeform 17"/>
            <p:cNvSpPr/>
            <p:nvPr/>
          </p:nvSpPr>
          <p:spPr>
            <a:xfrm>
              <a:off x="5706720" y="4758840"/>
              <a:ext cx="210960" cy="2098800"/>
            </a:xfrm>
            <a:custGeom>
              <a:avLst/>
              <a:gdLst>
                <a:gd name="textAreaLeft" fmla="*/ 0 w 210960"/>
                <a:gd name="textAreaRight" fmla="*/ 211320 w 210960"/>
                <a:gd name="textAreaTop" fmla="*/ 0 h 2098800"/>
                <a:gd name="textAreaBottom" fmla="*/ 2099160 h 2098800"/>
              </a:gdLst>
              <a:ahLst/>
              <a:rect l="textAreaLeft" t="textAreaTop" r="textAreaRight" b="textAreaBottom"/>
              <a:pathLst>
                <a:path w="51" h="845">
                  <a:moveTo>
                    <a:pt x="51" y="845"/>
                  </a:moveTo>
                  <a:lnTo>
                    <a:pt x="0" y="561"/>
                  </a:lnTo>
                  <a:lnTo>
                    <a:pt x="0" y="0"/>
                  </a:lnTo>
                  <a:lnTo>
                    <a:pt x="51" y="185"/>
                  </a:lnTo>
                  <a:lnTo>
                    <a:pt x="51" y="845"/>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3" name="Freeform 18"/>
            <p:cNvSpPr/>
            <p:nvPr/>
          </p:nvSpPr>
          <p:spPr>
            <a:xfrm>
              <a:off x="3174480" y="6151320"/>
              <a:ext cx="2743200" cy="704160"/>
            </a:xfrm>
            <a:custGeom>
              <a:avLst/>
              <a:gdLst>
                <a:gd name="textAreaLeft" fmla="*/ 0 w 2743200"/>
                <a:gd name="textAreaRight" fmla="*/ 2743560 w 2743200"/>
                <a:gd name="textAreaTop" fmla="*/ 0 h 704160"/>
                <a:gd name="textAreaBottom" fmla="*/ 704520 h 704160"/>
              </a:gdLst>
              <a:ahLst/>
              <a:rect l="textAreaLeft" t="textAreaTop" r="textAreaRight" b="textAreaBottom"/>
              <a:pathLst>
                <a:path w="660" h="284">
                  <a:moveTo>
                    <a:pt x="609" y="0"/>
                  </a:moveTo>
                  <a:lnTo>
                    <a:pt x="49" y="0"/>
                  </a:lnTo>
                  <a:lnTo>
                    <a:pt x="0" y="284"/>
                  </a:lnTo>
                  <a:lnTo>
                    <a:pt x="660" y="284"/>
                  </a:lnTo>
                  <a:lnTo>
                    <a:pt x="609"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4" name="Freeform 19"/>
            <p:cNvSpPr/>
            <p:nvPr/>
          </p:nvSpPr>
          <p:spPr>
            <a:xfrm>
              <a:off x="3174480" y="4754160"/>
              <a:ext cx="202320" cy="2103120"/>
            </a:xfrm>
            <a:custGeom>
              <a:avLst/>
              <a:gdLst>
                <a:gd name="textAreaLeft" fmla="*/ 0 w 202320"/>
                <a:gd name="textAreaRight" fmla="*/ 202680 w 202320"/>
                <a:gd name="textAreaTop" fmla="*/ 0 h 2103120"/>
                <a:gd name="textAreaBottom" fmla="*/ 2103480 h 2103120"/>
              </a:gdLst>
              <a:ahLst/>
              <a:rect l="textAreaLeft" t="textAreaTop" r="textAreaRight" b="textAreaBottom"/>
              <a:pathLst>
                <a:path w="49" h="847">
                  <a:moveTo>
                    <a:pt x="0" y="187"/>
                  </a:moveTo>
                  <a:lnTo>
                    <a:pt x="49" y="0"/>
                  </a:lnTo>
                  <a:lnTo>
                    <a:pt x="49" y="561"/>
                  </a:lnTo>
                  <a:lnTo>
                    <a:pt x="0" y="847"/>
                  </a:lnTo>
                  <a:lnTo>
                    <a:pt x="0" y="187"/>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5" name="Rectangle 20"/>
            <p:cNvSpPr/>
            <p:nvPr/>
          </p:nvSpPr>
          <p:spPr>
            <a:xfrm flipH="1">
              <a:off x="3171960" y="5216040"/>
              <a:ext cx="2740680" cy="1639440"/>
            </a:xfrm>
            <a:prstGeom prst="rect">
              <a:avLst/>
            </a:prstGeom>
            <a:solidFill>
              <a:srgbClr val="ccecff"/>
            </a:solidFill>
            <a:ln w="12600">
              <a:solidFill>
                <a:srgbClr val="000000"/>
              </a:solidFill>
              <a:miter/>
            </a:ln>
          </p:spPr>
          <p:style>
            <a:lnRef idx="0"/>
            <a:fillRef idx="0"/>
            <a:effectRef idx="0"/>
            <a:fontRef idx="minor"/>
          </p:style>
          <p:txBody>
            <a:bodyPr lIns="45720" rIns="45720" tIns="32004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How roles, power and authority are associated with each gender as well as individuals of different races, religions, nationalities, etc.</a:t>
              </a:r>
              <a:endParaRPr b="0" lang="en-US" sz="1400" spc="-1" strike="noStrike">
                <a:solidFill>
                  <a:srgbClr val="000000"/>
                </a:solidFill>
                <a:latin typeface="Calibri"/>
              </a:endParaRPr>
            </a:p>
          </p:txBody>
        </p:sp>
        <p:sp>
          <p:nvSpPr>
            <p:cNvPr id="646" name="Freeform 21"/>
            <p:cNvSpPr/>
            <p:nvPr/>
          </p:nvSpPr>
          <p:spPr>
            <a:xfrm>
              <a:off x="3174480" y="4758840"/>
              <a:ext cx="2743200" cy="457200"/>
            </a:xfrm>
            <a:custGeom>
              <a:avLst/>
              <a:gdLst>
                <a:gd name="textAreaLeft" fmla="*/ 0 w 2743200"/>
                <a:gd name="textAreaRight" fmla="*/ 2743560 w 2743200"/>
                <a:gd name="textAreaTop" fmla="*/ 0 h 457200"/>
                <a:gd name="textAreaBottom" fmla="*/ 457560 h 457200"/>
              </a:gdLst>
              <a:ahLst/>
              <a:rect l="textAreaLeft" t="textAreaTop" r="textAreaRight" b="textAreaBottom"/>
              <a:pathLst>
                <a:path w="660" h="184">
                  <a:moveTo>
                    <a:pt x="660" y="184"/>
                  </a:moveTo>
                  <a:lnTo>
                    <a:pt x="609" y="0"/>
                  </a:lnTo>
                  <a:lnTo>
                    <a:pt x="49" y="0"/>
                  </a:lnTo>
                  <a:lnTo>
                    <a:pt x="0" y="184"/>
                  </a:lnTo>
                  <a:lnTo>
                    <a:pt x="660" y="184"/>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7" name="Rectangle 22"/>
            <p:cNvSpPr/>
            <p:nvPr/>
          </p:nvSpPr>
          <p:spPr>
            <a:xfrm>
              <a:off x="975960" y="3034080"/>
              <a:ext cx="2327400" cy="1390320"/>
            </a:xfrm>
            <a:prstGeom prst="rect">
              <a:avLst/>
            </a:prstGeom>
            <a:solidFill>
              <a:srgbClr val="63c4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Freeform 23"/>
            <p:cNvSpPr/>
            <p:nvPr/>
          </p:nvSpPr>
          <p:spPr>
            <a:xfrm>
              <a:off x="266400" y="3034080"/>
              <a:ext cx="709200" cy="2098800"/>
            </a:xfrm>
            <a:custGeom>
              <a:avLst/>
              <a:gdLst>
                <a:gd name="textAreaLeft" fmla="*/ 0 w 709200"/>
                <a:gd name="textAreaRight" fmla="*/ 709560 w 709200"/>
                <a:gd name="textAreaTop" fmla="*/ 0 h 2098800"/>
                <a:gd name="textAreaBottom" fmla="*/ 2099160 h 2098800"/>
              </a:gdLst>
              <a:ahLst/>
              <a:rect l="textAreaLeft" t="textAreaTop" r="textAreaRight" b="textAreaBottom"/>
              <a:pathLst>
                <a:path w="171" h="845">
                  <a:moveTo>
                    <a:pt x="0" y="845"/>
                  </a:moveTo>
                  <a:lnTo>
                    <a:pt x="171" y="560"/>
                  </a:lnTo>
                  <a:lnTo>
                    <a:pt x="171" y="0"/>
                  </a:lnTo>
                  <a:lnTo>
                    <a:pt x="0" y="185"/>
                  </a:lnTo>
                  <a:lnTo>
                    <a:pt x="0" y="84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9" name="Freeform 24"/>
            <p:cNvSpPr/>
            <p:nvPr/>
          </p:nvSpPr>
          <p:spPr>
            <a:xfrm>
              <a:off x="266400" y="4424760"/>
              <a:ext cx="3036600" cy="708120"/>
            </a:xfrm>
            <a:custGeom>
              <a:avLst/>
              <a:gdLst>
                <a:gd name="textAreaLeft" fmla="*/ 0 w 3036600"/>
                <a:gd name="textAreaRight" fmla="*/ 3036960 w 3036600"/>
                <a:gd name="textAreaTop" fmla="*/ 0 h 708120"/>
                <a:gd name="textAreaBottom" fmla="*/ 708480 h 708120"/>
              </a:gdLst>
              <a:ahLst/>
              <a:rect l="textAreaLeft" t="textAreaTop" r="textAreaRight" b="textAreaBottom"/>
              <a:pathLst>
                <a:path w="731" h="285">
                  <a:moveTo>
                    <a:pt x="171" y="0"/>
                  </a:moveTo>
                  <a:lnTo>
                    <a:pt x="731" y="0"/>
                  </a:lnTo>
                  <a:lnTo>
                    <a:pt x="660" y="285"/>
                  </a:lnTo>
                  <a:lnTo>
                    <a:pt x="0" y="285"/>
                  </a:lnTo>
                  <a:lnTo>
                    <a:pt x="171"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0" name="Freeform 25"/>
            <p:cNvSpPr/>
            <p:nvPr/>
          </p:nvSpPr>
          <p:spPr>
            <a:xfrm>
              <a:off x="3007800" y="3034080"/>
              <a:ext cx="295200" cy="2098800"/>
            </a:xfrm>
            <a:custGeom>
              <a:avLst/>
              <a:gdLst>
                <a:gd name="textAreaLeft" fmla="*/ 0 w 295200"/>
                <a:gd name="textAreaRight" fmla="*/ 295560 w 295200"/>
                <a:gd name="textAreaTop" fmla="*/ 0 h 2098800"/>
                <a:gd name="textAreaBottom" fmla="*/ 2099160 h 2098800"/>
              </a:gdLst>
              <a:ahLst/>
              <a:rect l="textAreaLeft" t="textAreaTop" r="textAreaRight" b="textAreaBottom"/>
              <a:pathLst>
                <a:path w="71" h="845">
                  <a:moveTo>
                    <a:pt x="0" y="185"/>
                  </a:moveTo>
                  <a:lnTo>
                    <a:pt x="71" y="0"/>
                  </a:lnTo>
                  <a:lnTo>
                    <a:pt x="71" y="560"/>
                  </a:lnTo>
                  <a:lnTo>
                    <a:pt x="0" y="845"/>
                  </a:lnTo>
                  <a:lnTo>
                    <a:pt x="0" y="185"/>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1" name="Rectangle 26"/>
            <p:cNvSpPr/>
            <p:nvPr/>
          </p:nvSpPr>
          <p:spPr>
            <a:xfrm>
              <a:off x="266400" y="3489480"/>
              <a:ext cx="2741040" cy="1641600"/>
            </a:xfrm>
            <a:prstGeom prst="rect">
              <a:avLst/>
            </a:prstGeom>
            <a:solidFill>
              <a:srgbClr val="ccecff"/>
            </a:solidFill>
            <a:ln w="12600">
              <a:solidFill>
                <a:srgbClr val="000000"/>
              </a:solidFill>
              <a:miter/>
            </a:ln>
          </p:spPr>
          <p:style>
            <a:lnRef idx="0"/>
            <a:fillRef idx="0"/>
            <a:effectRef idx="0"/>
            <a:fontRef idx="minor"/>
          </p:style>
          <p:txBody>
            <a:bodyPr lIns="45720" rIns="45720" tIns="32004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The way individuals interact with one another within an organizational hierarchy</a:t>
              </a:r>
              <a:endParaRPr b="0" lang="en-US" sz="1400" spc="-1" strike="noStrike">
                <a:solidFill>
                  <a:srgbClr val="000000"/>
                </a:solidFill>
                <a:latin typeface="Calibri"/>
              </a:endParaRPr>
            </a:p>
          </p:txBody>
        </p:sp>
        <p:sp>
          <p:nvSpPr>
            <p:cNvPr id="652" name="Freeform 27"/>
            <p:cNvSpPr/>
            <p:nvPr/>
          </p:nvSpPr>
          <p:spPr>
            <a:xfrm>
              <a:off x="266400" y="3034080"/>
              <a:ext cx="3036600" cy="457200"/>
            </a:xfrm>
            <a:custGeom>
              <a:avLst/>
              <a:gdLst>
                <a:gd name="textAreaLeft" fmla="*/ 0 w 3036600"/>
                <a:gd name="textAreaRight" fmla="*/ 3036960 w 3036600"/>
                <a:gd name="textAreaTop" fmla="*/ 0 h 457200"/>
                <a:gd name="textAreaBottom" fmla="*/ 457560 h 457200"/>
              </a:gdLst>
              <a:ahLst/>
              <a:rect l="textAreaLeft" t="textAreaTop" r="textAreaRight" b="textAreaBottom"/>
              <a:pathLst>
                <a:path w="731" h="185">
                  <a:moveTo>
                    <a:pt x="0" y="185"/>
                  </a:moveTo>
                  <a:lnTo>
                    <a:pt x="171" y="0"/>
                  </a:lnTo>
                  <a:lnTo>
                    <a:pt x="731" y="0"/>
                  </a:lnTo>
                  <a:lnTo>
                    <a:pt x="660" y="185"/>
                  </a:lnTo>
                  <a:lnTo>
                    <a:pt x="0" y="185"/>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3" name="Rectangle 28"/>
            <p:cNvSpPr/>
            <p:nvPr/>
          </p:nvSpPr>
          <p:spPr>
            <a:xfrm flipH="1">
              <a:off x="5781960" y="3034080"/>
              <a:ext cx="2327400" cy="1390320"/>
            </a:xfrm>
            <a:prstGeom prst="rect">
              <a:avLst/>
            </a:prstGeom>
            <a:solidFill>
              <a:srgbClr val="63c4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Freeform 29"/>
            <p:cNvSpPr/>
            <p:nvPr/>
          </p:nvSpPr>
          <p:spPr>
            <a:xfrm flipH="1">
              <a:off x="8110440" y="3034080"/>
              <a:ext cx="709200" cy="2098800"/>
            </a:xfrm>
            <a:custGeom>
              <a:avLst/>
              <a:gdLst>
                <a:gd name="textAreaLeft" fmla="*/ 360 w 709200"/>
                <a:gd name="textAreaRight" fmla="*/ 709920 w 709200"/>
                <a:gd name="textAreaTop" fmla="*/ 0 h 2098800"/>
                <a:gd name="textAreaBottom" fmla="*/ 2099160 h 2098800"/>
              </a:gdLst>
              <a:ahLst/>
              <a:rect l="textAreaLeft" t="textAreaTop" r="textAreaRight" b="textAreaBottom"/>
              <a:pathLst>
                <a:path w="171" h="845">
                  <a:moveTo>
                    <a:pt x="0" y="845"/>
                  </a:moveTo>
                  <a:lnTo>
                    <a:pt x="171" y="560"/>
                  </a:lnTo>
                  <a:lnTo>
                    <a:pt x="171" y="0"/>
                  </a:lnTo>
                  <a:lnTo>
                    <a:pt x="0" y="185"/>
                  </a:lnTo>
                  <a:lnTo>
                    <a:pt x="0" y="84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5" name="Freeform 30"/>
            <p:cNvSpPr/>
            <p:nvPr/>
          </p:nvSpPr>
          <p:spPr>
            <a:xfrm flipH="1">
              <a:off x="5781960" y="4424760"/>
              <a:ext cx="3036600" cy="708120"/>
            </a:xfrm>
            <a:custGeom>
              <a:avLst/>
              <a:gdLst>
                <a:gd name="textAreaLeft" fmla="*/ -360 w 3036600"/>
                <a:gd name="textAreaRight" fmla="*/ 3036600 w 3036600"/>
                <a:gd name="textAreaTop" fmla="*/ 0 h 708120"/>
                <a:gd name="textAreaBottom" fmla="*/ 708480 h 708120"/>
              </a:gdLst>
              <a:ahLst/>
              <a:rect l="textAreaLeft" t="textAreaTop" r="textAreaRight" b="textAreaBottom"/>
              <a:pathLst>
                <a:path w="731" h="285">
                  <a:moveTo>
                    <a:pt x="171" y="0"/>
                  </a:moveTo>
                  <a:lnTo>
                    <a:pt x="731" y="0"/>
                  </a:lnTo>
                  <a:lnTo>
                    <a:pt x="660" y="285"/>
                  </a:lnTo>
                  <a:lnTo>
                    <a:pt x="0" y="285"/>
                  </a:lnTo>
                  <a:lnTo>
                    <a:pt x="171" y="0"/>
                  </a:lnTo>
                  <a:close/>
                </a:path>
              </a:pathLst>
            </a:custGeom>
            <a:solidFill>
              <a:srgbClr val="4472c4"/>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6" name="Freeform 31"/>
            <p:cNvSpPr/>
            <p:nvPr/>
          </p:nvSpPr>
          <p:spPr>
            <a:xfrm flipH="1">
              <a:off x="5782680" y="3034080"/>
              <a:ext cx="295200" cy="2098800"/>
            </a:xfrm>
            <a:custGeom>
              <a:avLst/>
              <a:gdLst>
                <a:gd name="textAreaLeft" fmla="*/ 360 w 295200"/>
                <a:gd name="textAreaRight" fmla="*/ 295920 w 295200"/>
                <a:gd name="textAreaTop" fmla="*/ 0 h 2098800"/>
                <a:gd name="textAreaBottom" fmla="*/ 2099160 h 2098800"/>
              </a:gdLst>
              <a:ahLst/>
              <a:rect l="textAreaLeft" t="textAreaTop" r="textAreaRight" b="textAreaBottom"/>
              <a:pathLst>
                <a:path w="71" h="845">
                  <a:moveTo>
                    <a:pt x="0" y="185"/>
                  </a:moveTo>
                  <a:lnTo>
                    <a:pt x="71" y="0"/>
                  </a:lnTo>
                  <a:lnTo>
                    <a:pt x="71" y="560"/>
                  </a:lnTo>
                  <a:lnTo>
                    <a:pt x="0" y="845"/>
                  </a:lnTo>
                  <a:lnTo>
                    <a:pt x="0" y="185"/>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7" name="Rectangle 32"/>
            <p:cNvSpPr/>
            <p:nvPr/>
          </p:nvSpPr>
          <p:spPr>
            <a:xfrm flipH="1">
              <a:off x="6078240" y="3489480"/>
              <a:ext cx="2741040" cy="1641600"/>
            </a:xfrm>
            <a:prstGeom prst="rect">
              <a:avLst/>
            </a:prstGeom>
            <a:solidFill>
              <a:srgbClr val="ccecff"/>
            </a:solidFill>
            <a:ln w="12600">
              <a:solidFill>
                <a:srgbClr val="000000"/>
              </a:solidFill>
              <a:miter/>
            </a:ln>
          </p:spPr>
          <p:style>
            <a:lnRef idx="0"/>
            <a:fillRef idx="0"/>
            <a:effectRef idx="0"/>
            <a:fontRef idx="minor"/>
          </p:style>
          <p:txBody>
            <a:bodyPr lIns="45720" rIns="45720" tIns="32004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How individuals use space to define themselves, including spatial distances when speaking and the amount of space needed for comfort in business and living environments</a:t>
              </a:r>
              <a:endParaRPr b="0" lang="en-US" sz="1400" spc="-1" strike="noStrike">
                <a:solidFill>
                  <a:srgbClr val="000000"/>
                </a:solidFill>
                <a:latin typeface="Calibri"/>
              </a:endParaRPr>
            </a:p>
          </p:txBody>
        </p:sp>
        <p:sp>
          <p:nvSpPr>
            <p:cNvPr id="658" name="Freeform 33"/>
            <p:cNvSpPr/>
            <p:nvPr/>
          </p:nvSpPr>
          <p:spPr>
            <a:xfrm flipH="1">
              <a:off x="5781960" y="3034080"/>
              <a:ext cx="3036600" cy="457200"/>
            </a:xfrm>
            <a:custGeom>
              <a:avLst/>
              <a:gdLst>
                <a:gd name="textAreaLeft" fmla="*/ -360 w 3036600"/>
                <a:gd name="textAreaRight" fmla="*/ 3036600 w 3036600"/>
                <a:gd name="textAreaTop" fmla="*/ 0 h 457200"/>
                <a:gd name="textAreaBottom" fmla="*/ 457560 h 457200"/>
              </a:gdLst>
              <a:ahLst/>
              <a:rect l="textAreaLeft" t="textAreaTop" r="textAreaRight" b="textAreaBottom"/>
              <a:pathLst>
                <a:path w="731" h="185">
                  <a:moveTo>
                    <a:pt x="0" y="185"/>
                  </a:moveTo>
                  <a:lnTo>
                    <a:pt x="171" y="0"/>
                  </a:lnTo>
                  <a:lnTo>
                    <a:pt x="731" y="0"/>
                  </a:lnTo>
                  <a:lnTo>
                    <a:pt x="660" y="185"/>
                  </a:lnTo>
                  <a:lnTo>
                    <a:pt x="0" y="185"/>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9" name="Rectangle 34"/>
            <p:cNvSpPr/>
            <p:nvPr/>
          </p:nvSpPr>
          <p:spPr>
            <a:xfrm flipH="1">
              <a:off x="3377160" y="3034080"/>
              <a:ext cx="2329200" cy="1390320"/>
            </a:xfrm>
            <a:prstGeom prst="rect">
              <a:avLst/>
            </a:prstGeom>
            <a:solidFill>
              <a:srgbClr val="63c4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Freeform 35"/>
            <p:cNvSpPr/>
            <p:nvPr/>
          </p:nvSpPr>
          <p:spPr>
            <a:xfrm>
              <a:off x="5706720" y="3034080"/>
              <a:ext cx="210960" cy="2098800"/>
            </a:xfrm>
            <a:custGeom>
              <a:avLst/>
              <a:gdLst>
                <a:gd name="textAreaLeft" fmla="*/ 0 w 210960"/>
                <a:gd name="textAreaRight" fmla="*/ 211320 w 210960"/>
                <a:gd name="textAreaTop" fmla="*/ 0 h 2098800"/>
                <a:gd name="textAreaBottom" fmla="*/ 2099160 h 2098800"/>
              </a:gdLst>
              <a:ahLst/>
              <a:rect l="textAreaLeft" t="textAreaTop" r="textAreaRight" b="textAreaBottom"/>
              <a:pathLst>
                <a:path w="51" h="845">
                  <a:moveTo>
                    <a:pt x="51" y="845"/>
                  </a:moveTo>
                  <a:lnTo>
                    <a:pt x="0" y="561"/>
                  </a:lnTo>
                  <a:lnTo>
                    <a:pt x="0" y="0"/>
                  </a:lnTo>
                  <a:lnTo>
                    <a:pt x="51" y="185"/>
                  </a:lnTo>
                  <a:lnTo>
                    <a:pt x="51" y="845"/>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1" name="Freeform 36"/>
            <p:cNvSpPr/>
            <p:nvPr/>
          </p:nvSpPr>
          <p:spPr>
            <a:xfrm>
              <a:off x="3174480" y="4426560"/>
              <a:ext cx="2743200" cy="704160"/>
            </a:xfrm>
            <a:custGeom>
              <a:avLst/>
              <a:gdLst>
                <a:gd name="textAreaLeft" fmla="*/ 0 w 2743200"/>
                <a:gd name="textAreaRight" fmla="*/ 2743560 w 2743200"/>
                <a:gd name="textAreaTop" fmla="*/ 0 h 704160"/>
                <a:gd name="textAreaBottom" fmla="*/ 704520 h 704160"/>
              </a:gdLst>
              <a:ahLst/>
              <a:rect l="textAreaLeft" t="textAreaTop" r="textAreaRight" b="textAreaBottom"/>
              <a:pathLst>
                <a:path w="660" h="284">
                  <a:moveTo>
                    <a:pt x="609" y="0"/>
                  </a:moveTo>
                  <a:lnTo>
                    <a:pt x="49" y="0"/>
                  </a:lnTo>
                  <a:lnTo>
                    <a:pt x="0" y="284"/>
                  </a:lnTo>
                  <a:lnTo>
                    <a:pt x="660" y="284"/>
                  </a:lnTo>
                  <a:lnTo>
                    <a:pt x="609" y="0"/>
                  </a:lnTo>
                  <a:close/>
                </a:path>
              </a:pathLst>
            </a:custGeom>
            <a:solidFill>
              <a:srgbClr val="4472c4"/>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2" name="Freeform 37"/>
            <p:cNvSpPr/>
            <p:nvPr/>
          </p:nvSpPr>
          <p:spPr>
            <a:xfrm>
              <a:off x="3174480" y="3027600"/>
              <a:ext cx="202320" cy="2105280"/>
            </a:xfrm>
            <a:custGeom>
              <a:avLst/>
              <a:gdLst>
                <a:gd name="textAreaLeft" fmla="*/ 0 w 202320"/>
                <a:gd name="textAreaRight" fmla="*/ 202680 w 202320"/>
                <a:gd name="textAreaTop" fmla="*/ 0 h 2105280"/>
                <a:gd name="textAreaBottom" fmla="*/ 2105640 h 2105280"/>
              </a:gdLst>
              <a:ahLst/>
              <a:rect l="textAreaLeft" t="textAreaTop" r="textAreaRight" b="textAreaBottom"/>
              <a:pathLst>
                <a:path w="49" h="847">
                  <a:moveTo>
                    <a:pt x="0" y="187"/>
                  </a:moveTo>
                  <a:lnTo>
                    <a:pt x="49" y="0"/>
                  </a:lnTo>
                  <a:lnTo>
                    <a:pt x="49" y="561"/>
                  </a:lnTo>
                  <a:lnTo>
                    <a:pt x="0" y="847"/>
                  </a:lnTo>
                  <a:lnTo>
                    <a:pt x="0" y="187"/>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3" name="Rectangle 38"/>
            <p:cNvSpPr/>
            <p:nvPr/>
          </p:nvSpPr>
          <p:spPr>
            <a:xfrm flipH="1">
              <a:off x="3171960" y="3489480"/>
              <a:ext cx="2740680" cy="1641600"/>
            </a:xfrm>
            <a:prstGeom prst="rect">
              <a:avLst/>
            </a:prstGeom>
            <a:solidFill>
              <a:srgbClr val="ccecff"/>
            </a:solidFill>
            <a:ln w="12600">
              <a:solidFill>
                <a:srgbClr val="000000"/>
              </a:solidFill>
              <a:miter/>
            </a:ln>
          </p:spPr>
          <p:style>
            <a:lnRef idx="0"/>
            <a:fillRef idx="0"/>
            <a:effectRef idx="0"/>
            <a:fontRef idx="minor"/>
          </p:style>
          <p:txBody>
            <a:bodyPr lIns="45720" rIns="45720" tIns="32004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The importance of personal achievement and accomplishment to an individual’s overall sense of well-being</a:t>
              </a:r>
              <a:endParaRPr b="0" lang="en-US" sz="1400" spc="-1" strike="noStrike">
                <a:solidFill>
                  <a:srgbClr val="000000"/>
                </a:solidFill>
                <a:latin typeface="Calibri"/>
              </a:endParaRPr>
            </a:p>
          </p:txBody>
        </p:sp>
        <p:sp>
          <p:nvSpPr>
            <p:cNvPr id="664" name="Freeform 39"/>
            <p:cNvSpPr/>
            <p:nvPr/>
          </p:nvSpPr>
          <p:spPr>
            <a:xfrm>
              <a:off x="3174480" y="3034080"/>
              <a:ext cx="2743200" cy="455040"/>
            </a:xfrm>
            <a:custGeom>
              <a:avLst/>
              <a:gdLst>
                <a:gd name="textAreaLeft" fmla="*/ 0 w 2743200"/>
                <a:gd name="textAreaRight" fmla="*/ 2743560 w 2743200"/>
                <a:gd name="textAreaTop" fmla="*/ 0 h 455040"/>
                <a:gd name="textAreaBottom" fmla="*/ 455400 h 455040"/>
              </a:gdLst>
              <a:ahLst/>
              <a:rect l="textAreaLeft" t="textAreaTop" r="textAreaRight" b="textAreaBottom"/>
              <a:pathLst>
                <a:path w="660" h="184">
                  <a:moveTo>
                    <a:pt x="660" y="184"/>
                  </a:moveTo>
                  <a:lnTo>
                    <a:pt x="609" y="0"/>
                  </a:lnTo>
                  <a:lnTo>
                    <a:pt x="49" y="0"/>
                  </a:lnTo>
                  <a:lnTo>
                    <a:pt x="0" y="184"/>
                  </a:lnTo>
                  <a:lnTo>
                    <a:pt x="660" y="184"/>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5" name="Rectangle 40"/>
            <p:cNvSpPr/>
            <p:nvPr/>
          </p:nvSpPr>
          <p:spPr>
            <a:xfrm>
              <a:off x="975960" y="1307160"/>
              <a:ext cx="2327400" cy="1390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Freeform 41"/>
            <p:cNvSpPr/>
            <p:nvPr/>
          </p:nvSpPr>
          <p:spPr>
            <a:xfrm>
              <a:off x="266400" y="1307160"/>
              <a:ext cx="709200" cy="2099160"/>
            </a:xfrm>
            <a:custGeom>
              <a:avLst/>
              <a:gdLst>
                <a:gd name="textAreaLeft" fmla="*/ 0 w 709200"/>
                <a:gd name="textAreaRight" fmla="*/ 709560 w 709200"/>
                <a:gd name="textAreaTop" fmla="*/ 0 h 2099160"/>
                <a:gd name="textAreaBottom" fmla="*/ 2099520 h 2099160"/>
              </a:gdLst>
              <a:ahLst/>
              <a:rect l="textAreaLeft" t="textAreaTop" r="textAreaRight" b="textAreaBottom"/>
              <a:pathLst>
                <a:path w="171" h="845">
                  <a:moveTo>
                    <a:pt x="0" y="845"/>
                  </a:moveTo>
                  <a:lnTo>
                    <a:pt x="171" y="560"/>
                  </a:lnTo>
                  <a:lnTo>
                    <a:pt x="171" y="0"/>
                  </a:lnTo>
                  <a:lnTo>
                    <a:pt x="0" y="185"/>
                  </a:lnTo>
                  <a:lnTo>
                    <a:pt x="0" y="84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7" name="Freeform 42"/>
            <p:cNvSpPr/>
            <p:nvPr/>
          </p:nvSpPr>
          <p:spPr>
            <a:xfrm>
              <a:off x="266400" y="2697480"/>
              <a:ext cx="3036600" cy="708840"/>
            </a:xfrm>
            <a:custGeom>
              <a:avLst/>
              <a:gdLst>
                <a:gd name="textAreaLeft" fmla="*/ 0 w 3036600"/>
                <a:gd name="textAreaRight" fmla="*/ 3036960 w 3036600"/>
                <a:gd name="textAreaTop" fmla="*/ 0 h 708840"/>
                <a:gd name="textAreaBottom" fmla="*/ 709200 h 708840"/>
              </a:gdLst>
              <a:ahLst/>
              <a:rect l="textAreaLeft" t="textAreaTop" r="textAreaRight" b="textAreaBottom"/>
              <a:pathLst>
                <a:path w="731" h="285">
                  <a:moveTo>
                    <a:pt x="171" y="0"/>
                  </a:moveTo>
                  <a:lnTo>
                    <a:pt x="731" y="0"/>
                  </a:lnTo>
                  <a:lnTo>
                    <a:pt x="660" y="285"/>
                  </a:lnTo>
                  <a:lnTo>
                    <a:pt x="0" y="285"/>
                  </a:lnTo>
                  <a:lnTo>
                    <a:pt x="171" y="0"/>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8" name="Freeform 43"/>
            <p:cNvSpPr/>
            <p:nvPr/>
          </p:nvSpPr>
          <p:spPr>
            <a:xfrm>
              <a:off x="3007800" y="1307160"/>
              <a:ext cx="295200" cy="2099160"/>
            </a:xfrm>
            <a:custGeom>
              <a:avLst/>
              <a:gdLst>
                <a:gd name="textAreaLeft" fmla="*/ 0 w 295200"/>
                <a:gd name="textAreaRight" fmla="*/ 295560 w 295200"/>
                <a:gd name="textAreaTop" fmla="*/ 0 h 2099160"/>
                <a:gd name="textAreaBottom" fmla="*/ 2099520 h 2099160"/>
              </a:gdLst>
              <a:ahLst/>
              <a:rect l="textAreaLeft" t="textAreaTop" r="textAreaRight" b="textAreaBottom"/>
              <a:pathLst>
                <a:path w="71" h="845">
                  <a:moveTo>
                    <a:pt x="0" y="185"/>
                  </a:moveTo>
                  <a:lnTo>
                    <a:pt x="71" y="0"/>
                  </a:lnTo>
                  <a:lnTo>
                    <a:pt x="71" y="560"/>
                  </a:lnTo>
                  <a:lnTo>
                    <a:pt x="0" y="845"/>
                  </a:lnTo>
                  <a:lnTo>
                    <a:pt x="0" y="185"/>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9" name="Rectangle 44"/>
            <p:cNvSpPr/>
            <p:nvPr/>
          </p:nvSpPr>
          <p:spPr>
            <a:xfrm>
              <a:off x="235080" y="1766880"/>
              <a:ext cx="2740680" cy="1639440"/>
            </a:xfrm>
            <a:prstGeom prst="rect">
              <a:avLst/>
            </a:prstGeom>
            <a:solidFill>
              <a:srgbClr val="ccecff"/>
            </a:solidFill>
            <a:ln w="12600">
              <a:solidFill>
                <a:srgbClr val="000000"/>
              </a:solidFill>
              <a:miter/>
            </a:ln>
          </p:spPr>
          <p:style>
            <a:lnRef idx="0"/>
            <a:fillRef idx="0"/>
            <a:effectRef idx="0"/>
            <a:fontRef idx="minor"/>
          </p:style>
          <p:txBody>
            <a:bodyPr lIns="45720" rIns="45720" tIns="32004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The significance placed on completing a job versus devoting time to building relationships among business associates</a:t>
              </a:r>
              <a:endParaRPr b="0" lang="en-US" sz="1400" spc="-1" strike="noStrike">
                <a:solidFill>
                  <a:srgbClr val="000000"/>
                </a:solidFill>
                <a:latin typeface="Calibri"/>
              </a:endParaRPr>
            </a:p>
          </p:txBody>
        </p:sp>
        <p:sp>
          <p:nvSpPr>
            <p:cNvPr id="670" name="Freeform 45"/>
            <p:cNvSpPr/>
            <p:nvPr/>
          </p:nvSpPr>
          <p:spPr>
            <a:xfrm>
              <a:off x="266400" y="1307160"/>
              <a:ext cx="3036600" cy="459720"/>
            </a:xfrm>
            <a:custGeom>
              <a:avLst/>
              <a:gdLst>
                <a:gd name="textAreaLeft" fmla="*/ 0 w 3036600"/>
                <a:gd name="textAreaRight" fmla="*/ 3036960 w 3036600"/>
                <a:gd name="textAreaTop" fmla="*/ 0 h 459720"/>
                <a:gd name="textAreaBottom" fmla="*/ 460080 h 459720"/>
              </a:gdLst>
              <a:ahLst/>
              <a:rect l="textAreaLeft" t="textAreaTop" r="textAreaRight" b="textAreaBottom"/>
              <a:pathLst>
                <a:path w="731" h="185">
                  <a:moveTo>
                    <a:pt x="0" y="185"/>
                  </a:moveTo>
                  <a:lnTo>
                    <a:pt x="171" y="0"/>
                  </a:lnTo>
                  <a:lnTo>
                    <a:pt x="731" y="0"/>
                  </a:lnTo>
                  <a:lnTo>
                    <a:pt x="660" y="185"/>
                  </a:lnTo>
                  <a:lnTo>
                    <a:pt x="0" y="185"/>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1" name="Rectangle 46"/>
            <p:cNvSpPr/>
            <p:nvPr/>
          </p:nvSpPr>
          <p:spPr>
            <a:xfrm flipH="1">
              <a:off x="5781960" y="1307160"/>
              <a:ext cx="2327400" cy="1390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2" name="Freeform 47"/>
            <p:cNvSpPr/>
            <p:nvPr/>
          </p:nvSpPr>
          <p:spPr>
            <a:xfrm flipH="1">
              <a:off x="8110440" y="1307160"/>
              <a:ext cx="709200" cy="2099160"/>
            </a:xfrm>
            <a:custGeom>
              <a:avLst/>
              <a:gdLst>
                <a:gd name="textAreaLeft" fmla="*/ 360 w 709200"/>
                <a:gd name="textAreaRight" fmla="*/ 709920 w 709200"/>
                <a:gd name="textAreaTop" fmla="*/ 0 h 2099160"/>
                <a:gd name="textAreaBottom" fmla="*/ 2099520 h 2099160"/>
              </a:gdLst>
              <a:ahLst/>
              <a:rect l="textAreaLeft" t="textAreaTop" r="textAreaRight" b="textAreaBottom"/>
              <a:pathLst>
                <a:path w="171" h="845">
                  <a:moveTo>
                    <a:pt x="0" y="845"/>
                  </a:moveTo>
                  <a:lnTo>
                    <a:pt x="171" y="560"/>
                  </a:lnTo>
                  <a:lnTo>
                    <a:pt x="171" y="0"/>
                  </a:lnTo>
                  <a:lnTo>
                    <a:pt x="0" y="185"/>
                  </a:lnTo>
                  <a:lnTo>
                    <a:pt x="0" y="845"/>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3" name="Freeform 48"/>
            <p:cNvSpPr/>
            <p:nvPr/>
          </p:nvSpPr>
          <p:spPr>
            <a:xfrm flipH="1">
              <a:off x="5781960" y="2697480"/>
              <a:ext cx="3036600" cy="708840"/>
            </a:xfrm>
            <a:custGeom>
              <a:avLst/>
              <a:gdLst>
                <a:gd name="textAreaLeft" fmla="*/ -360 w 3036600"/>
                <a:gd name="textAreaRight" fmla="*/ 3036600 w 3036600"/>
                <a:gd name="textAreaTop" fmla="*/ 0 h 708840"/>
                <a:gd name="textAreaBottom" fmla="*/ 709200 h 708840"/>
              </a:gdLst>
              <a:ahLst/>
              <a:rect l="textAreaLeft" t="textAreaTop" r="textAreaRight" b="textAreaBottom"/>
              <a:pathLst>
                <a:path w="731" h="285">
                  <a:moveTo>
                    <a:pt x="171" y="0"/>
                  </a:moveTo>
                  <a:lnTo>
                    <a:pt x="731" y="0"/>
                  </a:lnTo>
                  <a:lnTo>
                    <a:pt x="660" y="285"/>
                  </a:lnTo>
                  <a:lnTo>
                    <a:pt x="0" y="285"/>
                  </a:lnTo>
                  <a:lnTo>
                    <a:pt x="171" y="0"/>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4" name="Freeform 49"/>
            <p:cNvSpPr/>
            <p:nvPr/>
          </p:nvSpPr>
          <p:spPr>
            <a:xfrm flipH="1">
              <a:off x="5782680" y="1307160"/>
              <a:ext cx="295200" cy="2099160"/>
            </a:xfrm>
            <a:custGeom>
              <a:avLst/>
              <a:gdLst>
                <a:gd name="textAreaLeft" fmla="*/ 360 w 295200"/>
                <a:gd name="textAreaRight" fmla="*/ 295920 w 295200"/>
                <a:gd name="textAreaTop" fmla="*/ 0 h 2099160"/>
                <a:gd name="textAreaBottom" fmla="*/ 2099520 h 2099160"/>
              </a:gdLst>
              <a:ahLst/>
              <a:rect l="textAreaLeft" t="textAreaTop" r="textAreaRight" b="textAreaBottom"/>
              <a:pathLst>
                <a:path w="71" h="845">
                  <a:moveTo>
                    <a:pt x="0" y="185"/>
                  </a:moveTo>
                  <a:lnTo>
                    <a:pt x="71" y="0"/>
                  </a:lnTo>
                  <a:lnTo>
                    <a:pt x="71" y="560"/>
                  </a:lnTo>
                  <a:lnTo>
                    <a:pt x="0" y="845"/>
                  </a:lnTo>
                  <a:lnTo>
                    <a:pt x="0" y="185"/>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5" name="Rectangle 50"/>
            <p:cNvSpPr/>
            <p:nvPr/>
          </p:nvSpPr>
          <p:spPr>
            <a:xfrm flipH="1">
              <a:off x="6078240" y="1764720"/>
              <a:ext cx="2741040" cy="1639080"/>
            </a:xfrm>
            <a:prstGeom prst="rect">
              <a:avLst/>
            </a:prstGeom>
            <a:solidFill>
              <a:srgbClr val="ccecff"/>
            </a:solidFill>
            <a:ln w="12600">
              <a:solidFill>
                <a:srgbClr val="000000"/>
              </a:solidFill>
              <a:miter/>
            </a:ln>
          </p:spPr>
          <p:style>
            <a:lnRef idx="0"/>
            <a:fillRef idx="0"/>
            <a:effectRef idx="0"/>
            <a:fontRef idx="minor"/>
          </p:style>
          <p:txBody>
            <a:bodyPr lIns="45720" rIns="45720" tIns="32004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The way people in a society communicate, including the use of nonverbal gestures </a:t>
              </a:r>
              <a:endParaRPr b="0" lang="en-US" sz="1400" spc="-1" strike="noStrike">
                <a:solidFill>
                  <a:srgbClr val="000000"/>
                </a:solidFill>
                <a:latin typeface="Calibri"/>
              </a:endParaRPr>
            </a:p>
          </p:txBody>
        </p:sp>
        <p:sp>
          <p:nvSpPr>
            <p:cNvPr id="676" name="Freeform 51"/>
            <p:cNvSpPr/>
            <p:nvPr/>
          </p:nvSpPr>
          <p:spPr>
            <a:xfrm flipH="1">
              <a:off x="5781960" y="1307160"/>
              <a:ext cx="3036600" cy="459720"/>
            </a:xfrm>
            <a:custGeom>
              <a:avLst/>
              <a:gdLst>
                <a:gd name="textAreaLeft" fmla="*/ -360 w 3036600"/>
                <a:gd name="textAreaRight" fmla="*/ 3036600 w 3036600"/>
                <a:gd name="textAreaTop" fmla="*/ 0 h 459720"/>
                <a:gd name="textAreaBottom" fmla="*/ 460080 h 459720"/>
              </a:gdLst>
              <a:ahLst/>
              <a:rect l="textAreaLeft" t="textAreaTop" r="textAreaRight" b="textAreaBottom"/>
              <a:pathLst>
                <a:path w="731" h="185">
                  <a:moveTo>
                    <a:pt x="0" y="185"/>
                  </a:moveTo>
                  <a:lnTo>
                    <a:pt x="171" y="0"/>
                  </a:lnTo>
                  <a:lnTo>
                    <a:pt x="731" y="0"/>
                  </a:lnTo>
                  <a:lnTo>
                    <a:pt x="660" y="185"/>
                  </a:lnTo>
                  <a:lnTo>
                    <a:pt x="0" y="185"/>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7" name="Rectangle 52"/>
            <p:cNvSpPr/>
            <p:nvPr/>
          </p:nvSpPr>
          <p:spPr>
            <a:xfrm flipH="1">
              <a:off x="3377160" y="1307160"/>
              <a:ext cx="2329200" cy="139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Freeform 53"/>
            <p:cNvSpPr/>
            <p:nvPr/>
          </p:nvSpPr>
          <p:spPr>
            <a:xfrm>
              <a:off x="5706720" y="1307160"/>
              <a:ext cx="210960" cy="2099160"/>
            </a:xfrm>
            <a:custGeom>
              <a:avLst/>
              <a:gdLst>
                <a:gd name="textAreaLeft" fmla="*/ 0 w 210960"/>
                <a:gd name="textAreaRight" fmla="*/ 211320 w 210960"/>
                <a:gd name="textAreaTop" fmla="*/ 0 h 2099160"/>
                <a:gd name="textAreaBottom" fmla="*/ 2099520 h 2099160"/>
              </a:gdLst>
              <a:ahLst/>
              <a:rect l="textAreaLeft" t="textAreaTop" r="textAreaRight" b="textAreaBottom"/>
              <a:pathLst>
                <a:path w="51" h="845">
                  <a:moveTo>
                    <a:pt x="51" y="845"/>
                  </a:moveTo>
                  <a:lnTo>
                    <a:pt x="0" y="561"/>
                  </a:lnTo>
                  <a:lnTo>
                    <a:pt x="0" y="0"/>
                  </a:lnTo>
                  <a:lnTo>
                    <a:pt x="51" y="185"/>
                  </a:lnTo>
                  <a:lnTo>
                    <a:pt x="51" y="845"/>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9" name="Freeform 54"/>
            <p:cNvSpPr/>
            <p:nvPr/>
          </p:nvSpPr>
          <p:spPr>
            <a:xfrm>
              <a:off x="3174480" y="2700000"/>
              <a:ext cx="2743200" cy="703800"/>
            </a:xfrm>
            <a:custGeom>
              <a:avLst/>
              <a:gdLst>
                <a:gd name="textAreaLeft" fmla="*/ 0 w 2743200"/>
                <a:gd name="textAreaRight" fmla="*/ 2743560 w 2743200"/>
                <a:gd name="textAreaTop" fmla="*/ 0 h 703800"/>
                <a:gd name="textAreaBottom" fmla="*/ 704160 h 703800"/>
              </a:gdLst>
              <a:ahLst/>
              <a:rect l="textAreaLeft" t="textAreaTop" r="textAreaRight" b="textAreaBottom"/>
              <a:pathLst>
                <a:path w="660" h="284">
                  <a:moveTo>
                    <a:pt x="609" y="0"/>
                  </a:moveTo>
                  <a:lnTo>
                    <a:pt x="49" y="0"/>
                  </a:lnTo>
                  <a:lnTo>
                    <a:pt x="0" y="284"/>
                  </a:lnTo>
                  <a:lnTo>
                    <a:pt x="660" y="284"/>
                  </a:lnTo>
                  <a:lnTo>
                    <a:pt x="609" y="0"/>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0" name="Freeform 55"/>
            <p:cNvSpPr/>
            <p:nvPr/>
          </p:nvSpPr>
          <p:spPr>
            <a:xfrm>
              <a:off x="3174480" y="1303200"/>
              <a:ext cx="202320" cy="2103120"/>
            </a:xfrm>
            <a:custGeom>
              <a:avLst/>
              <a:gdLst>
                <a:gd name="textAreaLeft" fmla="*/ 0 w 202320"/>
                <a:gd name="textAreaRight" fmla="*/ 202680 w 202320"/>
                <a:gd name="textAreaTop" fmla="*/ 0 h 2103120"/>
                <a:gd name="textAreaBottom" fmla="*/ 2103480 h 2103120"/>
              </a:gdLst>
              <a:ahLst/>
              <a:rect l="textAreaLeft" t="textAreaTop" r="textAreaRight" b="textAreaBottom"/>
              <a:pathLst>
                <a:path w="49" h="847">
                  <a:moveTo>
                    <a:pt x="0" y="187"/>
                  </a:moveTo>
                  <a:lnTo>
                    <a:pt x="49" y="0"/>
                  </a:lnTo>
                  <a:lnTo>
                    <a:pt x="49" y="561"/>
                  </a:lnTo>
                  <a:lnTo>
                    <a:pt x="0" y="847"/>
                  </a:lnTo>
                  <a:lnTo>
                    <a:pt x="0" y="187"/>
                  </a:lnTo>
                  <a:close/>
                </a:path>
              </a:pathLst>
            </a:custGeom>
            <a:solidFill>
              <a:srgbClr val="0000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1" name="Rectangle 56"/>
            <p:cNvSpPr/>
            <p:nvPr/>
          </p:nvSpPr>
          <p:spPr>
            <a:xfrm flipH="1">
              <a:off x="3174480" y="1766880"/>
              <a:ext cx="2741040" cy="1639440"/>
            </a:xfrm>
            <a:prstGeom prst="rect">
              <a:avLst/>
            </a:prstGeom>
            <a:solidFill>
              <a:srgbClr val="ccecff"/>
            </a:solidFill>
            <a:ln w="12600">
              <a:solidFill>
                <a:srgbClr val="000000"/>
              </a:solidFill>
              <a:miter/>
            </a:ln>
          </p:spPr>
          <p:style>
            <a:lnRef idx="0"/>
            <a:fillRef idx="0"/>
            <a:effectRef idx="0"/>
            <a:fontRef idx="minor"/>
          </p:style>
          <p:txBody>
            <a:bodyPr lIns="45720" rIns="45720" tIns="320040" bIns="46800" anchor="t">
              <a:norm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The degree to which a culture believes an individual can focus on one or more tasks, and the evaluation of the importance of personal relationships versus adherence to schedules</a:t>
              </a:r>
              <a:endParaRPr b="0" lang="en-US" sz="1400" spc="-1" strike="noStrike">
                <a:solidFill>
                  <a:srgbClr val="000000"/>
                </a:solidFill>
                <a:latin typeface="Calibri"/>
              </a:endParaRPr>
            </a:p>
          </p:txBody>
        </p:sp>
        <p:sp>
          <p:nvSpPr>
            <p:cNvPr id="682" name="Freeform 57"/>
            <p:cNvSpPr/>
            <p:nvPr/>
          </p:nvSpPr>
          <p:spPr>
            <a:xfrm>
              <a:off x="3174480" y="1307160"/>
              <a:ext cx="2743200" cy="457560"/>
            </a:xfrm>
            <a:custGeom>
              <a:avLst/>
              <a:gdLst>
                <a:gd name="textAreaLeft" fmla="*/ 0 w 2743200"/>
                <a:gd name="textAreaRight" fmla="*/ 2743560 w 2743200"/>
                <a:gd name="textAreaTop" fmla="*/ 0 h 457560"/>
                <a:gd name="textAreaBottom" fmla="*/ 457920 h 457560"/>
              </a:gdLst>
              <a:ahLst/>
              <a:rect l="textAreaLeft" t="textAreaTop" r="textAreaRight" b="textAreaBottom"/>
              <a:pathLst>
                <a:path w="660" h="184">
                  <a:moveTo>
                    <a:pt x="660" y="184"/>
                  </a:moveTo>
                  <a:lnTo>
                    <a:pt x="609" y="0"/>
                  </a:lnTo>
                  <a:lnTo>
                    <a:pt x="49" y="0"/>
                  </a:lnTo>
                  <a:lnTo>
                    <a:pt x="0" y="184"/>
                  </a:lnTo>
                  <a:lnTo>
                    <a:pt x="660" y="184"/>
                  </a:lnTo>
                  <a:close/>
                </a:path>
              </a:pathLst>
            </a:custGeom>
            <a:solidFill>
              <a:srgbClr val="63c4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3" name="Text Box 58"/>
            <p:cNvSpPr/>
            <p:nvPr/>
          </p:nvSpPr>
          <p:spPr>
            <a:xfrm>
              <a:off x="279000" y="1764720"/>
              <a:ext cx="27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Relationships</a:t>
              </a:r>
              <a:endParaRPr b="0" lang="en-US" sz="1400" spc="-1" strike="noStrike">
                <a:solidFill>
                  <a:srgbClr val="000000"/>
                </a:solidFill>
                <a:latin typeface="Calibri"/>
              </a:endParaRPr>
            </a:p>
          </p:txBody>
        </p:sp>
        <p:sp>
          <p:nvSpPr>
            <p:cNvPr id="684" name="Text Box 59"/>
            <p:cNvSpPr/>
            <p:nvPr/>
          </p:nvSpPr>
          <p:spPr>
            <a:xfrm>
              <a:off x="3189240" y="1764720"/>
              <a:ext cx="272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Time</a:t>
              </a:r>
              <a:endParaRPr b="0" lang="en-US" sz="1400" spc="-1" strike="noStrike">
                <a:solidFill>
                  <a:srgbClr val="000000"/>
                </a:solidFill>
                <a:latin typeface="Calibri"/>
              </a:endParaRPr>
            </a:p>
          </p:txBody>
        </p:sp>
        <p:sp>
          <p:nvSpPr>
            <p:cNvPr id="685" name="Text Box 60"/>
            <p:cNvSpPr/>
            <p:nvPr/>
          </p:nvSpPr>
          <p:spPr>
            <a:xfrm>
              <a:off x="6091200" y="1764720"/>
              <a:ext cx="272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Communication</a:t>
              </a:r>
              <a:endParaRPr b="0" lang="en-US" sz="1400" spc="-1" strike="noStrike">
                <a:solidFill>
                  <a:srgbClr val="000000"/>
                </a:solidFill>
                <a:latin typeface="Calibri"/>
              </a:endParaRPr>
            </a:p>
          </p:txBody>
        </p:sp>
        <p:sp>
          <p:nvSpPr>
            <p:cNvPr id="686" name="Text Box 61"/>
            <p:cNvSpPr/>
            <p:nvPr/>
          </p:nvSpPr>
          <p:spPr>
            <a:xfrm>
              <a:off x="279000" y="3491280"/>
              <a:ext cx="27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Hierarchy</a:t>
              </a:r>
              <a:endParaRPr b="0" lang="en-US" sz="1400" spc="-1" strike="noStrike">
                <a:solidFill>
                  <a:srgbClr val="000000"/>
                </a:solidFill>
                <a:latin typeface="Calibri"/>
              </a:endParaRPr>
            </a:p>
          </p:txBody>
        </p:sp>
        <p:sp>
          <p:nvSpPr>
            <p:cNvPr id="687" name="Text Box 62"/>
            <p:cNvSpPr/>
            <p:nvPr/>
          </p:nvSpPr>
          <p:spPr>
            <a:xfrm>
              <a:off x="3189240" y="3491280"/>
              <a:ext cx="272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Status</a:t>
              </a:r>
              <a:r>
                <a:rPr b="1" lang="en-US" sz="1400" spc="-1" strike="noStrike">
                  <a:solidFill>
                    <a:srgbClr val="000000"/>
                  </a:solidFill>
                  <a:latin typeface="Times New Roman"/>
                  <a:ea typeface="Times New Roman"/>
                </a:rPr>
                <a:t> </a:t>
              </a:r>
              <a:r>
                <a:rPr b="1" lang="en-US" sz="1400" spc="-1" strike="noStrike">
                  <a:solidFill>
                    <a:srgbClr val="0033cc"/>
                  </a:solidFill>
                  <a:latin typeface="Times New Roman"/>
                  <a:ea typeface="Times New Roman"/>
                </a:rPr>
                <a:t>Attainment</a:t>
              </a:r>
              <a:endParaRPr b="0" lang="en-US" sz="1400" spc="-1" strike="noStrike">
                <a:solidFill>
                  <a:srgbClr val="000000"/>
                </a:solidFill>
                <a:latin typeface="Calibri"/>
              </a:endParaRPr>
            </a:p>
          </p:txBody>
        </p:sp>
        <p:sp>
          <p:nvSpPr>
            <p:cNvPr id="688" name="Text Box 63"/>
            <p:cNvSpPr/>
            <p:nvPr/>
          </p:nvSpPr>
          <p:spPr>
            <a:xfrm>
              <a:off x="6091200" y="3491280"/>
              <a:ext cx="272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Space</a:t>
              </a:r>
              <a:endParaRPr b="0" lang="en-US" sz="1400" spc="-1" strike="noStrike">
                <a:solidFill>
                  <a:srgbClr val="000000"/>
                </a:solidFill>
                <a:latin typeface="Calibri"/>
              </a:endParaRPr>
            </a:p>
          </p:txBody>
        </p:sp>
        <p:sp>
          <p:nvSpPr>
            <p:cNvPr id="689" name="Text Box 65"/>
            <p:cNvSpPr/>
            <p:nvPr/>
          </p:nvSpPr>
          <p:spPr>
            <a:xfrm>
              <a:off x="3658680" y="5216040"/>
              <a:ext cx="1785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Diversity</a:t>
              </a:r>
              <a:r>
                <a:rPr b="1" lang="en-US" sz="1400" spc="-1" strike="noStrike">
                  <a:solidFill>
                    <a:srgbClr val="000000"/>
                  </a:solidFill>
                  <a:latin typeface="Times New Roman"/>
                  <a:ea typeface="Times New Roman"/>
                </a:rPr>
                <a:t> </a:t>
              </a:r>
              <a:r>
                <a:rPr b="1" lang="en-US" sz="1400" spc="-1" strike="noStrike">
                  <a:solidFill>
                    <a:srgbClr val="0033cc"/>
                  </a:solidFill>
                  <a:latin typeface="Times New Roman"/>
                  <a:ea typeface="Times New Roman"/>
                </a:rPr>
                <a:t>Receptivity</a:t>
              </a:r>
              <a:endParaRPr b="0" lang="en-US" sz="1400" spc="-1" strike="noStrike">
                <a:solidFill>
                  <a:srgbClr val="000000"/>
                </a:solidFill>
                <a:latin typeface="Calibri"/>
              </a:endParaRPr>
            </a:p>
          </p:txBody>
        </p:sp>
        <p:sp>
          <p:nvSpPr>
            <p:cNvPr id="690" name="Text Box 66"/>
            <p:cNvSpPr/>
            <p:nvPr/>
          </p:nvSpPr>
          <p:spPr>
            <a:xfrm>
              <a:off x="6091200" y="5216040"/>
              <a:ext cx="272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Change</a:t>
              </a:r>
              <a:r>
                <a:rPr b="1" lang="en-US" sz="1400" spc="-1" strike="noStrike">
                  <a:solidFill>
                    <a:srgbClr val="000000"/>
                  </a:solidFill>
                  <a:latin typeface="Times New Roman"/>
                  <a:ea typeface="Times New Roman"/>
                </a:rPr>
                <a:t> </a:t>
              </a:r>
              <a:r>
                <a:rPr b="1" lang="en-US" sz="1400" spc="-1" strike="noStrike">
                  <a:solidFill>
                    <a:srgbClr val="0033cc"/>
                  </a:solidFill>
                  <a:latin typeface="Times New Roman"/>
                  <a:ea typeface="Times New Roman"/>
                </a:rPr>
                <a:t>Tolerance</a:t>
              </a:r>
              <a:endParaRPr b="0" lang="en-US" sz="1400" spc="-1" strike="noStrike">
                <a:solidFill>
                  <a:srgbClr val="000000"/>
                </a:solidFill>
                <a:latin typeface="Calibri"/>
              </a:endParaRPr>
            </a:p>
          </p:txBody>
        </p:sp>
        <p:sp>
          <p:nvSpPr>
            <p:cNvPr id="691" name="Text Box 68"/>
            <p:cNvSpPr/>
            <p:nvPr/>
          </p:nvSpPr>
          <p:spPr>
            <a:xfrm>
              <a:off x="640080" y="5212080"/>
              <a:ext cx="204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Times New Roman"/>
                </a:rPr>
                <a:t>Group</a:t>
              </a:r>
              <a:r>
                <a:rPr b="1" lang="en-US" sz="1400" spc="-1" strike="noStrike">
                  <a:solidFill>
                    <a:srgbClr val="000000"/>
                  </a:solidFill>
                  <a:latin typeface="Times New Roman"/>
                  <a:ea typeface="Times New Roman"/>
                </a:rPr>
                <a:t> </a:t>
              </a:r>
              <a:r>
                <a:rPr b="1" lang="en-US" sz="1400" spc="-1" strike="noStrike">
                  <a:solidFill>
                    <a:srgbClr val="0033cc"/>
                  </a:solidFill>
                  <a:latin typeface="Times New Roman"/>
                  <a:ea typeface="Times New Roman"/>
                </a:rPr>
                <a:t>Dependence</a:t>
              </a:r>
              <a:endParaRPr b="0" lang="en-US" sz="1400" spc="-1" strike="noStrike">
                <a:solidFill>
                  <a:srgbClr val="000000"/>
                </a:solidFill>
                <a:latin typeface="Calibri"/>
              </a:endParaRPr>
            </a:p>
          </p:txBody>
        </p:sp>
      </p:grpSp>
      <p:sp>
        <p:nvSpPr>
          <p:cNvPr id="692" name="Text Box 70"/>
          <p:cNvSpPr/>
          <p:nvPr/>
        </p:nvSpPr>
        <p:spPr>
          <a:xfrm>
            <a:off x="2340000" y="1359000"/>
            <a:ext cx="442116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ndham International Cultural Model</a:t>
            </a:r>
            <a:endParaRPr b="0" lang="en-US" sz="1400" spc="-1" strike="noStrike">
              <a:solidFill>
                <a:srgbClr val="000000"/>
              </a:solidFill>
              <a:latin typeface="Calibri"/>
            </a:endParaRPr>
          </a:p>
        </p:txBody>
      </p:sp>
      <p:sp>
        <p:nvSpPr>
          <p:cNvPr id="693" name="Title 3"/>
          <p:cNvSpPr/>
          <p:nvPr/>
        </p:nvSpPr>
        <p:spPr>
          <a:xfrm>
            <a:off x="0" y="4428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Light"/>
                <a:ea typeface="Times New Roman"/>
              </a:rPr>
              <a:t>Dimensions of Cul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Oval 8"/>
          <p:cNvSpPr/>
          <p:nvPr/>
        </p:nvSpPr>
        <p:spPr>
          <a:xfrm>
            <a:off x="1496880" y="692280"/>
            <a:ext cx="6096240" cy="5333760"/>
          </a:xfrm>
          <a:prstGeom prst="ellipse">
            <a:avLst/>
          </a:prstGeom>
          <a:solidFill>
            <a:srgbClr val="ccffcc"/>
          </a:solidFill>
          <a:ln w="15840">
            <a:solidFill>
              <a:srgbClr val="954f7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Oval 12"/>
          <p:cNvSpPr/>
          <p:nvPr/>
        </p:nvSpPr>
        <p:spPr>
          <a:xfrm>
            <a:off x="2131920" y="1411200"/>
            <a:ext cx="5029200" cy="4114800"/>
          </a:xfrm>
          <a:prstGeom prst="ellipse">
            <a:avLst/>
          </a:prstGeom>
          <a:solidFill>
            <a:srgbClr val="ccffff"/>
          </a:solidFill>
          <a:ln w="15840">
            <a:solidFill>
              <a:srgbClr val="0563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
          <p:cNvSpPr txBox="1"/>
          <p:nvPr/>
        </p:nvSpPr>
        <p:spPr>
          <a:xfrm>
            <a:off x="826920" y="1216080"/>
            <a:ext cx="7772400" cy="4114800"/>
          </a:xfrm>
          <a:prstGeom prst="rect">
            <a:avLst/>
          </a:prstGeom>
          <a:noFill/>
          <a:ln w="0">
            <a:noFill/>
          </a:ln>
        </p:spPr>
        <p:txBody>
          <a:bodyPr anchor="t">
            <a:normAutofit/>
          </a:bodyPr>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600120" indent="-257040">
              <a:lnSpc>
                <a:spcPct val="90000"/>
              </a:lnSpc>
              <a:spcBef>
                <a:spcPts val="374"/>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697" name="Oval 7"/>
          <p:cNvSpPr/>
          <p:nvPr/>
        </p:nvSpPr>
        <p:spPr>
          <a:xfrm>
            <a:off x="2768760" y="2081160"/>
            <a:ext cx="3733560" cy="2895480"/>
          </a:xfrm>
          <a:prstGeom prst="ellipse">
            <a:avLst/>
          </a:prstGeom>
          <a:solidFill>
            <a:srgbClr val="ffff99"/>
          </a:solidFill>
          <a:ln w="15840">
            <a:solidFill>
              <a:srgbClr val="44546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Text Box 9"/>
          <p:cNvSpPr/>
          <p:nvPr/>
        </p:nvSpPr>
        <p:spPr>
          <a:xfrm>
            <a:off x="3417840" y="2478240"/>
            <a:ext cx="2286000" cy="3902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Personal Dimension</a:t>
            </a:r>
            <a:endParaRPr b="0" lang="en-US" sz="1800" spc="-1" strike="noStrike">
              <a:solidFill>
                <a:srgbClr val="000000"/>
              </a:solidFill>
              <a:latin typeface="Calibri"/>
            </a:endParaRPr>
          </a:p>
        </p:txBody>
      </p:sp>
      <p:sp>
        <p:nvSpPr>
          <p:cNvPr id="699" name="Rectangle 10"/>
          <p:cNvSpPr/>
          <p:nvPr/>
        </p:nvSpPr>
        <p:spPr>
          <a:xfrm>
            <a:off x="3405240" y="17128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External Dimension</a:t>
            </a:r>
            <a:endParaRPr b="0" lang="en-US" sz="1800" spc="-1" strike="noStrike">
              <a:solidFill>
                <a:srgbClr val="000000"/>
              </a:solidFill>
              <a:latin typeface="Calibri"/>
            </a:endParaRPr>
          </a:p>
        </p:txBody>
      </p:sp>
      <p:sp>
        <p:nvSpPr>
          <p:cNvPr id="700" name="Text Box 11"/>
          <p:cNvSpPr/>
          <p:nvPr/>
        </p:nvSpPr>
        <p:spPr>
          <a:xfrm>
            <a:off x="3036960" y="979560"/>
            <a:ext cx="2971800" cy="304560"/>
          </a:xfrm>
          <a:prstGeom prst="rect">
            <a:avLst/>
          </a:prstGeom>
          <a:noFill/>
          <a:ln w="0">
            <a:noFill/>
          </a:ln>
        </p:spPr>
        <p:style>
          <a:lnRef idx="0"/>
          <a:fillRef idx="0"/>
          <a:effectRef idx="0"/>
          <a:fontRef idx="minor"/>
        </p:style>
        <p:txBody>
          <a:bodyPr lIns="90000" rIns="90000" tIns="46800" bIns="46800" anchor="t">
            <a:normAutofit fontScale="7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a:rPr>
              <a:t>Organizational Dimension</a:t>
            </a:r>
            <a:endParaRPr b="0" lang="en-US" sz="1800" spc="-1" strike="noStrike">
              <a:solidFill>
                <a:srgbClr val="000000"/>
              </a:solidFill>
              <a:latin typeface="Calibri"/>
            </a:endParaRPr>
          </a:p>
        </p:txBody>
      </p:sp>
      <p:sp>
        <p:nvSpPr>
          <p:cNvPr id="701"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Layers of Diversity</a:t>
            </a:r>
            <a:endParaRPr b="0" lang="en-US" sz="3200" spc="-1" strike="noStrike">
              <a:solidFill>
                <a:srgbClr val="000000"/>
              </a:solidFill>
              <a:latin typeface="Calibri"/>
            </a:endParaRPr>
          </a:p>
        </p:txBody>
      </p:sp>
      <p:sp>
        <p:nvSpPr>
          <p:cNvPr id="702" name="Oval 5"/>
          <p:cNvSpPr/>
          <p:nvPr/>
        </p:nvSpPr>
        <p:spPr>
          <a:xfrm>
            <a:off x="3849840" y="2919240"/>
            <a:ext cx="1523880" cy="1067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Text Box 6"/>
          <p:cNvSpPr/>
          <p:nvPr/>
        </p:nvSpPr>
        <p:spPr>
          <a:xfrm>
            <a:off x="3875040" y="3224160"/>
            <a:ext cx="1638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Personality</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Oval 8"/>
          <p:cNvSpPr/>
          <p:nvPr/>
        </p:nvSpPr>
        <p:spPr>
          <a:xfrm>
            <a:off x="1496880" y="692280"/>
            <a:ext cx="6096240" cy="5333760"/>
          </a:xfrm>
          <a:prstGeom prst="ellipse">
            <a:avLst/>
          </a:prstGeom>
          <a:solidFill>
            <a:srgbClr val="ccffcc"/>
          </a:solidFill>
          <a:ln w="15840">
            <a:solidFill>
              <a:srgbClr val="954f7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Oval 12"/>
          <p:cNvSpPr/>
          <p:nvPr/>
        </p:nvSpPr>
        <p:spPr>
          <a:xfrm>
            <a:off x="2131920" y="1411200"/>
            <a:ext cx="5029200" cy="4114800"/>
          </a:xfrm>
          <a:prstGeom prst="ellipse">
            <a:avLst/>
          </a:prstGeom>
          <a:solidFill>
            <a:srgbClr val="ccffff"/>
          </a:solidFill>
          <a:ln w="15840">
            <a:solidFill>
              <a:srgbClr val="0563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Rectangle 3"/>
          <p:cNvSpPr/>
          <p:nvPr/>
        </p:nvSpPr>
        <p:spPr>
          <a:xfrm>
            <a:off x="826920" y="1936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Oval 7"/>
          <p:cNvSpPr/>
          <p:nvPr/>
        </p:nvSpPr>
        <p:spPr>
          <a:xfrm>
            <a:off x="2768760" y="2081160"/>
            <a:ext cx="3733560" cy="2895480"/>
          </a:xfrm>
          <a:prstGeom prst="ellipse">
            <a:avLst/>
          </a:prstGeom>
          <a:solidFill>
            <a:srgbClr val="ffff99"/>
          </a:solidFill>
          <a:ln w="15840">
            <a:solidFill>
              <a:srgbClr val="44546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Oval 5"/>
          <p:cNvSpPr/>
          <p:nvPr/>
        </p:nvSpPr>
        <p:spPr>
          <a:xfrm>
            <a:off x="3849840" y="2919240"/>
            <a:ext cx="1523880" cy="1067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Text Box 6"/>
          <p:cNvSpPr/>
          <p:nvPr/>
        </p:nvSpPr>
        <p:spPr>
          <a:xfrm>
            <a:off x="3875040" y="3224160"/>
            <a:ext cx="1638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ial"/>
              </a:rPr>
              <a:t>Personality</a:t>
            </a:r>
            <a:endParaRPr b="0" lang="en-US" sz="2000" spc="-1" strike="noStrike">
              <a:solidFill>
                <a:srgbClr val="000000"/>
              </a:solidFill>
              <a:latin typeface="Calibri"/>
            </a:endParaRPr>
          </a:p>
        </p:txBody>
      </p:sp>
      <p:sp>
        <p:nvSpPr>
          <p:cNvPr id="710" name="Title 3"/>
          <p:cNvSpPr/>
          <p:nvPr/>
        </p:nvSpPr>
        <p:spPr>
          <a:xfrm>
            <a:off x="12240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Examining Ourselves</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Oval 7"/>
          <p:cNvSpPr/>
          <p:nvPr/>
        </p:nvSpPr>
        <p:spPr>
          <a:xfrm>
            <a:off x="2200320" y="1160640"/>
            <a:ext cx="4611600" cy="4140000"/>
          </a:xfrm>
          <a:prstGeom prst="ellipse">
            <a:avLst/>
          </a:prstGeom>
          <a:solidFill>
            <a:srgbClr val="ffff99"/>
          </a:solidFill>
          <a:ln w="15840">
            <a:solidFill>
              <a:srgbClr val="4454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Text Box 10"/>
          <p:cNvSpPr/>
          <p:nvPr/>
        </p:nvSpPr>
        <p:spPr>
          <a:xfrm>
            <a:off x="380880" y="1676520"/>
            <a:ext cx="1887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3c1"/>
                </a:solidFill>
                <a:latin typeface="Arial"/>
                <a:ea typeface="Arial"/>
              </a:rPr>
              <a:t>Personal Dimension</a:t>
            </a:r>
            <a:endParaRPr b="0" lang="en-US" sz="2400" spc="-1" strike="noStrike">
              <a:solidFill>
                <a:srgbClr val="000000"/>
              </a:solidFill>
              <a:latin typeface="Calibri"/>
            </a:endParaRPr>
          </a:p>
        </p:txBody>
      </p:sp>
      <p:sp>
        <p:nvSpPr>
          <p:cNvPr id="713" name="Text Box 11"/>
          <p:cNvSpPr/>
          <p:nvPr/>
        </p:nvSpPr>
        <p:spPr>
          <a:xfrm>
            <a:off x="3492360" y="1449360"/>
            <a:ext cx="1312920" cy="68580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ntal Process</a:t>
            </a:r>
            <a:endParaRPr b="0" lang="en-US" sz="2000" spc="-1" strike="noStrike">
              <a:solidFill>
                <a:srgbClr val="000000"/>
              </a:solidFill>
              <a:latin typeface="Calibri"/>
            </a:endParaRPr>
          </a:p>
        </p:txBody>
      </p:sp>
      <p:sp>
        <p:nvSpPr>
          <p:cNvPr id="714" name="Text Box 12"/>
          <p:cNvSpPr/>
          <p:nvPr/>
        </p:nvSpPr>
        <p:spPr>
          <a:xfrm>
            <a:off x="5003640" y="2058840"/>
            <a:ext cx="1320840" cy="6098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hysical Ability</a:t>
            </a:r>
            <a:endParaRPr b="0" lang="en-US" sz="2000" spc="-1" strike="noStrike">
              <a:solidFill>
                <a:srgbClr val="000000"/>
              </a:solidFill>
              <a:latin typeface="Calibri"/>
            </a:endParaRPr>
          </a:p>
        </p:txBody>
      </p:sp>
      <p:sp>
        <p:nvSpPr>
          <p:cNvPr id="715" name="Text Box 13"/>
          <p:cNvSpPr/>
          <p:nvPr/>
        </p:nvSpPr>
        <p:spPr>
          <a:xfrm>
            <a:off x="5508720" y="3125880"/>
            <a:ext cx="1197000" cy="419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der</a:t>
            </a:r>
            <a:endParaRPr b="0" lang="en-US" sz="2000" spc="-1" strike="noStrike">
              <a:solidFill>
                <a:srgbClr val="000000"/>
              </a:solidFill>
              <a:latin typeface="Calibri"/>
            </a:endParaRPr>
          </a:p>
        </p:txBody>
      </p:sp>
      <p:sp>
        <p:nvSpPr>
          <p:cNvPr id="716" name="Text Box 14"/>
          <p:cNvSpPr/>
          <p:nvPr/>
        </p:nvSpPr>
        <p:spPr>
          <a:xfrm>
            <a:off x="5638680" y="3963960"/>
            <a:ext cx="762120" cy="419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a:t>
            </a:r>
            <a:endParaRPr b="0" lang="en-US" sz="2000" spc="-1" strike="noStrike">
              <a:solidFill>
                <a:srgbClr val="000000"/>
              </a:solidFill>
              <a:latin typeface="Calibri"/>
            </a:endParaRPr>
          </a:p>
        </p:txBody>
      </p:sp>
      <p:sp>
        <p:nvSpPr>
          <p:cNvPr id="717" name="Text Box 15"/>
          <p:cNvSpPr/>
          <p:nvPr/>
        </p:nvSpPr>
        <p:spPr>
          <a:xfrm>
            <a:off x="3276720" y="4344840"/>
            <a:ext cx="2286000" cy="38124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xual Orientation</a:t>
            </a:r>
            <a:endParaRPr b="0" lang="en-US" sz="2000" spc="-1" strike="noStrike">
              <a:solidFill>
                <a:srgbClr val="000000"/>
              </a:solidFill>
              <a:latin typeface="Calibri"/>
            </a:endParaRPr>
          </a:p>
        </p:txBody>
      </p:sp>
      <p:sp>
        <p:nvSpPr>
          <p:cNvPr id="718" name="Rectangle 16"/>
          <p:cNvSpPr/>
          <p:nvPr/>
        </p:nvSpPr>
        <p:spPr>
          <a:xfrm>
            <a:off x="2590920" y="350676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ce</a:t>
            </a:r>
            <a:endParaRPr b="0" lang="en-US" sz="2000" spc="-1" strike="noStrike">
              <a:solidFill>
                <a:srgbClr val="000000"/>
              </a:solidFill>
              <a:latin typeface="Calibri"/>
            </a:endParaRPr>
          </a:p>
        </p:txBody>
      </p:sp>
      <p:sp>
        <p:nvSpPr>
          <p:cNvPr id="719" name="Text Box 17"/>
          <p:cNvSpPr/>
          <p:nvPr/>
        </p:nvSpPr>
        <p:spPr>
          <a:xfrm>
            <a:off x="2590920" y="2363760"/>
            <a:ext cx="1333440" cy="236520"/>
          </a:xfrm>
          <a:prstGeom prst="rect">
            <a:avLst/>
          </a:prstGeom>
          <a:noFill/>
          <a:ln w="0">
            <a:noFill/>
          </a:ln>
        </p:spPr>
        <p:style>
          <a:lnRef idx="0"/>
          <a:fillRef idx="0"/>
          <a:effectRef idx="0"/>
          <a:fontRef idx="minor"/>
        </p:style>
        <p:txBody>
          <a:bodyPr lIns="90000" rIns="90000" tIns="46800" bIns="46800" anchor="t">
            <a:normAutofit fontScale="4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thnicity</a:t>
            </a:r>
            <a:endParaRPr b="0" lang="en-US" sz="2000" spc="-1" strike="noStrike">
              <a:solidFill>
                <a:srgbClr val="000000"/>
              </a:solidFill>
              <a:latin typeface="Calibri"/>
            </a:endParaRPr>
          </a:p>
        </p:txBody>
      </p:sp>
      <p:sp>
        <p:nvSpPr>
          <p:cNvPr id="720"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Layers of Diversity</a:t>
            </a:r>
            <a:endParaRPr b="0" lang="en-US" sz="3200" spc="-1" strike="noStrike">
              <a:solidFill>
                <a:srgbClr val="000000"/>
              </a:solidFill>
              <a:latin typeface="Calibri"/>
            </a:endParaRPr>
          </a:p>
        </p:txBody>
      </p:sp>
      <p:sp>
        <p:nvSpPr>
          <p:cNvPr id="721" name="Oval 5"/>
          <p:cNvSpPr/>
          <p:nvPr/>
        </p:nvSpPr>
        <p:spPr>
          <a:xfrm>
            <a:off x="3772080" y="2757600"/>
            <a:ext cx="1523880" cy="1066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Text Box 6"/>
          <p:cNvSpPr/>
          <p:nvPr/>
        </p:nvSpPr>
        <p:spPr>
          <a:xfrm>
            <a:off x="3726000" y="3062160"/>
            <a:ext cx="16380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ersonality</a:t>
            </a: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Oval 12"/>
          <p:cNvSpPr/>
          <p:nvPr/>
        </p:nvSpPr>
        <p:spPr>
          <a:xfrm>
            <a:off x="1763640" y="692280"/>
            <a:ext cx="5535720" cy="4762440"/>
          </a:xfrm>
          <a:prstGeom prst="ellipse">
            <a:avLst/>
          </a:prstGeom>
          <a:solidFill>
            <a:srgbClr val="ccffff"/>
          </a:solidFill>
          <a:ln w="15840">
            <a:solidFill>
              <a:srgbClr val="0563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Rectangle 5"/>
          <p:cNvSpPr/>
          <p:nvPr/>
        </p:nvSpPr>
        <p:spPr>
          <a:xfrm>
            <a:off x="228600" y="152388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63c1"/>
                </a:solidFill>
                <a:latin typeface="Arial"/>
                <a:ea typeface="Arial"/>
              </a:rPr>
              <a:t>External Dimension</a:t>
            </a:r>
            <a:endParaRPr b="0" lang="en-US" sz="2000" spc="-1" strike="noStrike">
              <a:solidFill>
                <a:srgbClr val="000000"/>
              </a:solidFill>
              <a:latin typeface="Calibri"/>
            </a:endParaRPr>
          </a:p>
        </p:txBody>
      </p:sp>
      <p:sp>
        <p:nvSpPr>
          <p:cNvPr id="725" name="Text Box 11"/>
          <p:cNvSpPr/>
          <p:nvPr/>
        </p:nvSpPr>
        <p:spPr>
          <a:xfrm>
            <a:off x="3340080" y="828720"/>
            <a:ext cx="2362320" cy="6094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ital/Parental Status</a:t>
            </a:r>
            <a:endParaRPr b="0" lang="en-US" sz="2000" spc="-1" strike="noStrike">
              <a:solidFill>
                <a:srgbClr val="000000"/>
              </a:solidFill>
              <a:latin typeface="Calibri"/>
            </a:endParaRPr>
          </a:p>
        </p:txBody>
      </p:sp>
      <p:sp>
        <p:nvSpPr>
          <p:cNvPr id="726" name="Rectangle 12"/>
          <p:cNvSpPr/>
          <p:nvPr/>
        </p:nvSpPr>
        <p:spPr>
          <a:xfrm>
            <a:off x="5172120" y="1501920"/>
            <a:ext cx="127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sonal Style</a:t>
            </a:r>
            <a:endParaRPr b="0" lang="en-US" sz="2000" spc="-1" strike="noStrike">
              <a:solidFill>
                <a:srgbClr val="000000"/>
              </a:solidFill>
              <a:latin typeface="Calibri"/>
            </a:endParaRPr>
          </a:p>
        </p:txBody>
      </p:sp>
      <p:sp>
        <p:nvSpPr>
          <p:cNvPr id="727" name="Text Box 13"/>
          <p:cNvSpPr/>
          <p:nvPr/>
        </p:nvSpPr>
        <p:spPr>
          <a:xfrm>
            <a:off x="5715000" y="2563920"/>
            <a:ext cx="1521000" cy="838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Life Experience</a:t>
            </a:r>
            <a:endParaRPr b="0" lang="en-US" sz="2000" spc="-1" strike="noStrike">
              <a:solidFill>
                <a:srgbClr val="000000"/>
              </a:solidFill>
              <a:latin typeface="Calibri"/>
            </a:endParaRPr>
          </a:p>
        </p:txBody>
      </p:sp>
      <p:sp>
        <p:nvSpPr>
          <p:cNvPr id="728" name="Text Box 14"/>
          <p:cNvSpPr/>
          <p:nvPr/>
        </p:nvSpPr>
        <p:spPr>
          <a:xfrm>
            <a:off x="5499000" y="3645000"/>
            <a:ext cx="1295640" cy="60948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bbies/ Interests</a:t>
            </a:r>
            <a:endParaRPr b="0" lang="en-US" sz="2000" spc="-1" strike="noStrike">
              <a:solidFill>
                <a:srgbClr val="000000"/>
              </a:solidFill>
              <a:latin typeface="Calibri"/>
            </a:endParaRPr>
          </a:p>
        </p:txBody>
      </p:sp>
      <p:sp>
        <p:nvSpPr>
          <p:cNvPr id="729" name="Rectangle 16"/>
          <p:cNvSpPr/>
          <p:nvPr/>
        </p:nvSpPr>
        <p:spPr>
          <a:xfrm>
            <a:off x="4346640" y="4309920"/>
            <a:ext cx="1520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ographic Location</a:t>
            </a:r>
            <a:endParaRPr b="0" lang="en-US" sz="2000" spc="-1" strike="noStrike">
              <a:solidFill>
                <a:srgbClr val="000000"/>
              </a:solidFill>
              <a:latin typeface="Calibri"/>
            </a:endParaRPr>
          </a:p>
        </p:txBody>
      </p:sp>
      <p:sp>
        <p:nvSpPr>
          <p:cNvPr id="730" name="Text Box 17"/>
          <p:cNvSpPr/>
          <p:nvPr/>
        </p:nvSpPr>
        <p:spPr>
          <a:xfrm>
            <a:off x="2124000" y="3716280"/>
            <a:ext cx="1832040" cy="3808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riends/Peers</a:t>
            </a:r>
            <a:endParaRPr b="0" lang="en-US" sz="2000" spc="-1" strike="noStrike">
              <a:solidFill>
                <a:srgbClr val="000000"/>
              </a:solidFill>
              <a:latin typeface="Calibri"/>
            </a:endParaRPr>
          </a:p>
        </p:txBody>
      </p:sp>
      <p:sp>
        <p:nvSpPr>
          <p:cNvPr id="731" name="Rectangle 18"/>
          <p:cNvSpPr/>
          <p:nvPr/>
        </p:nvSpPr>
        <p:spPr>
          <a:xfrm>
            <a:off x="2916360" y="450864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igion</a:t>
            </a:r>
            <a:endParaRPr b="0" lang="en-US" sz="2000" spc="-1" strike="noStrike">
              <a:solidFill>
                <a:srgbClr val="000000"/>
              </a:solidFill>
              <a:latin typeface="Calibri"/>
            </a:endParaRPr>
          </a:p>
        </p:txBody>
      </p:sp>
      <p:sp>
        <p:nvSpPr>
          <p:cNvPr id="732" name="Rectangle 19"/>
          <p:cNvSpPr/>
          <p:nvPr/>
        </p:nvSpPr>
        <p:spPr>
          <a:xfrm>
            <a:off x="1909800" y="2913120"/>
            <a:ext cx="114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ome</a:t>
            </a:r>
            <a:endParaRPr b="0" lang="en-US" sz="2000" spc="-1" strike="noStrike">
              <a:solidFill>
                <a:srgbClr val="000000"/>
              </a:solidFill>
              <a:latin typeface="Calibri"/>
            </a:endParaRPr>
          </a:p>
        </p:txBody>
      </p:sp>
      <p:sp>
        <p:nvSpPr>
          <p:cNvPr id="733" name="Text Box 20"/>
          <p:cNvSpPr/>
          <p:nvPr/>
        </p:nvSpPr>
        <p:spPr>
          <a:xfrm>
            <a:off x="2214720" y="1998720"/>
            <a:ext cx="990360" cy="6094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mily Status</a:t>
            </a:r>
            <a:endParaRPr b="0" lang="en-US" sz="2000" spc="-1" strike="noStrike">
              <a:solidFill>
                <a:srgbClr val="000000"/>
              </a:solidFill>
              <a:latin typeface="Calibri"/>
            </a:endParaRPr>
          </a:p>
        </p:txBody>
      </p:sp>
      <p:sp>
        <p:nvSpPr>
          <p:cNvPr id="734" name="Text Box 21"/>
          <p:cNvSpPr/>
          <p:nvPr/>
        </p:nvSpPr>
        <p:spPr>
          <a:xfrm>
            <a:off x="2595600" y="1465200"/>
            <a:ext cx="1471680" cy="38124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ducation</a:t>
            </a:r>
            <a:endParaRPr b="0" lang="en-US" sz="2000" spc="-1" strike="noStrike">
              <a:solidFill>
                <a:srgbClr val="000000"/>
              </a:solidFill>
              <a:latin typeface="Calibri"/>
            </a:endParaRPr>
          </a:p>
        </p:txBody>
      </p:sp>
      <p:sp>
        <p:nvSpPr>
          <p:cNvPr id="735" name="Title 3"/>
          <p:cNvSpPr/>
          <p:nvPr/>
        </p:nvSpPr>
        <p:spPr>
          <a:xfrm>
            <a:off x="0" y="-27000"/>
            <a:ext cx="91440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Light"/>
                <a:ea typeface="Arial"/>
              </a:rPr>
              <a:t>Layers of Diversity</a:t>
            </a:r>
            <a:endParaRPr b="0" lang="en-US" sz="3200" spc="-1" strike="noStrike">
              <a:solidFill>
                <a:srgbClr val="000000"/>
              </a:solidFill>
              <a:latin typeface="Calibri"/>
            </a:endParaRPr>
          </a:p>
        </p:txBody>
      </p:sp>
      <p:sp>
        <p:nvSpPr>
          <p:cNvPr id="736" name="Oval 7"/>
          <p:cNvSpPr/>
          <p:nvPr/>
        </p:nvSpPr>
        <p:spPr>
          <a:xfrm>
            <a:off x="3416400" y="2058840"/>
            <a:ext cx="2019240" cy="1908360"/>
          </a:xfrm>
          <a:prstGeom prst="ellipse">
            <a:avLst/>
          </a:prstGeom>
          <a:solidFill>
            <a:srgbClr val="ffff99"/>
          </a:solidFill>
          <a:ln w="15840">
            <a:solidFill>
              <a:srgbClr val="44546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Oval 5"/>
          <p:cNvSpPr/>
          <p:nvPr/>
        </p:nvSpPr>
        <p:spPr>
          <a:xfrm>
            <a:off x="3697200" y="2487600"/>
            <a:ext cx="1524240" cy="1066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Text Box 6"/>
          <p:cNvSpPr/>
          <p:nvPr/>
        </p:nvSpPr>
        <p:spPr>
          <a:xfrm>
            <a:off x="3722760" y="2792520"/>
            <a:ext cx="1638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ersonality</a:t>
            </a: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7:46:56Z</dcterms:created>
  <dc:creator>DMTC Cottenoir</dc:creator>
  <dc:description/>
  <dc:language>en-US</dc:language>
  <cp:lastModifiedBy>Ashurst Pte T@PWOR@Defence365</cp:lastModifiedBy>
  <dcterms:modified xsi:type="dcterms:W3CDTF">2022-11-17T19:37:40Z</dcterms:modified>
  <cp:revision>134</cp:revision>
  <dc:subject/>
  <dc:title>UNSOC - 401.04.05 - Diversity in UN PSO - 1410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OC Activity">
    <vt:lpwstr/>
  </property>
  <property fmtid="{D5CDD505-2E9C-101B-9397-08002B2CF9AE}" pid="3" name="Additional Change OPI(s) Required Name">
    <vt:lpwstr/>
  </property>
  <property fmtid="{D5CDD505-2E9C-101B-9397-08002B2CF9AE}" pid="4" name="ArmyDocOriginator">
    <vt:lpwstr>92;#Regular Force Education ＆ Training|2a23cfe6-daff-4d64-8906-5e7b90bbea92</vt:lpwstr>
  </property>
  <property fmtid="{D5CDD505-2E9C-101B-9397-08002B2CF9AE}" pid="5" name="Business Record Approvals">
    <vt:lpwstr/>
  </property>
  <property fmtid="{D5CDD505-2E9C-101B-9397-08002B2CF9AE}" pid="6" name="CACSC Courses">
    <vt:lpwstr>;#UNSOC;#</vt:lpwstr>
  </property>
  <property fmtid="{D5CDD505-2E9C-101B-9397-08002B2CF9AE}" pid="7" name="CDMG Lead Section">
    <vt:lpwstr/>
  </property>
  <property fmtid="{D5CDD505-2E9C-101B-9397-08002B2CF9AE}" pid="8" name="Change Required - Priority">
    <vt:lpwstr/>
  </property>
  <property fmtid="{D5CDD505-2E9C-101B-9397-08002B2CF9AE}" pid="9" name="Change Required - Type">
    <vt:lpwstr/>
  </property>
  <property fmtid="{D5CDD505-2E9C-101B-9397-08002B2CF9AE}" pid="10" name="College Translation Priority">
    <vt:lpwstr>None</vt:lpwstr>
  </property>
  <property fmtid="{D5CDD505-2E9C-101B-9397-08002B2CF9AE}" pid="11" name="Content Comments">
    <vt:lpwstr/>
  </property>
  <property fmtid="{D5CDD505-2E9C-101B-9397-08002B2CF9AE}" pid="12" name="Curriculum Category">
    <vt:lpwstr>Briefings and Presentations</vt:lpwstr>
  </property>
  <property fmtid="{D5CDD505-2E9C-101B-9397-08002B2CF9AE}" pid="13" name="Curriculum EO">
    <vt:lpwstr>UNSOC EO 401.04 - Student Activities</vt:lpwstr>
  </property>
  <property fmtid="{D5CDD505-2E9C-101B-9397-08002B2CF9AE}" pid="14" name="Curriculum Subject">
    <vt:lpwstr>UNSOC PO 401 - Apply Communication and Briefing  Techniques</vt:lpwstr>
  </property>
  <property fmtid="{D5CDD505-2E9C-101B-9397-08002B2CF9AE}" pid="15" name="Curriculum Type">
    <vt:lpwstr>Enabling Objectives</vt:lpwstr>
  </property>
  <property fmtid="{D5CDD505-2E9C-101B-9397-08002B2CF9AE}" pid="16" name="Curriculum Use">
    <vt:lpwstr/>
  </property>
  <property fmtid="{D5CDD505-2E9C-101B-9397-08002B2CF9AE}" pid="17" name="Date Issued">
    <vt:lpwstr>2017-10-06T00:00:00Z</vt:lpwstr>
  </property>
  <property fmtid="{D5CDD505-2E9C-101B-9397-08002B2CF9AE}" pid="18" name="Designation">
    <vt:lpwstr>UU</vt:lpwstr>
  </property>
  <property fmtid="{D5CDD505-2E9C-101B-9397-08002B2CF9AE}" pid="19" name="Distribution Org">
    <vt:lpwstr>Comd &amp; Staff Sch (Reg)</vt:lpwstr>
  </property>
  <property fmtid="{D5CDD505-2E9C-101B-9397-08002B2CF9AE}" pid="20" name="Distribution Sub-org">
    <vt:lpwstr>DS (DL)</vt:lpwstr>
  </property>
  <property fmtid="{D5CDD505-2E9C-101B-9397-08002B2CF9AE}" pid="21" name="Document Author">
    <vt:lpwstr>10466</vt:lpwstr>
  </property>
  <property fmtid="{D5CDD505-2E9C-101B-9397-08002B2CF9AE}" pid="22" name="Document Category">
    <vt:lpwstr>Briefings and Presentations</vt:lpwstr>
  </property>
  <property fmtid="{D5CDD505-2E9C-101B-9397-08002B2CF9AE}" pid="23" name="Document Function">
    <vt:lpwstr>07 - Training</vt:lpwstr>
  </property>
  <property fmtid="{D5CDD505-2E9C-101B-9397-08002B2CF9AE}" pid="24" name="Document Subject">
    <vt:lpwstr>UNSOC</vt:lpwstr>
  </property>
  <property fmtid="{D5CDD505-2E9C-101B-9397-08002B2CF9AE}" pid="25" name="DocumentSetDescription">
    <vt:lpwstr/>
  </property>
  <property fmtid="{D5CDD505-2E9C-101B-9397-08002B2CF9AE}" pid="26" name="File Number">
    <vt:lpwstr>04800-1</vt:lpwstr>
  </property>
  <property fmtid="{D5CDD505-2E9C-101B-9397-08002B2CF9AE}" pid="27" name="Fiscal Year">
    <vt:lpwstr>FY 17/18</vt:lpwstr>
  </property>
  <property fmtid="{D5CDD505-2E9C-101B-9397-08002B2CF9AE}" pid="28" name="IconOverlay">
    <vt:lpwstr/>
  </property>
  <property fmtid="{D5CDD505-2E9C-101B-9397-08002B2CF9AE}" pid="29" name="IssueStatus">
    <vt:lpwstr>Active</vt:lpwstr>
  </property>
  <property fmtid="{D5CDD505-2E9C-101B-9397-08002B2CF9AE}" pid="30" name="Language">
    <vt:lpwstr>English</vt:lpwstr>
  </property>
  <property fmtid="{D5CDD505-2E9C-101B-9397-08002B2CF9AE}" pid="31" name="ManagedClassification">
    <vt:lpwstr>96;#U|104c4e1b-74ae-48bc-94d6-9ccaf4801c33</vt:lpwstr>
  </property>
  <property fmtid="{D5CDD505-2E9C-101B-9397-08002B2CF9AE}" pid="32" name="ManagedFileCode">
    <vt:lpwstr>64;#4668-1 Training - Foreign Military Training - General|151dd3bc-84df-4111-ab20-0ed14880438d</vt:lpwstr>
  </property>
  <property fmtid="{D5CDD505-2E9C-101B-9397-08002B2CF9AE}" pid="33" name="Op Names">
    <vt:lpwstr/>
  </property>
  <property fmtid="{D5CDD505-2E9C-101B-9397-08002B2CF9AE}" pid="34" name="Organization 1">
    <vt:lpwstr>CACSC</vt:lpwstr>
  </property>
  <property fmtid="{D5CDD505-2E9C-101B-9397-08002B2CF9AE}" pid="35" name="QS &amp; TP Change Required">
    <vt:lpwstr>No</vt:lpwstr>
  </property>
  <property fmtid="{D5CDD505-2E9C-101B-9397-08002B2CF9AE}" pid="36" name="Related Documents Requiring Change">
    <vt:lpwstr/>
  </property>
  <property fmtid="{D5CDD505-2E9C-101B-9397-08002B2CF9AE}" pid="37" name="SME Reviews Complete">
    <vt:lpwstr/>
  </property>
  <property fmtid="{D5CDD505-2E9C-101B-9397-08002B2CF9AE}" pid="38" name="SME Reviews Required">
    <vt:lpwstr/>
  </property>
  <property fmtid="{D5CDD505-2E9C-101B-9397-08002B2CF9AE}" pid="39" name="Section Translation Priority">
    <vt:lpwstr>None</vt:lpwstr>
  </property>
  <property fmtid="{D5CDD505-2E9C-101B-9397-08002B2CF9AE}" pid="40" name="Status of Required Change">
    <vt:lpwstr/>
  </property>
  <property fmtid="{D5CDD505-2E9C-101B-9397-08002B2CF9AE}" pid="41" name="TaxCatchAll">
    <vt:lpwstr>64;#4668-1 Training - Foreign Military Training - General|151dd3bc-84df-4111-ab20-0ed14880438d;#96;#U|104c4e1b-74ae-48bc-94d6-9ccaf4801c33;#92;#Regular Force Education ＆ Training|2a23cfe6-daff-4d64-8906-5e7b90bbea92</vt:lpwstr>
  </property>
  <property fmtid="{D5CDD505-2E9C-101B-9397-08002B2CF9AE}" pid="42" name="Translation Deadline Feasibility">
    <vt:lpwstr>N/A</vt:lpwstr>
  </property>
  <property fmtid="{D5CDD505-2E9C-101B-9397-08002B2CF9AE}" pid="43" name="Translation Request">
    <vt:lpwstr>0</vt:lpwstr>
  </property>
  <property fmtid="{D5CDD505-2E9C-101B-9397-08002B2CF9AE}" pid="44" name="URL">
    <vt:lpwstr/>
  </property>
  <property fmtid="{D5CDD505-2E9C-101B-9397-08002B2CF9AE}" pid="45" name="_dlc_DocId">
    <vt:lpwstr>CACSC-3-10334</vt:lpwstr>
  </property>
  <property fmtid="{D5CDD505-2E9C-101B-9397-08002B2CF9AE}" pid="46" name="_dlc_DocIdItemGuid">
    <vt:lpwstr>3293b9d5-cb3a-4996-9597-535232b41bff</vt:lpwstr>
  </property>
  <property fmtid="{D5CDD505-2E9C-101B-9397-08002B2CF9AE}" pid="47" name="_dlc_DocIdUrl">
    <vt:lpwstr>https://acims.mil.ca/trg/CACSC/Courses/Courses/_layouts/DocIdRedir.aspx?ID=CACSC-3-10334, CACSC-3-10334</vt:lpwstr>
  </property>
  <property fmtid="{D5CDD505-2E9C-101B-9397-08002B2CF9AE}" pid="48" name="display_urn:schemas-microsoft-com:office:office#Author">
    <vt:lpwstr>Behiels Maj JEP@CADTC HQ@Kingston</vt:lpwstr>
  </property>
  <property fmtid="{D5CDD505-2E9C-101B-9397-08002B2CF9AE}" pid="49" name="display_urn:schemas-microsoft-com:office:office#Document_x0020_Author">
    <vt:lpwstr>Elkorazati Maj IM@CACSC@Kingston</vt:lpwstr>
  </property>
  <property fmtid="{D5CDD505-2E9C-101B-9397-08002B2CF9AE}" pid="50" name="display_urn:schemas-microsoft-com:office:office#Editor">
    <vt:lpwstr>Delisle Capt JGR@CASC-CSAC@Kingston</vt:lpwstr>
  </property>
  <property fmtid="{D5CDD505-2E9C-101B-9397-08002B2CF9AE}" pid="51" name="f7b0ffbde8de403f913dcdb96f179c3b">
    <vt:lpwstr>Regular Force Education ＆ Training|2a23cfe6-daff-4d64-8906-5e7b90bbea92</vt:lpwstr>
  </property>
  <property fmtid="{D5CDD505-2E9C-101B-9397-08002B2CF9AE}" pid="52" name="if09d873025b4c87a553fa6a113b1297">
    <vt:lpwstr>U|104c4e1b-74ae-48bc-94d6-9ccaf4801c33</vt:lpwstr>
  </property>
  <property fmtid="{D5CDD505-2E9C-101B-9397-08002B2CF9AE}" pid="53" name="m36ae25fd2ba42b48319740ba9f7a6ce">
    <vt:lpwstr>4668-1 Training - Foreign Military Training - General|151dd3bc-84df-4111-ab20-0ed14880438d</vt:lpwstr>
  </property>
</Properties>
</file>